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gif" ContentType="image/gif"/>
  <Override PartName="/ppt/media/image10.jpeg" ContentType="image/jpeg"/>
  <Override PartName="/ppt/media/image5.png" ContentType="image/png"/>
  <Override PartName="/ppt/media/image19.jpeg" ContentType="image/jpeg"/>
  <Override PartName="/ppt/media/image16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C0D-3D0D-461A-BA86-F99E699A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1D0-635B-4DD9-B68A-94FC8D2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4DB-89F5-406B-9B5D-CC45DD7C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911-A24D-4673-81F4-DC46D83E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60E4-50AE-4468-B8E8-30855695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D182-A432-4DE3-B956-EC19ADCC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A13-1630-447F-935B-F839D1F0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A7D0-CEEA-44E8-9086-3C995D87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8877-6EEA-4CC6-9B9E-C8918518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3EF1-38EB-41EE-A2E8-483B3816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E4C0-CAED-441A-BF91-EC1A287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6F4-1303-4865-B0F8-426E3335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5E2-BF7B-43FB-A5BD-B975DFCB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DCAB-61CE-45C5-8027-DCF5990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A43-7C8C-49F3-ACBB-03E62AF2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50B1-0CEE-410A-A96E-B06E7CCB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22A5-D90D-43D1-8BB6-871FE592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86B-38B6-49B0-9965-0813057A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2AC-C3F5-4791-8A89-21ECEC8D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F1E-2BC4-454E-9DF4-337B1CED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A96-B018-48E9-A966-358F6967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B51-BC1E-408A-8329-FEAD36FB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04D-9D4C-4264-96E2-8DC97766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C39-11D6-448C-B1D2-D9A9F2F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740B-2FA4-48BE-BF26-302337C5AAEA}" type="slidenum">
              <a: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6E82-E4C5-4E45-AD69-498E33FAA348}" type="slidenum">
              <a:rPr b="0" lang="zh-CN" sz="1400" spc="-1" strike="noStrike">
                <a:solidFill>
                  <a:srgbClr val="4c4c4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c4c4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c4c4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jpeg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jpeg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2.gif"/><Relationship Id="rId8" Type="http://schemas.openxmlformats.org/officeDocument/2006/relationships/image" Target="../media/image6.png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hyperlink" Target="http://www.alittlegratitude.com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7.jpeg"/><Relationship Id="rId8" Type="http://schemas.openxmlformats.org/officeDocument/2006/relationships/image" Target="../media/image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24080" y="4428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80"/>
                </a:solidFill>
                <a:latin typeface="Arial"/>
                <a:ea typeface="宋体"/>
              </a:rPr>
              <a:t>WINTER</a:t>
            </a:r>
            <a:endParaRPr b="0" lang="en-US" sz="9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16779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  <a:ea typeface="宋体"/>
              </a:rPr>
              <a:t>Template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2516040"/>
            <a:ext cx="75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80"/>
                </a:solidFill>
                <a:latin typeface="Arial"/>
                <a:ea typeface="宋体"/>
              </a:rPr>
              <a:t>Unit 5</a:t>
            </a:r>
            <a:r>
              <a:rPr b="0" lang="en-US" sz="6000" spc="-1" strike="noStrike">
                <a:solidFill>
                  <a:srgbClr val="f2fdf7"/>
                </a:solidFill>
                <a:latin typeface="Arial"/>
                <a:ea typeface="宋体"/>
              </a:rPr>
              <a:t> </a:t>
            </a:r>
            <a:r>
              <a:rPr b="0" lang="en-US" sz="6000" spc="-1" strike="noStrike">
                <a:solidFill>
                  <a:srgbClr val="4c4c4c"/>
                </a:solidFill>
                <a:latin typeface="Arial"/>
                <a:ea typeface="宋体"/>
              </a:rPr>
              <a:t>Writing Three Thank-you Letters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16668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692000" y="479736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  <a:ea typeface="宋体"/>
              </a:rPr>
              <a:t>By Alex Haley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 rot="21184800">
            <a:off x="636120" y="564840"/>
            <a:ext cx="2306880" cy="1608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-1440" y="-27000"/>
            <a:ext cx="9181800" cy="688644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-1440" y="-27000"/>
            <a:ext cx="9181800" cy="6886440"/>
            <a:chOff x="-1440" y="-27000"/>
            <a:chExt cx="9181800" cy="6886440"/>
          </a:xfrm>
        </p:grpSpPr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-1440" y="-27000"/>
              <a:ext cx="9181800" cy="68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2266560" y="506520"/>
              <a:ext cx="611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c4c4c"/>
                  </a:solidFill>
                  <a:latin typeface="Arial Black"/>
                  <a:ea typeface="宋体"/>
                </a:rPr>
                <a:t>Writing: a gratitude letter</a:t>
              </a:r>
              <a:endParaRPr b="0" lang="en-US" sz="2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30200" y="355680"/>
              <a:ext cx="791640" cy="792000"/>
            </a:xfrm>
            <a:prstGeom prst="ellipse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3c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4c4c4c"/>
                  </a:solidFill>
                  <a:latin typeface="Arial"/>
                  <a:ea typeface="宋体"/>
                </a:rPr>
                <a:t>3</a:t>
              </a:r>
              <a:endParaRPr b="0" lang="en-US" sz="44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5"/>
          <a:srcRect l="79670" t="0" r="0" b="0"/>
          <a:stretch/>
        </p:blipFill>
        <p:spPr>
          <a:xfrm>
            <a:off x="41400" y="0"/>
            <a:ext cx="1866600" cy="6886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rcRect l="80500" t="0" r="0" b="0"/>
          <a:stretch/>
        </p:blipFill>
        <p:spPr>
          <a:xfrm>
            <a:off x="-9828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5160" y="1450800"/>
            <a:ext cx="4790880" cy="4138920"/>
          </a:xfrm>
          <a:prstGeom prst="rect">
            <a:avLst/>
          </a:prstGeom>
          <a:solidFill>
            <a:srgbClr val="333333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7"/>
          <a:stretch/>
        </p:blipFill>
        <p:spPr>
          <a:xfrm>
            <a:off x="246240" y="2100240"/>
            <a:ext cx="4458960" cy="3344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925880" y="1319040"/>
            <a:ext cx="4038840" cy="55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c4c4c"/>
                </a:solidFill>
                <a:latin typeface="Arial"/>
                <a:ea typeface="宋体"/>
              </a:rPr>
              <a:t>…</a:t>
            </a:r>
            <a:r>
              <a:rPr b="1" lang="en-US" sz="2100" spc="-1" strike="noStrike">
                <a:solidFill>
                  <a:srgbClr val="4c4c4c"/>
                </a:solidFill>
                <a:latin typeface="Arial"/>
                <a:ea typeface="宋体"/>
              </a:rPr>
              <a:t>..</a:t>
            </a:r>
            <a:endParaRPr b="0" lang="en-US" sz="21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ff"/>
                </a:solidFill>
                <a:latin typeface="Arial"/>
                <a:ea typeface="宋体"/>
              </a:rPr>
              <a:t>Ouch! I cut my finger; So grateful for the pain…</a:t>
            </a:r>
            <a:endParaRPr b="0" lang="en-US" sz="21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99"/>
                </a:solidFill>
                <a:latin typeface="Arial"/>
                <a:ea typeface="宋体"/>
              </a:rPr>
              <a:t>I’m full; I have finished eating; So grateful for that taste…</a:t>
            </a:r>
            <a:endParaRPr b="0" lang="en-US" sz="21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宋体"/>
              </a:rPr>
              <a:t>It is true my heart was broken; So grateful to love again…</a:t>
            </a:r>
            <a:endParaRPr b="0" lang="en-US" sz="21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91919"/>
                </a:solidFill>
                <a:latin typeface="Arial"/>
                <a:ea typeface="宋体"/>
              </a:rPr>
              <a:t>Outside a storm is blowing; So grateful for the rain…</a:t>
            </a:r>
            <a:endParaRPr b="0" lang="en-US" sz="21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99"/>
                </a:solidFill>
                <a:latin typeface="Arial"/>
                <a:ea typeface="宋体"/>
              </a:rPr>
              <a:t>I know I sometimes do forget; So grateful you care…</a:t>
            </a:r>
            <a:endParaRPr b="0" lang="en-US" sz="21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15573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  <a:ea typeface="宋体"/>
              </a:rPr>
              <a:t>A Little Gratitude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0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214200" y="-28440"/>
            <a:ext cx="9182160" cy="6886440"/>
            <a:chOff x="214200" y="-28440"/>
            <a:chExt cx="9182160" cy="688644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214200" y="-28440"/>
              <a:ext cx="9182160" cy="688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 rot="21396600">
              <a:off x="2004840" y="764640"/>
              <a:ext cx="5113440" cy="383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93920" y="4869000"/>
              <a:ext cx="61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My gratitude goes to all of you.</a:t>
              </a:r>
              <a:endParaRPr b="0" lang="en-US" sz="32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-7238880" y="-6580080"/>
            <a:ext cx="18363960" cy="18592560"/>
          </a:xfrm>
          <a:prstGeom prst="ellipse">
            <a:avLst/>
          </a:prstGeom>
          <a:noFill/>
          <a:ln w="20116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autoRev="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0 L 0.56667 0 E">
                                      <p:cBhvr>
                                        <p:cTn id="381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0 L 0.28333 0 E">
                                      <p:cBhvr>
                                        <p:cTn id="384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500" fill="hold"/>
                                        <p:tgtEl>
                                          <p:spTgt spid="341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90" dur="500" fill="hold"/>
                                        <p:tgtEl>
                                          <p:spTgt spid="341"/>
                                        </p:tgtEl>
                                      </p:cBhvr>
                                      <p:to x="1050000" y="10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rcRect l="78840" t="0" r="0" b="0"/>
          <a:stretch/>
        </p:blipFill>
        <p:spPr>
          <a:xfrm>
            <a:off x="0" y="0"/>
            <a:ext cx="1943280" cy="6886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19044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c4c4c"/>
                </a:solidFill>
                <a:latin typeface="Arial"/>
                <a:ea typeface="宋体"/>
              </a:rPr>
              <a:t>Contents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3080" y="170028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Arial"/>
                <a:ea typeface="宋体"/>
              </a:rPr>
              <a:t>Write a gratitude card to your father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3141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Arial"/>
                <a:ea typeface="宋体"/>
              </a:rPr>
              <a:t>Appreciate “the letter to my father”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771560"/>
            <a:ext cx="720720" cy="720720"/>
          </a:xfrm>
          <a:prstGeom prst="ellipse">
            <a:avLst/>
          </a:prstGeom>
          <a:solidFill>
            <a:srgbClr val="66cc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3213000"/>
            <a:ext cx="720720" cy="720720"/>
          </a:xfrm>
          <a:prstGeom prst="ellipse">
            <a:avLst/>
          </a:prstGeom>
          <a:solidFill>
            <a:srgbClr val="66cc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4653000"/>
            <a:ext cx="720720" cy="720720"/>
          </a:xfrm>
          <a:prstGeom prst="ellipse">
            <a:avLst/>
          </a:prstGeom>
          <a:solidFill>
            <a:srgbClr val="66cc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7102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Arial"/>
                <a:ea typeface="宋体"/>
              </a:rPr>
              <a:t>Post your gratitude letter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2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5335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 Black"/>
                <a:ea typeface="宋体"/>
              </a:rPr>
              <a:t>My Gratitude Card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382680"/>
            <a:ext cx="792000" cy="79200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3c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4c4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116000" y="1246320"/>
            <a:ext cx="7272360" cy="4991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35280" y="4292640"/>
            <a:ext cx="576360" cy="433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 rot="20357400">
            <a:off x="3073320" y="4147920"/>
            <a:ext cx="528840" cy="649080"/>
          </a:xfrm>
          <a:prstGeom prst="rect">
            <a:avLst/>
          </a:prstGeom>
          <a:ln w="0">
            <a:noFill/>
          </a:ln>
        </p:spPr>
      </p:pic>
    </p:spTree>
  </p:cSld>
  <p:transition advTm="73000"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68360" y="5335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 Black"/>
                <a:ea typeface="宋体"/>
              </a:rPr>
              <a:t>My Gratitude Card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382680"/>
            <a:ext cx="792000" cy="79200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3c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4c4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13413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Comic Sans MS"/>
                <a:ea typeface="宋体"/>
              </a:rPr>
              <a:t>To express gratitude to my dad, I will: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2205000"/>
            <a:ext cx="4896000" cy="647640"/>
          </a:xfrm>
          <a:prstGeom prst="flowChartAlternateProcess">
            <a:avLst/>
          </a:prstGeom>
          <a:solidFill>
            <a:srgbClr val="66ff33"/>
          </a:solidFill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6666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A) Send him a bunch of flowers.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3068640"/>
            <a:ext cx="4896000" cy="720720"/>
          </a:xfrm>
          <a:prstGeom prst="flowChartAlternateProcess">
            <a:avLst/>
          </a:prstGeom>
          <a:solidFill>
            <a:srgbClr val="ccff66"/>
          </a:solidFill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6666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B) Give him a call / text him.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4005360"/>
            <a:ext cx="4896000" cy="647640"/>
          </a:xfrm>
          <a:prstGeom prst="flowChartAlternateProcess">
            <a:avLst/>
          </a:prstGeom>
          <a:solidFill>
            <a:srgbClr val="66ff33"/>
          </a:solidFill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6666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C) Give him a hug.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4869000"/>
            <a:ext cx="4896000" cy="647640"/>
          </a:xfrm>
          <a:prstGeom prst="flowChartAlternateProcess">
            <a:avLst/>
          </a:prstGeom>
          <a:solidFill>
            <a:srgbClr val="ccff66"/>
          </a:solidFill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6666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D) Kiss him.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335640" y="3068640"/>
            <a:ext cx="2052720" cy="30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68360" y="5335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 Black"/>
                <a:ea typeface="宋体"/>
              </a:rPr>
              <a:t>My Gratitude Card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82680"/>
            <a:ext cx="792000" cy="79200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3c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4c4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352520" y="1557360"/>
            <a:ext cx="6438960" cy="4562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7" name=""/>
          <p:cNvSpPr/>
          <p:nvPr/>
        </p:nvSpPr>
        <p:spPr>
          <a:xfrm>
            <a:off x="2411280" y="321300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Comic Sans MS"/>
                <a:ea typeface="宋体"/>
              </a:rPr>
              <a:t>Dad, you're someone to look up to no matter how tall I've grown.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845400" y="4508640"/>
            <a:ext cx="733320" cy="12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68360" y="5335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 Black"/>
                <a:ea typeface="宋体"/>
              </a:rPr>
              <a:t>My Gratitude Card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382680"/>
            <a:ext cx="792000" cy="79200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3c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4c4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1352520" y="1557360"/>
            <a:ext cx="6438960" cy="4562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7" name=""/>
          <p:cNvSpPr/>
          <p:nvPr/>
        </p:nvSpPr>
        <p:spPr>
          <a:xfrm>
            <a:off x="1547640" y="2646360"/>
            <a:ext cx="61722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4c4c4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Comic Sans MS"/>
                <a:ea typeface="宋体"/>
              </a:rPr>
              <a:t>Dad, I am grateful for you...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4c4c4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Comic Sans MS"/>
                <a:ea typeface="宋体"/>
              </a:rPr>
              <a:t>Dad, I love you so much because…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4c4c4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Comic Sans MS"/>
                <a:ea typeface="宋体"/>
              </a:rPr>
              <a:t>Dad, I would like to thank you for……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4c4c4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Comic Sans MS"/>
                <a:ea typeface="宋体"/>
              </a:rPr>
              <a:t>Dad, I appreciate that…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6845400" y="4508640"/>
            <a:ext cx="733320" cy="12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rcRect l="82161" t="0" r="8714" b="0"/>
          <a:stretch/>
        </p:blipFill>
        <p:spPr>
          <a:xfrm>
            <a:off x="0" y="0"/>
            <a:ext cx="838080" cy="6886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24000" y="3826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 Black"/>
                <a:ea typeface="宋体"/>
              </a:rPr>
              <a:t>Appreciate “the letter to my father”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4000" y="1341360"/>
            <a:ext cx="8819640" cy="5413320"/>
            <a:chOff x="324000" y="1341360"/>
            <a:chExt cx="8819640" cy="5413320"/>
          </a:xfrm>
        </p:grpSpPr>
        <p:sp>
          <p:nvSpPr>
            <p:cNvPr id="156" name=""/>
            <p:cNvSpPr/>
            <p:nvPr/>
          </p:nvSpPr>
          <p:spPr>
            <a:xfrm>
              <a:off x="324000" y="1341360"/>
              <a:ext cx="8526240" cy="5170320"/>
            </a:xfrm>
            <a:prstGeom prst="foldedCorner">
              <a:avLst>
                <a:gd name="adj" fmla="val 10814"/>
              </a:avLst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50240" y="1341360"/>
              <a:ext cx="293400" cy="4695840"/>
            </a:xfrm>
            <a:prstGeom prst="rect">
              <a:avLst/>
            </a:prstGeom>
            <a:gradFill rotWithShape="0">
              <a:gsLst>
                <a:gs pos="0">
                  <a:srgbClr val="eaeaea">
                    <a:alpha val="33333"/>
                  </a:srgbClr>
                </a:gs>
                <a:gs pos="100000">
                  <a:srgbClr val="dddddd">
                    <a:alpha val="87058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117000">
              <a:off x="8424720" y="5732640"/>
              <a:ext cx="239040" cy="1148040"/>
            </a:xfrm>
            <a:prstGeom prst="rect">
              <a:avLst/>
            </a:prstGeom>
            <a:gradFill rotWithShape="0">
              <a:gsLst>
                <a:gs pos="0">
                  <a:srgbClr val="eaeaea">
                    <a:alpha val="33333"/>
                  </a:srgbClr>
                </a:gs>
                <a:gs pos="100000">
                  <a:srgbClr val="dddddd">
                    <a:alpha val="87058"/>
                  </a:srgbClr>
                </a:gs>
              </a:gsLst>
              <a:lin ang="76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2920" y="2133720"/>
            <a:ext cx="401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Comic Sans MS"/>
                <a:ea typeface="宋体"/>
              </a:rPr>
              <a:t>“</a:t>
            </a:r>
            <a:r>
              <a:rPr b="0" lang="en-US" sz="2400" spc="-1" strike="noStrike">
                <a:solidFill>
                  <a:srgbClr val="4c4c4c"/>
                </a:solidFill>
                <a:latin typeface="Comic Sans MS"/>
                <a:ea typeface="宋体"/>
              </a:rPr>
              <a:t>Here, this Thanksgiving at sea, I find my thoughts upon how much you have done for me, but I have never stopped and said to you how much I feel the need to thank you……” And briefly I recalled for each of them specific acts performed on my behalf. (12)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360" y="619200"/>
            <a:ext cx="1340280" cy="927720"/>
            <a:chOff x="-36360" y="619200"/>
            <a:chExt cx="1340280" cy="927720"/>
          </a:xfrm>
        </p:grpSpPr>
        <p:pic>
          <p:nvPicPr>
            <p:cNvPr id="161" name="" descr=""/>
            <p:cNvPicPr/>
            <p:nvPr/>
          </p:nvPicPr>
          <p:blipFill>
            <a:blip r:embed="rId6"/>
            <a:stretch/>
          </p:blipFill>
          <p:spPr>
            <a:xfrm rot="21184800">
              <a:off x="171000" y="722520"/>
              <a:ext cx="1090800" cy="76104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62" name="" descr=""/>
            <p:cNvPicPr/>
            <p:nvPr/>
          </p:nvPicPr>
          <p:blipFill>
            <a:blip r:embed="rId7"/>
            <a:stretch/>
          </p:blipFill>
          <p:spPr>
            <a:xfrm>
              <a:off x="-36360" y="619200"/>
              <a:ext cx="413280" cy="41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0" y="636480"/>
            <a:ext cx="1340280" cy="928080"/>
            <a:chOff x="0" y="636480"/>
            <a:chExt cx="1340280" cy="9280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 rot="21184800">
              <a:off x="207360" y="739800"/>
              <a:ext cx="1090800" cy="7614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65" name="" descr=""/>
            <p:cNvPicPr/>
            <p:nvPr/>
          </p:nvPicPr>
          <p:blipFill>
            <a:blip r:embed="rId9"/>
            <a:stretch/>
          </p:blipFill>
          <p:spPr>
            <a:xfrm>
              <a:off x="0" y="636480"/>
              <a:ext cx="41328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1332000" y="382680"/>
            <a:ext cx="792000" cy="79200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4c4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12720" y="2565360"/>
            <a:ext cx="3382560" cy="3600360"/>
            <a:chOff x="612720" y="2565360"/>
            <a:chExt cx="3382560" cy="3600360"/>
          </a:xfrm>
        </p:grpSpPr>
        <p:sp>
          <p:nvSpPr>
            <p:cNvPr id="168" name=""/>
            <p:cNvSpPr/>
            <p:nvPr/>
          </p:nvSpPr>
          <p:spPr>
            <a:xfrm>
              <a:off x="619560" y="329544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9560" y="365580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9560" y="401616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9560" y="437472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9560" y="473508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9560" y="509544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9560" y="545580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9560" y="581652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560" y="616572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2720" y="292536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9560" y="256536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859280" y="2565360"/>
            <a:ext cx="3382560" cy="3600360"/>
            <a:chOff x="4859280" y="2565360"/>
            <a:chExt cx="3382560" cy="3600360"/>
          </a:xfrm>
        </p:grpSpPr>
        <p:sp>
          <p:nvSpPr>
            <p:cNvPr id="180" name=""/>
            <p:cNvSpPr/>
            <p:nvPr/>
          </p:nvSpPr>
          <p:spPr>
            <a:xfrm>
              <a:off x="4866120" y="329544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6120" y="365580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66120" y="401616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6120" y="437472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66120" y="473508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66120" y="509544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66120" y="545580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66120" y="581652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66120" y="616572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59280" y="292536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66120" y="2565360"/>
              <a:ext cx="3375720" cy="0"/>
            </a:xfrm>
            <a:prstGeom prst="line">
              <a:avLst/>
            </a:prstGeom>
            <a:ln w="284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72000" y="2133720"/>
            <a:ext cx="43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Comic Sans MS"/>
                <a:ea typeface="宋体"/>
              </a:rPr>
              <a:t>For instance, something uppermost about my father was how he had impressed upon me from boyhood to love books and reading. In fact, this graduated into a family habit of after-dinner quizzes…My love of books never diminished and later led me toward writing books myself. (13)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5200" y="2492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  <a:ea typeface="宋体"/>
              </a:rPr>
              <a:t>I find my thoughts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2852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  <a:ea typeface="宋体"/>
              </a:rPr>
              <a:t>upon how much you have done for me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133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  <a:ea typeface="宋体"/>
              </a:rPr>
              <a:t>For instance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541512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宋体"/>
              </a:rPr>
              <a:t>led me toward writing books myself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0560" y="432432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宋体"/>
              </a:rPr>
              <a:t>family habit of after-dinner quizzes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1640" y="4383000"/>
            <a:ext cx="2771640" cy="631800"/>
          </a:xfrm>
          <a:prstGeom prst="flowChartAlternateProcess">
            <a:avLst/>
          </a:prstGeom>
          <a:solidFill>
            <a:srgbClr val="00ccff"/>
          </a:soli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Specific example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61476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宋体"/>
              </a:rPr>
              <a:t>love books and reading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02040" y="3573360"/>
            <a:ext cx="2811240" cy="631800"/>
          </a:xfrm>
          <a:prstGeom prst="flowChartAlternateProcess">
            <a:avLst/>
          </a:prstGeom>
          <a:solidFill>
            <a:srgbClr val="00ccff"/>
          </a:soli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General idea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07120" y="2565360"/>
            <a:ext cx="2144520" cy="825480"/>
          </a:xfrm>
          <a:prstGeom prst="rect">
            <a:avLst/>
          </a:prstGeom>
          <a:solidFill>
            <a:srgbClr val="f2fdf7"/>
          </a:solidFill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  <a:ea typeface="宋体"/>
              </a:rPr>
              <a:t>For example;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65760" y="2590920"/>
            <a:ext cx="3984480" cy="459720"/>
          </a:xfrm>
          <a:prstGeom prst="rect">
            <a:avLst/>
          </a:prstGeom>
          <a:solidFill>
            <a:srgbClr val="f2fdf7"/>
          </a:solidFill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Comic Sans MS"/>
                <a:ea typeface="宋体"/>
              </a:rPr>
              <a:t>A case in point is that…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86000">
    <p:cover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2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2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2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98844E-006 L -0.23628 -0.31884 E">
                                      <p:cBhvr>
                                        <p:cTn id="208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855 -0.43006 E">
                                      <p:cBhvr>
                                        <p:cTn id="212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rcRect l="82161" t="0" r="8714" b="0"/>
          <a:stretch/>
        </p:blipFill>
        <p:spPr>
          <a:xfrm>
            <a:off x="0" y="0"/>
            <a:ext cx="838080" cy="6886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32000" y="382680"/>
            <a:ext cx="792000" cy="79200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4c4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38268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 Black"/>
                <a:ea typeface="宋体"/>
              </a:rPr>
              <a:t>Appreciate  “the letter to my father”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35640" y="6958080"/>
            <a:ext cx="2546280" cy="7296120"/>
            <a:chOff x="6335640" y="6958080"/>
            <a:chExt cx="2546280" cy="7296120"/>
          </a:xfrm>
        </p:grpSpPr>
        <p:grpSp>
          <p:nvGrpSpPr>
            <p:cNvPr id="210" name=""/>
            <p:cNvGrpSpPr/>
            <p:nvPr/>
          </p:nvGrpSpPr>
          <p:grpSpPr>
            <a:xfrm>
              <a:off x="6335640" y="6958080"/>
              <a:ext cx="2546280" cy="2454480"/>
              <a:chOff x="6335640" y="6958080"/>
              <a:chExt cx="2546280" cy="2454480"/>
            </a:xfrm>
          </p:grpSpPr>
          <p:sp>
            <p:nvSpPr>
              <p:cNvPr id="211" name=""/>
              <p:cNvSpPr/>
              <p:nvPr/>
            </p:nvSpPr>
            <p:spPr>
              <a:xfrm>
                <a:off x="6335640" y="6958080"/>
                <a:ext cx="2546280" cy="2454480"/>
              </a:xfrm>
              <a:prstGeom prst="rect">
                <a:avLst/>
              </a:prstGeom>
              <a:solidFill>
                <a:srgbClr val="191919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pic>
            <p:nvPicPr>
              <p:cNvPr id="21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19480" y="7099560"/>
                <a:ext cx="1604880" cy="2144520"/>
              </a:xfrm>
              <a:prstGeom prst="rect">
                <a:avLst/>
              </a:prstGeom>
              <a:ln w="9360">
                <a:solidFill>
                  <a:srgbClr val="fff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213" name=""/>
              <p:cNvSpPr/>
              <p:nvPr/>
            </p:nvSpPr>
            <p:spPr>
              <a:xfrm>
                <a:off x="8608680" y="706140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610120" y="7439040"/>
                <a:ext cx="21744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610120" y="7844040"/>
                <a:ext cx="217440" cy="23796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611920" y="8221680"/>
                <a:ext cx="217080" cy="2383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610120" y="8629920"/>
                <a:ext cx="21744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611920" y="900756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43280" y="706140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45080" y="743904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45080" y="7844040"/>
                <a:ext cx="217080" cy="23796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46520" y="8221680"/>
                <a:ext cx="217080" cy="2383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45080" y="862992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46520" y="900756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335640" y="11800080"/>
              <a:ext cx="2546280" cy="2454120"/>
              <a:chOff x="6335640" y="11800080"/>
              <a:chExt cx="2546280" cy="2454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6335640" y="11800080"/>
                <a:ext cx="2546280" cy="2454120"/>
                <a:chOff x="6335640" y="11800080"/>
                <a:chExt cx="2546280" cy="2454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335640" y="11800080"/>
                  <a:ext cx="2546280" cy="2454120"/>
                </a:xfrm>
                <a:prstGeom prst="rect">
                  <a:avLst/>
                </a:prstGeom>
                <a:solidFill>
                  <a:srgbClr val="191919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608680" y="11903040"/>
                  <a:ext cx="21708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610120" y="12281040"/>
                  <a:ext cx="21744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610120" y="12685680"/>
                  <a:ext cx="217440" cy="2383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611920" y="13063680"/>
                  <a:ext cx="217080" cy="23796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610120" y="13471560"/>
                  <a:ext cx="21744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1920" y="13849200"/>
                  <a:ext cx="217080" cy="23688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443280" y="11903040"/>
                  <a:ext cx="21708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445080" y="12281040"/>
                  <a:ext cx="21708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445080" y="12685680"/>
                  <a:ext cx="217080" cy="2383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446520" y="13063680"/>
                  <a:ext cx="217080" cy="23796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445080" y="13471560"/>
                  <a:ext cx="21708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446520" y="13849200"/>
                  <a:ext cx="217080" cy="23688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19480" y="11903040"/>
                <a:ext cx="1604880" cy="2183040"/>
              </a:xfrm>
              <a:prstGeom prst="rect">
                <a:avLst/>
              </a:prstGeom>
              <a:ln w="9360">
                <a:solidFill>
                  <a:srgbClr val="fffddd"/>
                </a:solidFill>
                <a:miter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6335640" y="9409320"/>
              <a:ext cx="2546280" cy="2454120"/>
              <a:chOff x="6335640" y="9409320"/>
              <a:chExt cx="2546280" cy="245412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6335640" y="9409320"/>
                <a:ext cx="2546280" cy="2454120"/>
                <a:chOff x="6335640" y="9409320"/>
                <a:chExt cx="2546280" cy="24541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335640" y="9409320"/>
                  <a:ext cx="2546280" cy="2454120"/>
                </a:xfrm>
                <a:prstGeom prst="rect">
                  <a:avLst/>
                </a:prstGeom>
                <a:solidFill>
                  <a:srgbClr val="191919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608680" y="9512280"/>
                  <a:ext cx="21708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610120" y="9890280"/>
                  <a:ext cx="21744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610120" y="10294920"/>
                  <a:ext cx="217440" cy="2383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611920" y="10672920"/>
                  <a:ext cx="217080" cy="23796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610120" y="11080800"/>
                  <a:ext cx="21744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611920" y="11458440"/>
                  <a:ext cx="217080" cy="23688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443280" y="9512280"/>
                  <a:ext cx="21708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445080" y="9890280"/>
                  <a:ext cx="21708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445080" y="10294920"/>
                  <a:ext cx="217080" cy="2383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446520" y="10672920"/>
                  <a:ext cx="217080" cy="23796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445080" y="11080800"/>
                  <a:ext cx="217080" cy="23652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446520" y="11458440"/>
                  <a:ext cx="217080" cy="236880"/>
                </a:xfrm>
                <a:prstGeom prst="rect">
                  <a:avLst/>
                </a:prstGeom>
                <a:solidFill>
                  <a:srgbClr val="fffddd"/>
                </a:solidFill>
                <a:ln w="9360">
                  <a:solidFill>
                    <a:srgbClr val="fff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c4c4c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767640" y="9525240"/>
                <a:ext cx="1760400" cy="2170080"/>
              </a:xfrm>
              <a:prstGeom prst="rect">
                <a:avLst/>
              </a:prstGeom>
              <a:ln w="9360">
                <a:solidFill>
                  <a:srgbClr val="fffddd"/>
                </a:solidFill>
                <a:miter/>
              </a:ln>
            </p:spPr>
          </p:pic>
        </p:grpSp>
      </p:grpSp>
      <p:grpSp>
        <p:nvGrpSpPr>
          <p:cNvPr id="257" name=""/>
          <p:cNvGrpSpPr/>
          <p:nvPr/>
        </p:nvGrpSpPr>
        <p:grpSpPr>
          <a:xfrm>
            <a:off x="6335640" y="6475320"/>
            <a:ext cx="2546280" cy="7296120"/>
            <a:chOff x="6335640" y="6475320"/>
            <a:chExt cx="2546280" cy="7296120"/>
          </a:xfrm>
        </p:grpSpPr>
        <p:sp>
          <p:nvSpPr>
            <p:cNvPr id="258" name=""/>
            <p:cNvSpPr/>
            <p:nvPr/>
          </p:nvSpPr>
          <p:spPr>
            <a:xfrm>
              <a:off x="6335640" y="6475320"/>
              <a:ext cx="2546280" cy="2454480"/>
            </a:xfrm>
            <a:prstGeom prst="rect">
              <a:avLst/>
            </a:prstGeom>
            <a:solidFill>
              <a:srgbClr val="191919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09040" y="6578640"/>
              <a:ext cx="217440" cy="2365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10480" y="6956280"/>
              <a:ext cx="217440" cy="2365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10480" y="7361280"/>
              <a:ext cx="217440" cy="23796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12280" y="7738920"/>
              <a:ext cx="217440" cy="2383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10480" y="8147160"/>
              <a:ext cx="217440" cy="2365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12280" y="8524800"/>
              <a:ext cx="217440" cy="2365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43640" y="6578640"/>
              <a:ext cx="217440" cy="2365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45080" y="6956280"/>
              <a:ext cx="217800" cy="2365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45080" y="7361280"/>
              <a:ext cx="217800" cy="23796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46880" y="7738920"/>
              <a:ext cx="217440" cy="2383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5080" y="8147160"/>
              <a:ext cx="217800" cy="2365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46880" y="8524800"/>
              <a:ext cx="217440" cy="236520"/>
            </a:xfrm>
            <a:prstGeom prst="rect">
              <a:avLst/>
            </a:prstGeom>
            <a:solidFill>
              <a:srgbClr val="fffddd"/>
            </a:solidFill>
            <a:ln w="9360">
              <a:solidFill>
                <a:srgbClr val="fff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335640" y="11317320"/>
              <a:ext cx="2546280" cy="2454120"/>
              <a:chOff x="6335640" y="11317320"/>
              <a:chExt cx="2546280" cy="2454120"/>
            </a:xfrm>
          </p:grpSpPr>
          <p:sp>
            <p:nvSpPr>
              <p:cNvPr id="272" name=""/>
              <p:cNvSpPr/>
              <p:nvPr/>
            </p:nvSpPr>
            <p:spPr>
              <a:xfrm>
                <a:off x="6335640" y="11317320"/>
                <a:ext cx="2546280" cy="2454120"/>
              </a:xfrm>
              <a:prstGeom prst="rect">
                <a:avLst/>
              </a:prstGeom>
              <a:solidFill>
                <a:srgbClr val="191919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608680" y="1142028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610120" y="11798280"/>
                <a:ext cx="21744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610120" y="12202920"/>
                <a:ext cx="217440" cy="2383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611920" y="12580920"/>
                <a:ext cx="217080" cy="23796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610120" y="12988800"/>
                <a:ext cx="21744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611920" y="13366440"/>
                <a:ext cx="217080" cy="23688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3280" y="1142028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45080" y="1179828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45080" y="12202920"/>
                <a:ext cx="217080" cy="2383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46520" y="12580920"/>
                <a:ext cx="217080" cy="23796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45080" y="1298880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46520" y="13366440"/>
                <a:ext cx="217080" cy="23688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335640" y="8926560"/>
              <a:ext cx="2546280" cy="2454120"/>
              <a:chOff x="6335640" y="8926560"/>
              <a:chExt cx="2546280" cy="2454120"/>
            </a:xfrm>
          </p:grpSpPr>
          <p:sp>
            <p:nvSpPr>
              <p:cNvPr id="286" name=""/>
              <p:cNvSpPr/>
              <p:nvPr/>
            </p:nvSpPr>
            <p:spPr>
              <a:xfrm>
                <a:off x="6335640" y="8926560"/>
                <a:ext cx="2546280" cy="2454120"/>
              </a:xfrm>
              <a:prstGeom prst="rect">
                <a:avLst/>
              </a:prstGeom>
              <a:solidFill>
                <a:srgbClr val="191919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608680" y="902952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610120" y="9407520"/>
                <a:ext cx="21744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10120" y="9812160"/>
                <a:ext cx="217440" cy="2383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611920" y="10190160"/>
                <a:ext cx="217080" cy="23796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10120" y="10598040"/>
                <a:ext cx="21744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611920" y="10975680"/>
                <a:ext cx="217080" cy="23688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43280" y="902952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45080" y="940752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45080" y="9812160"/>
                <a:ext cx="217080" cy="2383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46520" y="10190160"/>
                <a:ext cx="217080" cy="23796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45080" y="10598040"/>
                <a:ext cx="217080" cy="23652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46520" y="10975680"/>
                <a:ext cx="217080" cy="236880"/>
              </a:xfrm>
              <a:prstGeom prst="rect">
                <a:avLst/>
              </a:prstGeom>
              <a:solidFill>
                <a:srgbClr val="fffddd"/>
              </a:solidFill>
              <a:ln w="9360">
                <a:solidFill>
                  <a:srgbClr val="fff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6819840" y="6813720"/>
              <a:ext cx="1604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2fdf7"/>
                  </a:solidFill>
                  <a:latin typeface="Arial"/>
                  <a:ea typeface="宋体"/>
                </a:rPr>
                <a:t>Roots:  </a:t>
              </a:r>
              <a:endParaRPr b="0" lang="en-US" sz="40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04000" y="9117000"/>
              <a:ext cx="160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df7"/>
                  </a:solidFill>
                  <a:latin typeface="Arial"/>
                  <a:ea typeface="宋体"/>
                </a:rPr>
                <a:t>Alex Haley</a:t>
              </a:r>
              <a:endParaRPr b="0" lang="en-US" sz="32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19840" y="7515360"/>
              <a:ext cx="15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fdf7"/>
                  </a:solidFill>
                  <a:latin typeface="Arial"/>
                  <a:ea typeface="宋体"/>
                </a:rPr>
                <a:t>The Sage of an American Family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04000" y="10217160"/>
              <a:ext cx="158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fdf7"/>
                  </a:solidFill>
                  <a:latin typeface="Arial"/>
                  <a:ea typeface="宋体"/>
                </a:rPr>
                <a:t>African-American writer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11566440"/>
              <a:ext cx="158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2fdf7"/>
                  </a:solidFill>
                  <a:latin typeface="Arial"/>
                  <a:ea typeface="宋体"/>
                </a:rPr>
                <a:t>His father:</a:t>
              </a:r>
              <a:r>
                <a:rPr b="0" lang="en-US" sz="1800" spc="-1" strike="noStrike">
                  <a:solidFill>
                    <a:srgbClr val="f2fdf7"/>
                  </a:solidFill>
                  <a:latin typeface="Arial"/>
                  <a:ea typeface="宋体"/>
                </a:rPr>
                <a:t> a college professor and a World War I vetera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332000" y="2182680"/>
            <a:ext cx="47527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4c4c"/>
                </a:solidFill>
                <a:latin typeface="Arial"/>
                <a:ea typeface="宋体"/>
              </a:rPr>
              <a:t>Alex Haley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Born: August 11, 1921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Died: February 10, 1992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Occupation: writer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Masterpiece: </a:t>
            </a:r>
            <a:r>
              <a:rPr b="1" i="1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Roots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2182680"/>
            <a:ext cx="475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The book was published in 1976, a novel based on his family's history, starting with the story of Kunta Kinte, kidnapped in The Gambia in 1767 and transported to the Province of Maryland to be sold as a slave.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8.67052E-007 L 1.94444E-006 -0.95399 E">
                                      <p:cBhvr>
                                        <p:cTn id="284" dur="5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95399 L 1.94444E-006 -2.01341 E">
                                      <p:cBhvr>
                                        <p:cTn id="293" dur="5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5607E-007 L 1.94444E-006 -1.02428 E">
                                      <p:cBhvr>
                                        <p:cTn id="300" dur="5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268360" y="5335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 Black"/>
                <a:ea typeface="宋体"/>
              </a:rPr>
              <a:t>Writing: a gratitude letter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82680"/>
            <a:ext cx="792360" cy="79200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3c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4c4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187280" y="134136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411280" y="4437000"/>
            <a:ext cx="360072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Comic Sans MS"/>
                <a:ea typeface="宋体"/>
              </a:rPr>
              <a:t>Please go to Stewart’s  </a:t>
            </a:r>
            <a:r>
              <a:rPr b="0" lang="en-US" sz="1800" spc="-1" strike="noStrike" u="sng">
                <a:solidFill>
                  <a:srgbClr val="ff0080"/>
                </a:solidFill>
                <a:uFillTx/>
                <a:latin typeface="Comic Sans MS"/>
                <a:ea typeface="宋体"/>
                <a:hlinkClick r:id="rId5"/>
              </a:rPr>
              <a:t>www.alittlegratitude.com</a:t>
            </a:r>
            <a:r>
              <a:rPr b="0" lang="en-US" sz="1800" spc="-1" strike="noStrike">
                <a:solidFill>
                  <a:srgbClr val="4c4c4c"/>
                </a:solidFill>
                <a:latin typeface="Comic Sans MS"/>
                <a:ea typeface="宋体"/>
              </a:rPr>
              <a:t> and post your gratitude letter there to help raise people’s awareness of embracing a life filled with gratitude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-7165800" y="-27000"/>
            <a:ext cx="9181800" cy="6886440"/>
            <a:chOff x="-7165800" y="-27000"/>
            <a:chExt cx="9181800" cy="6886440"/>
          </a:xfrm>
        </p:grpSpPr>
        <p:pic>
          <p:nvPicPr>
            <p:cNvPr id="314" name="" descr=""/>
            <p:cNvPicPr/>
            <p:nvPr/>
          </p:nvPicPr>
          <p:blipFill>
            <a:blip r:embed="rId6"/>
            <a:stretch/>
          </p:blipFill>
          <p:spPr>
            <a:xfrm>
              <a:off x="-7165800" y="-27000"/>
              <a:ext cx="9181800" cy="688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7"/>
            <a:stretch/>
          </p:blipFill>
          <p:spPr>
            <a:xfrm>
              <a:off x="-3024000" y="1246320"/>
              <a:ext cx="4104720" cy="50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 rot="21461400">
              <a:off x="-2231640" y="2626920"/>
              <a:ext cx="28447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91919"/>
                  </a:solidFill>
                  <a:latin typeface="Comic Sans MS"/>
                  <a:ea typeface="宋体"/>
                </a:rPr>
                <a:t>I am grateful for my family, especially for my little nephew. Thanks for giving lovely smile, sweet kiss, true love and such precious happiness.</a:t>
              </a:r>
              <a:endParaRPr b="0" lang="en-US" sz="20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-7418520" y="-27000"/>
            <a:ext cx="9182160" cy="6886440"/>
            <a:chOff x="-7418520" y="-27000"/>
            <a:chExt cx="9182160" cy="6886440"/>
          </a:xfrm>
        </p:grpSpPr>
        <p:pic>
          <p:nvPicPr>
            <p:cNvPr id="318" name="" descr=""/>
            <p:cNvPicPr/>
            <p:nvPr/>
          </p:nvPicPr>
          <p:blipFill>
            <a:blip r:embed="rId8"/>
            <a:stretch/>
          </p:blipFill>
          <p:spPr>
            <a:xfrm>
              <a:off x="-7418520" y="-27000"/>
              <a:ext cx="9182160" cy="688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"/>
            <a:stretch/>
          </p:blipFill>
          <p:spPr>
            <a:xfrm>
              <a:off x="-3530880" y="1220760"/>
              <a:ext cx="3889440" cy="50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 rot="21465600">
              <a:off x="-2881080" y="2601360"/>
              <a:ext cx="28447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91919"/>
                  </a:solidFill>
                  <a:latin typeface="Comic Sans MS"/>
                  <a:ea typeface="宋体"/>
                </a:rPr>
                <a:t>I’m grateful for the uniqueness of life---just think about it. No one else will ever experience the exact emotions, sights, tastes and smiles as you do.</a:t>
              </a:r>
              <a:endParaRPr b="0" lang="en-US" sz="20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651640" y="1557360"/>
            <a:ext cx="2520720" cy="2663640"/>
            <a:chOff x="5651640" y="1557360"/>
            <a:chExt cx="2520720" cy="2663640"/>
          </a:xfrm>
        </p:grpSpPr>
        <p:sp>
          <p:nvSpPr>
            <p:cNvPr id="322" name=""/>
            <p:cNvSpPr/>
            <p:nvPr/>
          </p:nvSpPr>
          <p:spPr>
            <a:xfrm>
              <a:off x="5651640" y="1557360"/>
              <a:ext cx="2520720" cy="26636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15840">
              <a:solidFill>
                <a:srgbClr val="4c4c4c"/>
              </a:solidFill>
              <a:miter/>
            </a:ln>
            <a:effectLst>
              <a:outerShdw dist="17819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640" y="1700280"/>
              <a:ext cx="237636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  <a:ea typeface="宋体"/>
                </a:rPr>
                <a:t>My gratitude letter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c4c4c"/>
                  </a:solidFill>
                  <a:latin typeface="Comic Sans MS"/>
                  <a:ea typeface="宋体"/>
                </a:rPr>
                <a:t>General idea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c4c4c"/>
                  </a:solidFill>
                  <a:latin typeface="Comic Sans MS"/>
                  <a:ea typeface="宋体"/>
                </a:rPr>
                <a:t>…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c4c4c"/>
                  </a:solidFill>
                  <a:latin typeface="Comic Sans MS"/>
                  <a:ea typeface="宋体"/>
                </a:rPr>
                <a:t>Specific examples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c4c4c"/>
                  </a:solidFill>
                  <a:latin typeface="Comic Sans MS"/>
                  <a:ea typeface="宋体"/>
                </a:rPr>
                <a:t>…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763E-006 L 0.37205 -1.6763E-006 E">
                                      <p:cBhvr>
                                        <p:cTn id="337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205 -1.6763E-006 L -1.66667E-006 -1.6763E-006 E">
                                      <p:cBhvr>
                                        <p:cTn id="341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5434E-006 L 0.39965 -2.25434E-006 E">
                                      <p:cBhvr>
                                        <p:cTn id="343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66 -2.25434E-006 L -2.77778E-006 -2.25434E-006 E">
                                      <p:cBhvr>
                                        <p:cTn id="347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6-11T06:22:34Z</dcterms:modified>
  <cp:revision>269</cp:revision>
  <dc:subject/>
  <dc:title>Flowers</dc:title>
</cp:coreProperties>
</file>