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FA0-E731-45DC-9CF0-79097DAE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35D-3160-481E-8D5E-3CFFBD70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8BDD-95AF-4846-A47C-2CD87AEC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8AA-A7A0-4A7C-8B44-E8D53F1F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4551-6704-4A34-BF74-623D2638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9A25-EB20-4D77-A89C-856AE6F3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6BBB-A4E3-43DE-A275-B3D484CD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A9A92-D2E8-4BEE-AB52-279A7F84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2015-FCD5-4A63-ABFC-809E555C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5176-6332-4007-A70A-1CE50BDF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A3EC-0B2D-45F9-9985-85A50EF1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241-3DED-4863-B89F-F30A972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7114-2016-402D-BD53-0FCB5C5E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CA59-5F9A-4A73-AA61-65C41089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1533-17A9-4BA3-A5E4-35932C3C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5A60-1EE1-4CC2-9113-80659774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663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299952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003F-3B27-4814-826E-21985D74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D06-48FC-49CB-8033-F8085122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D3B-C207-4674-889C-BC447CF9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1B37-429F-43FC-90F4-B6D3C0CF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8AC-1AB8-4BEB-98DF-6435BE21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F66-2E04-44DA-BA79-4A424943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995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9537-262D-4815-B125-DBE48AB0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32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9952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2E7-FD6F-4628-B765-4212A6754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BABF-5513-4022-8718-7C338D2BE11F}" type="slidenum"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008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c4c4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2913-BCE3-45F5-9749-4FE059BECDFD}" type="slidenum">
              <a:rPr b="0" lang="zh-CN" sz="1400" spc="-1" strike="noStrike">
                <a:solidFill>
                  <a:srgbClr val="4c4c4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c4c4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c4c4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80"/>
              </a:solidFill>
              <a:latin typeface="Arial"/>
              <a:ea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c4c4c"/>
              </a:solidFill>
              <a:latin typeface="Arial"/>
              <a:ea typeface="宋体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826920" y="620640"/>
            <a:ext cx="691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ddd"/>
                </a:solidFill>
                <a:latin typeface="Times New Roman"/>
                <a:ea typeface="宋体"/>
              </a:rPr>
              <a:t>Judge by Appearances</a:t>
            </a:r>
            <a:endParaRPr b="0" lang="en-US" sz="4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1628640"/>
            <a:ext cx="4176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3fd"/>
                </a:solidFill>
                <a:latin typeface="Times New Roman"/>
                <a:ea typeface="宋体"/>
              </a:rPr>
              <a:t>Section B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3fd"/>
                </a:solidFill>
                <a:latin typeface="Times New Roman"/>
                <a:ea typeface="宋体"/>
              </a:rPr>
              <a:t>Unit 6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f3fd"/>
                </a:solidFill>
                <a:latin typeface="Times New Roman"/>
                <a:ea typeface="宋体"/>
              </a:rPr>
              <a:t>Book II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429000"/>
            <a:ext cx="54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Procedures: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Lead-in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Input—global reading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Processing—detailed reading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19191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Output—critical thinking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5. Assignment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549360"/>
            <a:ext cx="32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19"/>
                </a:solidFill>
                <a:latin typeface="Times New Roman"/>
                <a:ea typeface="宋体"/>
              </a:rPr>
              <a:t>1. Lead-in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-36360" y="1268280"/>
            <a:ext cx="3887640" cy="3600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0920" y="4998960"/>
            <a:ext cx="37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inappropriate dressing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960720" y="1268280"/>
            <a:ext cx="4356360" cy="360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8920" y="498780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prejudice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82161" t="0" r="0" b="0"/>
          <a:stretch/>
        </p:blipFill>
        <p:spPr>
          <a:xfrm>
            <a:off x="0" y="-2844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82161" t="0" r="0" b="0"/>
          <a:stretch/>
        </p:blipFill>
        <p:spPr>
          <a:xfrm>
            <a:off x="0" y="0"/>
            <a:ext cx="1638360" cy="6886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rcRect l="82992" t="0" r="6223" b="0"/>
          <a:stretch/>
        </p:blipFill>
        <p:spPr>
          <a:xfrm>
            <a:off x="0" y="0"/>
            <a:ext cx="990720" cy="688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560556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9600" y="549360"/>
            <a:ext cx="62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19"/>
                </a:solidFill>
                <a:latin typeface="Times New Roman"/>
                <a:ea typeface="宋体"/>
              </a:rPr>
              <a:t>2. Input—global reading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7280" y="1244520"/>
          <a:ext cx="6896160" cy="4913280"/>
        </p:xfrm>
        <a:graphic>
          <a:graphicData uri="http://schemas.openxmlformats.org/drawingml/2006/table">
            <a:tbl>
              <a:tblPr/>
              <a:tblGrid>
                <a:gridCol w="1729080"/>
                <a:gridCol w="5167080"/>
              </a:tblGrid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Experiment on 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whether people are judged by appearances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1368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Purpose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576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</a:tr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Subjects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576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576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</a:tr>
              <a:tr h="13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576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13680">
                      <a:solidFill>
                        <a:srgbClr val="4c4c4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c4c4c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32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13680">
                      <a:solidFill>
                        <a:srgbClr val="4c4c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024360" y="2133720"/>
            <a:ext cx="658800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to test a common claim—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judge by appearances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24360" y="3187800"/>
            <a:ext cx="38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downtown people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24360" y="4124160"/>
            <a:ext cx="50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clothing slightly inappropriate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24360" y="505476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look like street people;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went downtown to shop</a:t>
            </a:r>
            <a:r>
              <a:rPr b="1" lang="en-US" sz="16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80"/>
              </a:solidFill>
              <a:latin typeface="Arial"/>
              <a:ea typeface="宋体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126828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268280"/>
            <a:ext cx="6958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Word study: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As it </a:t>
            </a:r>
            <a:r>
              <a:rPr b="1" lang="en-US" sz="2800" spc="-1" strike="noStrike" u="sng">
                <a:solidFill>
                  <a:srgbClr val="191919"/>
                </a:solidFill>
                <a:uFillTx/>
                <a:latin typeface="Times New Roman"/>
                <a:ea typeface="宋体"/>
              </a:rPr>
              <a:t>turned out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 there was no need for dramatics; people </a:t>
            </a:r>
            <a:r>
              <a:rPr b="1" lang="en-US" sz="2800" spc="-1" strike="noStrike" u="sng">
                <a:solidFill>
                  <a:srgbClr val="191919"/>
                </a:solidFill>
                <a:uFillTx/>
                <a:latin typeface="Times New Roman"/>
                <a:ea typeface="宋体"/>
              </a:rPr>
              <a:t>turned us off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 or </a:t>
            </a:r>
            <a:r>
              <a:rPr b="1" lang="en-US" sz="2800" spc="-1" strike="noStrike" u="sng">
                <a:solidFill>
                  <a:srgbClr val="191919"/>
                </a:solidFill>
                <a:uFillTx/>
                <a:latin typeface="Times New Roman"/>
                <a:ea typeface="宋体"/>
              </a:rPr>
              <a:t>tuned us out</a:t>
            </a: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on the basis of appearance alone.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4076640"/>
            <a:ext cx="2997360" cy="1728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to cease to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take an interest in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or pay attention to</a:t>
            </a:r>
            <a:r>
              <a:rPr b="0" lang="en-US" sz="1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58920" y="3214800"/>
            <a:ext cx="936720" cy="934920"/>
          </a:xfrm>
          <a:prstGeom prst="line">
            <a:avLst/>
          </a:prstGeom>
          <a:ln w="9360">
            <a:solidFill>
              <a:srgbClr val="4c4c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3716280"/>
            <a:ext cx="2665440" cy="151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cause to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feel dislike or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distaste for sth</a:t>
            </a:r>
            <a:r>
              <a:rPr b="0" lang="en-US" sz="1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779560"/>
            <a:ext cx="287280" cy="936720"/>
          </a:xfrm>
          <a:prstGeom prst="line">
            <a:avLst/>
          </a:prstGeom>
          <a:ln w="9360">
            <a:solidFill>
              <a:srgbClr val="4c4c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830160"/>
            <a:ext cx="1873080" cy="1158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Prove to be</a:t>
            </a:r>
            <a:r>
              <a:rPr b="0" lang="en-US" sz="1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92360" y="1413000"/>
            <a:ext cx="2519640" cy="576000"/>
          </a:xfrm>
          <a:prstGeom prst="line">
            <a:avLst/>
          </a:prstGeom>
          <a:ln w="9360">
            <a:solidFill>
              <a:srgbClr val="4c4c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124080" y="4428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80"/>
                </a:solidFill>
                <a:latin typeface="Arial"/>
                <a:ea typeface="宋体"/>
              </a:rPr>
              <a:t>WINTER</a:t>
            </a:r>
            <a:endParaRPr b="0" lang="en-US" sz="9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67796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66"/>
                </a:solidFill>
                <a:latin typeface="Arial"/>
                <a:ea typeface="宋体"/>
              </a:rPr>
              <a:t>Template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-19080" y="-28440"/>
            <a:ext cx="9182160" cy="6886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715000" y="166680"/>
            <a:ext cx="144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1341360"/>
            <a:ext cx="1440000" cy="863640"/>
          </a:xfrm>
          <a:prstGeom prst="ellipse">
            <a:avLst/>
          </a:prstGeom>
          <a:solidFill>
            <a:srgbClr val="ff008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A bargain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stor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1563840"/>
            <a:ext cx="574560" cy="320400"/>
          </a:xfrm>
          <a:prstGeom prst="rightArrow">
            <a:avLst>
              <a:gd name="adj1" fmla="val 50000"/>
              <a:gd name="adj2" fmla="val 44831"/>
            </a:avLst>
          </a:prstGeom>
          <a:solidFill>
            <a:srgbClr val="ff99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09840" y="1341360"/>
            <a:ext cx="1512720" cy="863640"/>
          </a:xfrm>
          <a:prstGeom prst="ellipse">
            <a:avLst/>
          </a:prstGeom>
          <a:solidFill>
            <a:srgbClr val="ff008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Lobby of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a large hotel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97480" y="1341360"/>
            <a:ext cx="1658880" cy="863640"/>
          </a:xfrm>
          <a:prstGeom prst="ellipse">
            <a:avLst/>
          </a:prstGeom>
          <a:solidFill>
            <a:srgbClr val="ff008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Second-hand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shop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30920" y="1341360"/>
            <a:ext cx="1801800" cy="863640"/>
          </a:xfrm>
          <a:prstGeom prst="ellipse">
            <a:avLst/>
          </a:prstGeom>
          <a:solidFill>
            <a:srgbClr val="ff008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Upper-scale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stores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coffee shop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2560" y="1619280"/>
            <a:ext cx="574920" cy="320760"/>
          </a:xfrm>
          <a:prstGeom prst="rightArrow">
            <a:avLst>
              <a:gd name="adj1" fmla="val 50000"/>
              <a:gd name="adj2" fmla="val 44809"/>
            </a:avLst>
          </a:prstGeom>
          <a:solidFill>
            <a:srgbClr val="ff99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56360" y="1619280"/>
            <a:ext cx="574560" cy="320760"/>
          </a:xfrm>
          <a:prstGeom prst="rightArrow">
            <a:avLst>
              <a:gd name="adj1" fmla="val 50000"/>
              <a:gd name="adj2" fmla="val 44781"/>
            </a:avLst>
          </a:prstGeom>
          <a:solidFill>
            <a:srgbClr val="ff99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645000"/>
            <a:ext cx="16556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…</a:t>
            </a: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were refused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23960" y="3645000"/>
            <a:ext cx="165600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declined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00720" y="3645000"/>
            <a:ext cx="165564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40"/>
                </a:solidFill>
                <a:latin typeface="Times New Roman"/>
                <a:ea typeface="宋体"/>
              </a:rPr>
              <a:t>More or less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40"/>
                </a:solidFill>
                <a:latin typeface="Times New Roman"/>
                <a:ea typeface="宋体"/>
              </a:rPr>
              <a:t>blended with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40"/>
                </a:solidFill>
                <a:latin typeface="Times New Roman"/>
                <a:ea typeface="宋体"/>
              </a:rPr>
              <a:t> </a:t>
            </a:r>
            <a:r>
              <a:rPr b="1" lang="en-US" sz="1800" spc="-1" strike="noStrike">
                <a:solidFill>
                  <a:srgbClr val="800040"/>
                </a:solidFill>
                <a:latin typeface="Times New Roman"/>
                <a:ea typeface="宋体"/>
              </a:rPr>
              <a:t>the customers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3640" y="3645000"/>
            <a:ext cx="208908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stared,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pointed,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and laughed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long, and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doubting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91919"/>
                </a:solidFill>
                <a:latin typeface="Times New Roman"/>
                <a:ea typeface="宋体"/>
              </a:rPr>
              <a:t>looks</a:t>
            </a:r>
            <a:r>
              <a:rPr b="0" lang="en-US" sz="1800" spc="-1" strike="noStrike">
                <a:solidFill>
                  <a:srgbClr val="4c4c4c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2319480"/>
            <a:ext cx="289080" cy="1180800"/>
          </a:xfrm>
          <a:prstGeom prst="downArrow">
            <a:avLst>
              <a:gd name="adj1" fmla="val 50000"/>
              <a:gd name="adj2" fmla="val 102117"/>
            </a:avLst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2319480"/>
            <a:ext cx="289080" cy="1180800"/>
          </a:xfrm>
          <a:prstGeom prst="downArrow">
            <a:avLst>
              <a:gd name="adj1" fmla="val 50000"/>
              <a:gd name="adj2" fmla="val 102117"/>
            </a:avLst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42040" y="2370240"/>
            <a:ext cx="288720" cy="1181160"/>
          </a:xfrm>
          <a:prstGeom prst="downArrow">
            <a:avLst>
              <a:gd name="adj1" fmla="val 50000"/>
              <a:gd name="adj2" fmla="val 102276"/>
            </a:avLst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1720" y="2370240"/>
            <a:ext cx="289080" cy="1181160"/>
          </a:xfrm>
          <a:prstGeom prst="downArrow">
            <a:avLst>
              <a:gd name="adj1" fmla="val 50000"/>
              <a:gd name="adj2" fmla="val 102148"/>
            </a:avLst>
          </a:prstGeom>
          <a:solidFill>
            <a:srgbClr val="99cc00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19"/>
                </a:solidFill>
                <a:latin typeface="Times New Roman"/>
                <a:ea typeface="宋体"/>
              </a:rPr>
              <a:t>3. Processing—detailed understanding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rcRect l="78840" t="0" r="0" b="0"/>
          <a:stretch/>
        </p:blipFill>
        <p:spPr>
          <a:xfrm>
            <a:off x="0" y="0"/>
            <a:ext cx="1943280" cy="6886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116000" y="1413000"/>
            <a:ext cx="295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16000" y="1413000"/>
          <a:ext cx="6202440" cy="4464000"/>
        </p:xfrm>
        <a:graphic>
          <a:graphicData uri="http://schemas.openxmlformats.org/drawingml/2006/table">
            <a:tbl>
              <a:tblPr/>
              <a:tblGrid>
                <a:gridCol w="6202440"/>
              </a:tblGrid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91919"/>
                          </a:solidFill>
                          <a:latin typeface="Times New Roman"/>
                          <a:ea typeface="宋体"/>
                        </a:rPr>
                        <a:t>Conclusion :</a:t>
                      </a:r>
                      <a:endParaRPr b="0" lang="en-US" sz="2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13680">
                      <a:solidFill>
                        <a:srgbClr val="4c4c4c"/>
                      </a:solidFill>
                    </a:lnT>
                    <a:lnB w="5760">
                      <a:solidFill>
                        <a:srgbClr val="4c4c4c"/>
                      </a:solidFill>
                    </a:lnB>
                    <a:noFill/>
                  </a:tcPr>
                </a:tc>
              </a:tr>
              <a:tr h="374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c4c4c"/>
                      </a:solidFill>
                    </a:lnL>
                    <a:lnR w="13680">
                      <a:solidFill>
                        <a:srgbClr val="4c4c4c"/>
                      </a:solidFill>
                    </a:lnR>
                    <a:lnT w="5760">
                      <a:solidFill>
                        <a:srgbClr val="4c4c4c"/>
                      </a:solidFill>
                    </a:lnT>
                    <a:lnB w="13680">
                      <a:solidFill>
                        <a:srgbClr val="4c4c4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258920" y="22464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objects with less inherent dignity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7184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64200" y="1511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339408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宋体"/>
              </a:rPr>
              <a:t>(2) internalizing the superficial and prejudiced judgments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042920" y="62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19"/>
                </a:solidFill>
                <a:latin typeface="Times New Roman"/>
                <a:ea typeface="宋体"/>
              </a:rPr>
              <a:t>4. Output—critical thinking</a:t>
            </a:r>
            <a:r>
              <a:rPr b="1" lang="en-US" sz="32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1413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Q 1. What are the causes of the author’s trouble?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2195280" y="1916280"/>
            <a:ext cx="2089080" cy="550800"/>
          </a:xfrm>
          <a:prstGeom prst="line">
            <a:avLst/>
          </a:prstGeom>
          <a:ln w="9360">
            <a:solidFill>
              <a:srgbClr val="4c4c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1916280"/>
            <a:ext cx="2303280" cy="550800"/>
          </a:xfrm>
          <a:prstGeom prst="line">
            <a:avLst/>
          </a:prstGeom>
          <a:ln w="9360">
            <a:solidFill>
              <a:srgbClr val="4c4c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4720" y="2565360"/>
            <a:ext cx="2519280" cy="10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People who judge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by appearances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35640" y="2492280"/>
            <a:ext cx="2519280" cy="11509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4c4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People who 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are prejudiced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by appearances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840" y="410436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a. slightly inappropriate for the weather</a:t>
            </a:r>
            <a:r>
              <a:rPr b="0" lang="en-US" sz="1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07640" y="46393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b. not the styles … to the area</a:t>
            </a:r>
            <a:r>
              <a:rPr b="0" lang="en-US" sz="1800" spc="-1" strike="noStrike">
                <a:solidFill>
                  <a:srgbClr val="4c4c4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916280" y="51044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c. slightly untidy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5558040"/>
            <a:ext cx="527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d. a faded cotton shirt ,a wrinkled skirt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4920" y="357336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91919"/>
                </a:solidFill>
                <a:latin typeface="Times New Roman"/>
                <a:ea typeface="宋体"/>
              </a:rPr>
              <a:t>Causes:</a:t>
            </a:r>
            <a:r>
              <a:rPr b="0" lang="en-US" sz="1800" spc="-1" strike="noStrike">
                <a:solidFill>
                  <a:srgbClr val="191919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-181080" y="-14400"/>
            <a:ext cx="9182160" cy="6886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rcRect l="79670" t="0" r="0" b="0"/>
          <a:stretch/>
        </p:blipFill>
        <p:spPr>
          <a:xfrm>
            <a:off x="0" y="0"/>
            <a:ext cx="1866960" cy="6886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rcRect l="80500" t="0" r="0" b="0"/>
          <a:stretch/>
        </p:blipFill>
        <p:spPr>
          <a:xfrm>
            <a:off x="0" y="0"/>
            <a:ext cx="1790640" cy="6886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044720" y="125892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Q 2. How do we harmonize/go well with where we are ?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1693800"/>
            <a:ext cx="53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42920" y="3851280"/>
            <a:ext cx="69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91919"/>
                </a:solidFill>
                <a:latin typeface="Times New Roman"/>
                <a:ea typeface="宋体"/>
              </a:rPr>
              <a:t>Q 3. What is the inspiration of the text to the sociologists?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16000" y="2060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suitablenes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2492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appropriatenes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997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acceptability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479736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Improve the quality of citizen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53737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Strengthen people’s awareness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0080"/>
              </a:solidFill>
              <a:latin typeface="Arial"/>
              <a:ea typeface="宋体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4c4c4c"/>
              </a:solidFill>
              <a:latin typeface="Arial"/>
              <a:ea typeface="宋体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82160" cy="6886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rcRect l="81331" t="0" r="6223" b="0"/>
          <a:stretch/>
        </p:blipFill>
        <p:spPr>
          <a:xfrm>
            <a:off x="0" y="0"/>
            <a:ext cx="1143000" cy="6886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83822" t="0" r="8714" b="0"/>
          <a:stretch/>
        </p:blipFill>
        <p:spPr>
          <a:xfrm>
            <a:off x="0" y="0"/>
            <a:ext cx="685800" cy="6886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26920" y="549360"/>
            <a:ext cx="4896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91919"/>
                </a:solidFill>
                <a:latin typeface="Times New Roman"/>
                <a:ea typeface="宋体"/>
              </a:rPr>
              <a:t>5. Assignment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1417680"/>
            <a:ext cx="7632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Direction: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  <a:ea typeface="宋体"/>
              </a:rPr>
              <a:t>    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Shanghai is a cosmopolitan city, which is hosting the World Expo 2010. Every citizen is obliged to contribute to bettering the image of the city.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     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Please write a passage on “</a:t>
            </a:r>
            <a:r>
              <a:rPr b="1" i="1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What can we do to make our city more harmonious?”</a:t>
            </a:r>
            <a:r>
              <a:rPr b="0" lang="en-US" sz="2400" spc="-1" strike="noStrike">
                <a:solidFill>
                  <a:srgbClr val="191919"/>
                </a:solidFill>
                <a:latin typeface="Times New Roman"/>
                <a:ea typeface="宋体"/>
              </a:rPr>
              <a:t> with around 150 words. </a:t>
            </a: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0-06-10T07:54:22Z</dcterms:modified>
  <cp:revision>183</cp:revision>
  <dc:subject/>
  <dc:title>Flowers</dc:title>
</cp:coreProperties>
</file>