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5.jpeg" ContentType="image/jpeg"/>
  <Override PartName="/ppt/media/image24.jpeg" ContentType="image/jpe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6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EB5-73A6-4B08-8735-68592C0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339588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8E2-06C0-4408-A382-F404093E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B8D-8A75-45C7-8711-35817560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04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404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8F8-A54E-4AE7-ADC7-3493881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B8882-3AFA-4E25-B2A3-F88EF57D32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3EBA3-2D3A-409D-BD52-0581BB9FAA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14D1-DE11-4312-B1FE-E4B3430C6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56F8-5DA6-43B8-A99F-84229F018E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CBAD-BB1C-4524-9A61-BFAC7F1011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597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A5CFD-A8FA-400B-9590-396C265F6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4BD5B-748D-481E-B748-CDDFDFCE3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F43-A6B4-48E3-AADA-8C2A303B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08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AE3D9-CC6B-4162-A166-3730C70481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76E74-2F6A-432F-8093-17863B8C3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8400" y="339588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AC66D-0951-46C2-936B-B6B0F6F6F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08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55617-8A25-4F0C-A643-09DF1DD41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640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4040" y="137160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840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640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4040" y="3395880"/>
            <a:ext cx="250236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4089-F78B-4BA4-BEA4-65F0BD836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EDE-7B29-4132-9D0B-BC60C8F3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FEF-75F5-43C1-8BFA-6264FAD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7C1-CD63-4D44-BFAA-EC2B689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59770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EEA-D8B2-4F25-88D0-8A63B0E4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43D-FD99-4920-8193-F9B3A2B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339588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CE8-62E6-4626-923C-0BBFEA7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371600"/>
            <a:ext cx="3792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3395880"/>
            <a:ext cx="7772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434-FE42-4062-A2C7-47163E1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Gulim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Click to edit the outline text format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1" marL="743040" indent="-28584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econd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2" marL="11430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3" marL="16002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Four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4" marL="20574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Fif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ix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even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0EB2-9857-4C19-BBC0-4292CAEE7D0D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52E6-D0C4-4D34-BE9A-A2D2480D7C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540072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Gulim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Click to edit the outline text format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1" marL="743040" indent="-28584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econd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2" marL="11430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3" marL="16002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Four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4" marL="2057400" indent="-228600">
              <a:spcBef>
                <a:spcPts val="550"/>
              </a:spcBef>
              <a:buClr>
                <a:srgbClr val="00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Fif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ix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Gulim"/>
              </a:rPr>
              <a:t>Seventh Outline Level</a:t>
            </a: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16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C9A9-F60C-4F88-A015-A97FE6E38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5.wmf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6B3-539A-42B6-9AE5-97FD043E810E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cec3d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3300"/>
                </a:solidFill>
                <a:latin typeface="Times New Roman"/>
                <a:ea typeface="-머리정체B"/>
              </a:rPr>
              <a:t>T</a:t>
            </a:r>
            <a:r>
              <a:rPr b="1" lang="en-US" sz="3800" spc="-1" strike="noStrike">
                <a:solidFill>
                  <a:srgbClr val="003300"/>
                </a:solidFill>
                <a:latin typeface="Times New Roman"/>
                <a:ea typeface="-머리정체B"/>
              </a:rPr>
              <a:t>o Err is Wrong</a:t>
            </a:r>
            <a:endParaRPr b="1" lang="en-US" sz="3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3141360"/>
            <a:ext cx="91440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Times New Roman"/>
                <a:ea typeface="-머리정체B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-머리정체B"/>
              </a:rPr>
              <a:t>oger Von Oech</a:t>
            </a:r>
            <a:endParaRPr b="0" lang="en-US" sz="3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01080" y="6165720"/>
            <a:ext cx="43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3" descr="kids stepping stones"/>
          <p:cNvPicPr/>
          <p:nvPr/>
        </p:nvPicPr>
        <p:blipFill>
          <a:blip r:embed="rId1"/>
          <a:stretch/>
        </p:blipFill>
        <p:spPr>
          <a:xfrm>
            <a:off x="900000" y="2565360"/>
            <a:ext cx="7632720" cy="5095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26560" y="3715920"/>
            <a:ext cx="714852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Your error rate in any activity i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of your     familiarity with that activity.</a:t>
            </a: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250920" y="260280"/>
            <a:ext cx="424980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Detailed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793800" y="1298520"/>
            <a:ext cx="6969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he whole history of discovery is filled with people who us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erroneous assum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-머리정체M"/>
              </a:rPr>
              <a:t> and failed idea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stepping ston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to new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793800" y="2781360"/>
            <a:ext cx="7234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We lear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by trial and erro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, not by trial and right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2" descr="trial-and-error-larry-mulvehill"/>
          <p:cNvPicPr/>
          <p:nvPr/>
        </p:nvPicPr>
        <p:blipFill>
          <a:blip r:embed="rId2"/>
          <a:stretch/>
        </p:blipFill>
        <p:spPr>
          <a:xfrm>
            <a:off x="900000" y="1197000"/>
            <a:ext cx="7056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708360" y="1628640"/>
            <a:ext cx="1152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err</a:t>
            </a:r>
            <a:endParaRPr b="0" lang="en-US" sz="36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44" name="标题 1"/>
          <p:cNvSpPr/>
          <p:nvPr/>
        </p:nvSpPr>
        <p:spPr>
          <a:xfrm>
            <a:off x="395280" y="189000"/>
            <a:ext cx="475308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/ Consolidation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564000" y="1197000"/>
            <a:ext cx="115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  <a:ea typeface="-머리정체M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780000" y="2421000"/>
            <a:ext cx="165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Times New Roman"/>
                <a:ea typeface="-머리정체M"/>
              </a:rPr>
              <a:t>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908000" y="981000"/>
            <a:ext cx="17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-머리정체M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908000" y="1557360"/>
            <a:ext cx="12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227640" y="1773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  <a:ea typeface="-머리정체M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003640" y="1413000"/>
            <a:ext cx="17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-머리정체M"/>
              </a:rPr>
              <a:t>w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292720" y="234936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in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268360" y="2637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imes New Roman"/>
                <a:ea typeface="-머리정체M"/>
              </a:rPr>
              <a:t>mis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932360" y="1916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ff"/>
                </a:solidFill>
                <a:latin typeface="Times New Roman"/>
                <a:ea typeface="-머리정체M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6012000" y="105264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Times New Roman"/>
                <a:ea typeface="-머리정체M"/>
              </a:rPr>
              <a:t>sl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4500720" y="90792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bl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1692360" y="2133720"/>
            <a:ext cx="208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9900"/>
                </a:solidFill>
                <a:latin typeface="Times New Roman"/>
                <a:ea typeface="-머리정체M"/>
              </a:rPr>
              <a:t>erron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395280" y="3284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Fill in the blank with an appropriate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50920" y="3860640"/>
            <a:ext cx="889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_______ is human; to forgive, div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economic predictions are based on some _________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earned most of what I know about gardening through trial and _____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 to follow the club rules disqualified him from the tea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39640" y="5445000"/>
            <a:ext cx="129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938 0.04764 L -0.30573 0.29949 E">
                                      <p:cBhvr>
                                        <p:cTn id="38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06291 L 0.43715 0.32516 E">
                                      <p:cBhvr>
                                        <p:cTn id="386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11656E-006 L 0.496 0.54024 E">
                                      <p:cBhvr>
                                        <p:cTn id="390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6823 L -0.14965 0.57169 E">
                                      <p:cBhvr>
                                        <p:cTn id="394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186920" y="1052280"/>
            <a:ext cx="25052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To Err is</a:t>
            </a:r>
            <a:endParaRPr b="0" lang="en-US" sz="3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61" name="标题 1"/>
          <p:cNvSpPr/>
          <p:nvPr/>
        </p:nvSpPr>
        <p:spPr>
          <a:xfrm>
            <a:off x="395280" y="189000"/>
            <a:ext cx="338472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/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843280" y="1052640"/>
            <a:ext cx="1584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843280" y="1052640"/>
            <a:ext cx="1295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3941640" y="1628640"/>
            <a:ext cx="486000" cy="719280"/>
          </a:xfrm>
          <a:prstGeom prst="upArrow">
            <a:avLst>
              <a:gd name="adj1" fmla="val 50000"/>
              <a:gd name="adj2" fmla="val 37000"/>
            </a:avLst>
          </a:prstGeom>
          <a:solidFill>
            <a:srgbClr val="00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189080" y="2421000"/>
            <a:ext cx="6478560" cy="574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Errors are a by-product of creative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189080" y="3284640"/>
            <a:ext cx="6478560" cy="576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Errors are stepping stones to new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189080" y="4148280"/>
            <a:ext cx="6478560" cy="576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Errors tell us when to change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1189080" y="5013360"/>
            <a:ext cx="6478560" cy="576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Errors are necessary in creative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5148360" y="1052640"/>
            <a:ext cx="26654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In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2.16828E-006 L 0.10799 2.16828E-006 E">
                                      <p:cBhvr>
                                        <p:cTn id="40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灯片编号占位符 1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A72-96DD-4838-A585-A81A09E65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98040" y="1052640"/>
            <a:ext cx="7977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presentation on:</a:t>
            </a: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ten comments on:</a:t>
            </a:r>
            <a:endParaRPr b="0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72" name="标题 1"/>
          <p:cNvSpPr/>
          <p:nvPr/>
        </p:nvSpPr>
        <p:spPr>
          <a:xfrm>
            <a:off x="250920" y="260280"/>
            <a:ext cx="381636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To Err is Wr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/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2" descr="speech bubble 5"/>
          <p:cNvPicPr/>
          <p:nvPr/>
        </p:nvPicPr>
        <p:blipFill>
          <a:blip r:embed="rId1"/>
          <a:stretch/>
        </p:blipFill>
        <p:spPr>
          <a:xfrm>
            <a:off x="5724360" y="4149720"/>
            <a:ext cx="2213280" cy="1440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speech bubble 1"/>
          <p:cNvPicPr/>
          <p:nvPr/>
        </p:nvPicPr>
        <p:blipFill>
          <a:blip r:embed="rId2"/>
          <a:stretch/>
        </p:blipFill>
        <p:spPr>
          <a:xfrm>
            <a:off x="6012000" y="5229360"/>
            <a:ext cx="2732040" cy="1438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speech bubble 2"/>
          <p:cNvPicPr/>
          <p:nvPr/>
        </p:nvPicPr>
        <p:blipFill>
          <a:blip r:embed="rId3"/>
          <a:stretch/>
        </p:blipFill>
        <p:spPr>
          <a:xfrm>
            <a:off x="3492360" y="4365720"/>
            <a:ext cx="2048040" cy="1438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speech bubble 3"/>
          <p:cNvPicPr/>
          <p:nvPr/>
        </p:nvPicPr>
        <p:blipFill>
          <a:blip r:embed="rId4"/>
          <a:stretch/>
        </p:blipFill>
        <p:spPr>
          <a:xfrm>
            <a:off x="1403280" y="5157720"/>
            <a:ext cx="2070000" cy="1440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speech bubble 4"/>
          <p:cNvPicPr/>
          <p:nvPr/>
        </p:nvPicPr>
        <p:blipFill>
          <a:blip r:embed="rId5"/>
          <a:stretch/>
        </p:blipFill>
        <p:spPr>
          <a:xfrm>
            <a:off x="900000" y="4149720"/>
            <a:ext cx="2286000" cy="1441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christopher-columbus-powerpoint"/>
          <p:cNvPicPr/>
          <p:nvPr/>
        </p:nvPicPr>
        <p:blipFill>
          <a:blip r:embed="rId6"/>
          <a:stretch/>
        </p:blipFill>
        <p:spPr>
          <a:xfrm>
            <a:off x="2340000" y="177336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8" descr="inspirational-quote-failure-thomas-edison-2"/>
          <p:cNvPicPr/>
          <p:nvPr/>
        </p:nvPicPr>
        <p:blipFill>
          <a:blip r:embed="rId7"/>
          <a:stretch/>
        </p:blipFill>
        <p:spPr>
          <a:xfrm>
            <a:off x="5657760" y="100332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9" descr="kepler6_johannes"/>
          <p:cNvPicPr/>
          <p:nvPr/>
        </p:nvPicPr>
        <p:blipFill>
          <a:blip r:embed="rId8"/>
          <a:stretch/>
        </p:blipFill>
        <p:spPr>
          <a:xfrm>
            <a:off x="4255920" y="1628640"/>
            <a:ext cx="1406520" cy="1795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quote-if-you-want-to-increase-your-success-rate-double-your-failure-rate-thomas-j-watson-194052"/>
          <p:cNvPicPr/>
          <p:nvPr/>
        </p:nvPicPr>
        <p:blipFill>
          <a:blip r:embed="rId9"/>
          <a:stretch/>
        </p:blipFill>
        <p:spPr>
          <a:xfrm>
            <a:off x="5657760" y="2432160"/>
            <a:ext cx="3059280" cy="143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baseball3"/>
          <p:cNvPicPr/>
          <p:nvPr/>
        </p:nvPicPr>
        <p:blipFill>
          <a:blip r:embed="rId10"/>
          <a:stretch/>
        </p:blipFill>
        <p:spPr>
          <a:xfrm>
            <a:off x="190440" y="1773360"/>
            <a:ext cx="214812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EB48-D224-4744-9027-0E8383B922AA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97708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3300"/>
              </a:solidFill>
              <a:latin typeface="Gulim"/>
              <a:ea typeface="宋体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98400" y="137160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Gulim"/>
            </a:endParaRPr>
          </a:p>
        </p:txBody>
      </p:sp>
      <p:pic>
        <p:nvPicPr>
          <p:cNvPr id="286" name="Picture 7" descr="Thank-You-word-cloud-1024x791"/>
          <p:cNvPicPr/>
          <p:nvPr/>
        </p:nvPicPr>
        <p:blipFill>
          <a:blip r:embed="rId1"/>
          <a:stretch/>
        </p:blipFill>
        <p:spPr>
          <a:xfrm>
            <a:off x="-304920" y="-338040"/>
            <a:ext cx="9753840" cy="75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5A2-58FF-4BA9-9E16-A17F3D9203C6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541440" y="620640"/>
            <a:ext cx="410544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Gulim"/>
                <a:ea typeface="宋体"/>
              </a:rPr>
              <a:t>Contents</a:t>
            </a:r>
            <a:endParaRPr b="1" lang="en-US" sz="3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Pre-reading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ctivity</a:t>
            </a:r>
            <a:endParaRPr b="0" lang="en-US" sz="2800" spc="-1" strike="noStrike">
              <a:solidFill>
                <a:srgbClr val="0033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Global Reading</a:t>
            </a:r>
            <a:endParaRPr b="0" lang="en-US" sz="2800" spc="-1" strike="noStrike">
              <a:solidFill>
                <a:srgbClr val="0033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Detailed Reading</a:t>
            </a:r>
            <a:endParaRPr b="0" lang="en-US" sz="2800" spc="-1" strike="noStrike">
              <a:solidFill>
                <a:srgbClr val="0033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onsolidation Activity</a:t>
            </a:r>
            <a:endParaRPr b="0" lang="en-US" sz="2800" spc="-1" strike="noStrike">
              <a:solidFill>
                <a:srgbClr val="003300"/>
              </a:solidFill>
              <a:latin typeface="Gulim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87" name="Line 4"/>
          <p:cNvSpPr/>
          <p:nvPr/>
        </p:nvSpPr>
        <p:spPr>
          <a:xfrm>
            <a:off x="755640" y="1197000"/>
            <a:ext cx="532908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DE7-CB07-41A8-BBFA-406A623D7E45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标题 1"/>
          <p:cNvSpPr/>
          <p:nvPr/>
        </p:nvSpPr>
        <p:spPr>
          <a:xfrm>
            <a:off x="250920" y="333360"/>
            <a:ext cx="417672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Abou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220px-Roger-london-2008"/>
          <p:cNvPicPr/>
          <p:nvPr/>
        </p:nvPicPr>
        <p:blipFill>
          <a:blip r:embed="rId1"/>
          <a:stretch/>
        </p:blipFill>
        <p:spPr>
          <a:xfrm>
            <a:off x="684360" y="1125360"/>
            <a:ext cx="2673360" cy="3211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635280" y="148428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Roger Von O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v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orist, consultant, writer, speaker, and inven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CWP_Icon_170"/>
          <p:cNvPicPr/>
          <p:nvPr/>
        </p:nvPicPr>
        <p:blipFill>
          <a:blip r:embed="rId2"/>
          <a:stretch/>
        </p:blipFill>
        <p:spPr>
          <a:xfrm>
            <a:off x="6567480" y="3895560"/>
            <a:ext cx="131760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iPhone_Small_Logo_150"/>
          <p:cNvPicPr/>
          <p:nvPr/>
        </p:nvPicPr>
        <p:blipFill>
          <a:blip r:embed="rId3"/>
          <a:stretch/>
        </p:blipFill>
        <p:spPr>
          <a:xfrm>
            <a:off x="7999560" y="3983040"/>
            <a:ext cx="965160" cy="198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Kick_Icon_170"/>
          <p:cNvPicPr/>
          <p:nvPr/>
        </p:nvPicPr>
        <p:blipFill>
          <a:blip r:embed="rId4"/>
          <a:stretch/>
        </p:blipFill>
        <p:spPr>
          <a:xfrm>
            <a:off x="1689120" y="3860640"/>
            <a:ext cx="144288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Whack_Cover_170"/>
          <p:cNvPicPr/>
          <p:nvPr/>
        </p:nvPicPr>
        <p:blipFill>
          <a:blip r:embed="rId5"/>
          <a:stretch/>
        </p:blipFill>
        <p:spPr>
          <a:xfrm>
            <a:off x="179280" y="3860640"/>
            <a:ext cx="1324080" cy="1978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X-Ball_Box"/>
          <p:cNvPicPr/>
          <p:nvPr/>
        </p:nvPicPr>
        <p:blipFill>
          <a:blip r:embed="rId6"/>
          <a:stretch/>
        </p:blipFill>
        <p:spPr>
          <a:xfrm>
            <a:off x="5170320" y="3897360"/>
            <a:ext cx="1346400" cy="19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BOW_Box_157"/>
          <p:cNvPicPr/>
          <p:nvPr/>
        </p:nvPicPr>
        <p:blipFill>
          <a:blip r:embed="rId7"/>
          <a:stretch/>
        </p:blipFill>
        <p:spPr>
          <a:xfrm>
            <a:off x="3203640" y="3860640"/>
            <a:ext cx="1860480" cy="1979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625920" y="2211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Bill-Gates-hader"/>
          <p:cNvPicPr/>
          <p:nvPr/>
        </p:nvPicPr>
        <p:blipFill>
          <a:blip r:embed="rId8"/>
          <a:stretch/>
        </p:blipFill>
        <p:spPr>
          <a:xfrm>
            <a:off x="324000" y="1052640"/>
            <a:ext cx="8572320" cy="353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Steve-Jobs-RIP"/>
          <p:cNvPicPr/>
          <p:nvPr/>
        </p:nvPicPr>
        <p:blipFill>
          <a:blip r:embed="rId9"/>
          <a:stretch/>
        </p:blipFill>
        <p:spPr>
          <a:xfrm>
            <a:off x="468360" y="979560"/>
            <a:ext cx="8137440" cy="58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708360" y="1628640"/>
            <a:ext cx="11527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err</a:t>
            </a:r>
            <a:endParaRPr b="0" lang="en-US" sz="36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395280" y="189000"/>
            <a:ext cx="439272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/ Pre-reading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64000" y="1197000"/>
            <a:ext cx="115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  <a:ea typeface="-머리정체M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780000" y="2421000"/>
            <a:ext cx="165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Times New Roman"/>
                <a:ea typeface="-머리정체M"/>
              </a:rPr>
              <a:t>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8000" y="981000"/>
            <a:ext cx="17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  <a:ea typeface="-머리정체M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908000" y="1413000"/>
            <a:ext cx="12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227640" y="1773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  <a:ea typeface="-머리정체M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003640" y="1413000"/>
            <a:ext cx="17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-머리정체M"/>
              </a:rPr>
              <a:t>w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292720" y="234936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-머리정체M"/>
              </a:rPr>
              <a:t>in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268360" y="2637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imes New Roman"/>
                <a:ea typeface="-머리정체M"/>
              </a:rPr>
              <a:t>mis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932360" y="1916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ff"/>
                </a:solidFill>
                <a:latin typeface="Times New Roman"/>
                <a:ea typeface="-머리정체M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012000" y="105264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00"/>
                </a:solidFill>
                <a:latin typeface="Times New Roman"/>
                <a:ea typeface="-머리정체M"/>
              </a:rPr>
              <a:t>sl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00720" y="90792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-머리정체M"/>
              </a:rPr>
              <a:t>bl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547640" y="2276640"/>
            <a:ext cx="208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9900"/>
                </a:solidFill>
                <a:latin typeface="Times New Roman"/>
                <a:ea typeface="-머리정체M"/>
              </a:rPr>
              <a:t>erron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826920" y="364500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______________________________________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stance, 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2268360" y="191772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  <a:ea typeface="-머리정체M"/>
              </a:rPr>
              <a:t>scre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6411-684F-4D86-8B43-A3B9D5B2C601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04836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258920" y="141300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1835280" y="2131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Hits and Mi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1836720" y="27655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 Different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1836720" y="33415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rrors as Stepping 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8"/>
          <p:cNvSpPr/>
          <p:nvPr/>
        </p:nvSpPr>
        <p:spPr>
          <a:xfrm>
            <a:off x="1836720" y="39895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9"/>
          <p:cNvSpPr/>
          <p:nvPr/>
        </p:nvSpPr>
        <p:spPr>
          <a:xfrm>
            <a:off x="1836720" y="47102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Trying New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0" descr="ball_of_whacks"/>
          <p:cNvPicPr/>
          <p:nvPr/>
        </p:nvPicPr>
        <p:blipFill>
          <a:blip r:embed="rId1"/>
          <a:stretch/>
        </p:blipFill>
        <p:spPr>
          <a:xfrm>
            <a:off x="1332000" y="2205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1" descr="ball_of_whacks"/>
          <p:cNvPicPr/>
          <p:nvPr/>
        </p:nvPicPr>
        <p:blipFill>
          <a:blip r:embed="rId2"/>
          <a:stretch/>
        </p:blipFill>
        <p:spPr>
          <a:xfrm>
            <a:off x="1336680" y="285444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2" descr="ball_of_whacks"/>
          <p:cNvPicPr/>
          <p:nvPr/>
        </p:nvPicPr>
        <p:blipFill>
          <a:blip r:embed="rId3"/>
          <a:stretch/>
        </p:blipFill>
        <p:spPr>
          <a:xfrm>
            <a:off x="1332000" y="3429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3" descr="ball_of_whacks"/>
          <p:cNvPicPr/>
          <p:nvPr/>
        </p:nvPicPr>
        <p:blipFill>
          <a:blip r:embed="rId4"/>
          <a:stretch/>
        </p:blipFill>
        <p:spPr>
          <a:xfrm>
            <a:off x="1359000" y="407664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4" descr="ball_of_whacks"/>
          <p:cNvPicPr/>
          <p:nvPr/>
        </p:nvPicPr>
        <p:blipFill>
          <a:blip r:embed="rId5"/>
          <a:stretch/>
        </p:blipFill>
        <p:spPr>
          <a:xfrm>
            <a:off x="1392120" y="4797360"/>
            <a:ext cx="432000" cy="358920"/>
          </a:xfrm>
          <a:prstGeom prst="rect">
            <a:avLst/>
          </a:prstGeom>
          <a:ln w="0">
            <a:noFill/>
          </a:ln>
        </p:spPr>
      </p:pic>
      <p:sp>
        <p:nvSpPr>
          <p:cNvPr id="130" name="标题 1"/>
          <p:cNvSpPr/>
          <p:nvPr/>
        </p:nvSpPr>
        <p:spPr>
          <a:xfrm>
            <a:off x="250920" y="260280"/>
            <a:ext cx="583380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Text Reading &amp; Compreh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1547640" y="1197000"/>
            <a:ext cx="244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Creativ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7" descr="why"/>
          <p:cNvPicPr/>
          <p:nvPr/>
        </p:nvPicPr>
        <p:blipFill>
          <a:blip r:embed="rId6"/>
          <a:stretch/>
        </p:blipFill>
        <p:spPr>
          <a:xfrm>
            <a:off x="3564000" y="981000"/>
            <a:ext cx="985680" cy="108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8"/>
          <p:cNvSpPr/>
          <p:nvPr/>
        </p:nvSpPr>
        <p:spPr>
          <a:xfrm>
            <a:off x="4500720" y="1197000"/>
            <a:ext cx="16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imes New Roman"/>
              </a:rPr>
              <a:t>Err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B91-384A-434D-AD66-2763B180E563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04836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250920" y="260280"/>
            <a:ext cx="396072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Global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684360" y="907920"/>
            <a:ext cx="5687640" cy="520560"/>
            <a:chOff x="684360" y="907920"/>
            <a:chExt cx="5687640" cy="520560"/>
          </a:xfrm>
        </p:grpSpPr>
        <p:sp>
          <p:nvSpPr>
            <p:cNvPr id="138" name="Text Box 6"/>
            <p:cNvSpPr/>
            <p:nvPr/>
          </p:nvSpPr>
          <p:spPr>
            <a:xfrm>
              <a:off x="1305720" y="907920"/>
              <a:ext cx="50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Hits and Mi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7" descr="ball_of_whacks"/>
            <p:cNvPicPr/>
            <p:nvPr/>
          </p:nvPicPr>
          <p:blipFill>
            <a:blip r:embed="rId1"/>
            <a:stretch/>
          </p:blipFill>
          <p:spPr>
            <a:xfrm>
              <a:off x="684360" y="995400"/>
              <a:ext cx="53280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8"/>
          <p:cNvGrpSpPr/>
          <p:nvPr/>
        </p:nvGrpSpPr>
        <p:grpSpPr>
          <a:xfrm>
            <a:off x="4788000" y="5157720"/>
            <a:ext cx="2808360" cy="576000"/>
            <a:chOff x="4788000" y="5157720"/>
            <a:chExt cx="2808360" cy="576000"/>
          </a:xfrm>
        </p:grpSpPr>
        <p:sp>
          <p:nvSpPr>
            <p:cNvPr id="141" name="Rectangle 9"/>
            <p:cNvSpPr/>
            <p:nvPr/>
          </p:nvSpPr>
          <p:spPr>
            <a:xfrm>
              <a:off x="4788000" y="5157720"/>
              <a:ext cx="2808360" cy="57600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5651640" y="516240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Error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4788000" y="2421000"/>
            <a:ext cx="2808360" cy="576000"/>
            <a:chOff x="4788000" y="2421000"/>
            <a:chExt cx="2808360" cy="576000"/>
          </a:xfrm>
        </p:grpSpPr>
        <p:sp>
          <p:nvSpPr>
            <p:cNvPr id="144" name="Rectangle 12"/>
            <p:cNvSpPr/>
            <p:nvPr/>
          </p:nvSpPr>
          <p:spPr>
            <a:xfrm>
              <a:off x="4788000" y="2421000"/>
              <a:ext cx="2808360" cy="57600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5581800" y="24210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Mi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4788000" y="3716280"/>
            <a:ext cx="2808360" cy="576360"/>
            <a:chOff x="4788000" y="3716280"/>
            <a:chExt cx="2808360" cy="576360"/>
          </a:xfrm>
        </p:grpSpPr>
        <p:sp>
          <p:nvSpPr>
            <p:cNvPr id="147" name="Rectangle 15"/>
            <p:cNvSpPr/>
            <p:nvPr/>
          </p:nvSpPr>
          <p:spPr>
            <a:xfrm>
              <a:off x="4788000" y="3716280"/>
              <a:ext cx="2808360" cy="57636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508720" y="3716280"/>
              <a:ext cx="16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Failure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716280"/>
            <a:ext cx="2808000" cy="576360"/>
            <a:chOff x="611280" y="3716280"/>
            <a:chExt cx="2808000" cy="576360"/>
          </a:xfrm>
        </p:grpSpPr>
        <p:sp>
          <p:nvSpPr>
            <p:cNvPr id="150" name="Rectangle 18"/>
            <p:cNvSpPr/>
            <p:nvPr/>
          </p:nvSpPr>
          <p:spPr>
            <a:xfrm>
              <a:off x="611280" y="3716280"/>
              <a:ext cx="2808000" cy="57636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1403280" y="371628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Succes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20"/>
          <p:cNvGrpSpPr/>
          <p:nvPr/>
        </p:nvGrpSpPr>
        <p:grpSpPr>
          <a:xfrm>
            <a:off x="611280" y="2421000"/>
            <a:ext cx="2808360" cy="576000"/>
            <a:chOff x="611280" y="2421000"/>
            <a:chExt cx="2808360" cy="576000"/>
          </a:xfrm>
        </p:grpSpPr>
        <p:sp>
          <p:nvSpPr>
            <p:cNvPr id="153" name="Rectangle 21"/>
            <p:cNvSpPr/>
            <p:nvPr/>
          </p:nvSpPr>
          <p:spPr>
            <a:xfrm>
              <a:off x="611280" y="2421000"/>
              <a:ext cx="2808360" cy="5760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2dd5ab"/>
                </a:gs>
              </a:gsLst>
              <a:lin ang="5400000"/>
            </a:gra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1403280" y="24368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Hit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23"/>
          <p:cNvGrpSpPr/>
          <p:nvPr/>
        </p:nvGrpSpPr>
        <p:grpSpPr>
          <a:xfrm>
            <a:off x="611280" y="5143680"/>
            <a:ext cx="3170160" cy="591840"/>
            <a:chOff x="611280" y="5143680"/>
            <a:chExt cx="3170160" cy="591840"/>
          </a:xfrm>
        </p:grpSpPr>
        <p:sp>
          <p:nvSpPr>
            <p:cNvPr id="156" name="Rectangle 24"/>
            <p:cNvSpPr/>
            <p:nvPr/>
          </p:nvSpPr>
          <p:spPr>
            <a:xfrm>
              <a:off x="611280" y="5143680"/>
              <a:ext cx="2808360" cy="57600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971640" y="5214960"/>
              <a:ext cx="28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Good Ideas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AutoShape 26"/>
          <p:cNvSpPr/>
          <p:nvPr/>
        </p:nvSpPr>
        <p:spPr>
          <a:xfrm>
            <a:off x="4211640" y="263700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3419640" y="2637000"/>
            <a:ext cx="576000" cy="215640"/>
          </a:xfrm>
          <a:prstGeom prst="leftArrow">
            <a:avLst>
              <a:gd name="adj1" fmla="val 50000"/>
              <a:gd name="adj2" fmla="val 66778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8"/>
          <p:cNvSpPr/>
          <p:nvPr/>
        </p:nvSpPr>
        <p:spPr>
          <a:xfrm>
            <a:off x="4211640" y="3860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3419640" y="3860640"/>
            <a:ext cx="576000" cy="216000"/>
          </a:xfrm>
          <a:prstGeom prst="lef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0"/>
          <p:cNvSpPr/>
          <p:nvPr/>
        </p:nvSpPr>
        <p:spPr>
          <a:xfrm>
            <a:off x="4211640" y="537372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1"/>
          <p:cNvSpPr/>
          <p:nvPr/>
        </p:nvSpPr>
        <p:spPr>
          <a:xfrm>
            <a:off x="3419640" y="5373720"/>
            <a:ext cx="576000" cy="216000"/>
          </a:xfrm>
          <a:prstGeom prst="lef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2843280" y="406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2844720" y="2781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556000" y="55022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755640" y="134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graph 2: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 “…the same energy which generates good      creative ideas also produces erro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93 0.03264 L 0.45921 0.0956 E">
                                      <p:cBhvr>
                                        <p:cTn id="153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00018 0.04723 E">
                                      <p:cBhvr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74 0.03167 L 0.45868 0.09477 E">
                                      <p:cBhvr>
                                        <p:cTn id="174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1574 L 0.00018 0.05787 E">
                                      <p:cBhvr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0.05247 L 0.45868 0.09478 E">
                                      <p:cBhvr>
                                        <p:cTn id="197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0.00018 0.04722 E">
                                      <p:cBhvr>
                                        <p:cTn id="199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B34-09C6-4C05-947D-D0D22B4B9671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04836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1258920" y="141300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835280" y="14698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Hits and Mi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836720" y="21178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 Different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836720" y="26938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Errors as Stepping 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836720" y="33415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836720" y="40622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Trying New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ball_of_whacks"/>
          <p:cNvPicPr/>
          <p:nvPr/>
        </p:nvPicPr>
        <p:blipFill>
          <a:blip r:embed="rId1"/>
          <a:stretch/>
        </p:blipFill>
        <p:spPr>
          <a:xfrm>
            <a:off x="1332000" y="155736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ball_of_whacks"/>
          <p:cNvPicPr/>
          <p:nvPr/>
        </p:nvPicPr>
        <p:blipFill>
          <a:blip r:embed="rId2"/>
          <a:stretch/>
        </p:blipFill>
        <p:spPr>
          <a:xfrm>
            <a:off x="1336680" y="2206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ball_of_whacks"/>
          <p:cNvPicPr/>
          <p:nvPr/>
        </p:nvPicPr>
        <p:blipFill>
          <a:blip r:embed="rId3"/>
          <a:stretch/>
        </p:blipFill>
        <p:spPr>
          <a:xfrm>
            <a:off x="1359000" y="278136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ball_of_whacks"/>
          <p:cNvPicPr/>
          <p:nvPr/>
        </p:nvPicPr>
        <p:blipFill>
          <a:blip r:embed="rId4"/>
          <a:stretch/>
        </p:blipFill>
        <p:spPr>
          <a:xfrm>
            <a:off x="1359000" y="3429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ball_of_whacks"/>
          <p:cNvPicPr/>
          <p:nvPr/>
        </p:nvPicPr>
        <p:blipFill>
          <a:blip r:embed="rId5"/>
          <a:stretch/>
        </p:blipFill>
        <p:spPr>
          <a:xfrm>
            <a:off x="1392120" y="4149720"/>
            <a:ext cx="432000" cy="358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6"/>
          <p:cNvSpPr/>
          <p:nvPr/>
        </p:nvSpPr>
        <p:spPr>
          <a:xfrm>
            <a:off x="4284720" y="147492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ducts of the sam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标题 1"/>
          <p:cNvSpPr/>
          <p:nvPr/>
        </p:nvSpPr>
        <p:spPr>
          <a:xfrm>
            <a:off x="250920" y="260280"/>
            <a:ext cx="583380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Text Reading &amp; Compreh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9AE-CBDC-4FD7-A200-4E3DA035C718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04836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1258920" y="141300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826920" y="1052640"/>
            <a:ext cx="5976720" cy="520560"/>
            <a:chOff x="826920" y="1052640"/>
            <a:chExt cx="5976720" cy="520560"/>
          </a:xfrm>
        </p:grpSpPr>
        <p:sp>
          <p:nvSpPr>
            <p:cNvPr id="187" name="Text Box 7"/>
            <p:cNvSpPr/>
            <p:nvPr/>
          </p:nvSpPr>
          <p:spPr>
            <a:xfrm>
              <a:off x="1476000" y="1052640"/>
              <a:ext cx="53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A Different Logic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Picture 12" descr="ball_of_whacks"/>
            <p:cNvPicPr/>
            <p:nvPr/>
          </p:nvPicPr>
          <p:blipFill>
            <a:blip r:embed="rId1"/>
            <a:stretch/>
          </p:blipFill>
          <p:spPr>
            <a:xfrm>
              <a:off x="826920" y="1141560"/>
              <a:ext cx="560160" cy="35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18"/>
          <p:cNvGrpSpPr/>
          <p:nvPr/>
        </p:nvGrpSpPr>
        <p:grpSpPr>
          <a:xfrm>
            <a:off x="1547640" y="2492280"/>
            <a:ext cx="1920960" cy="1295640"/>
            <a:chOff x="1547640" y="2492280"/>
            <a:chExt cx="1920960" cy="1295640"/>
          </a:xfrm>
        </p:grpSpPr>
        <p:sp>
          <p:nvSpPr>
            <p:cNvPr id="190" name="AutoShape 19"/>
            <p:cNvSpPr/>
            <p:nvPr/>
          </p:nvSpPr>
          <p:spPr>
            <a:xfrm>
              <a:off x="1598400" y="2492280"/>
              <a:ext cx="1870200" cy="12956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1547640" y="2708280"/>
              <a:ext cx="1869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25"/>
          <p:cNvGrpSpPr/>
          <p:nvPr/>
        </p:nvGrpSpPr>
        <p:grpSpPr>
          <a:xfrm>
            <a:off x="4307040" y="2494080"/>
            <a:ext cx="1920240" cy="1295280"/>
            <a:chOff x="4307040" y="2494080"/>
            <a:chExt cx="1920240" cy="1295280"/>
          </a:xfrm>
        </p:grpSpPr>
        <p:sp>
          <p:nvSpPr>
            <p:cNvPr id="193" name="AutoShape 26"/>
            <p:cNvSpPr/>
            <p:nvPr/>
          </p:nvSpPr>
          <p:spPr>
            <a:xfrm>
              <a:off x="4357440" y="2494080"/>
              <a:ext cx="1869840" cy="129528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4307040" y="2709720"/>
              <a:ext cx="186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ffe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1547640" y="4941720"/>
            <a:ext cx="1920960" cy="1224000"/>
            <a:chOff x="1547640" y="4941720"/>
            <a:chExt cx="1920960" cy="1224000"/>
          </a:xfrm>
        </p:grpSpPr>
        <p:sp>
          <p:nvSpPr>
            <p:cNvPr id="196" name="AutoShape 30"/>
            <p:cNvSpPr/>
            <p:nvPr/>
          </p:nvSpPr>
          <p:spPr>
            <a:xfrm>
              <a:off x="1598400" y="4941720"/>
              <a:ext cx="1870200" cy="12240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31"/>
            <p:cNvSpPr/>
            <p:nvPr/>
          </p:nvSpPr>
          <p:spPr>
            <a:xfrm>
              <a:off x="1547640" y="5147280"/>
              <a:ext cx="186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err is      wr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4356000" y="4941720"/>
            <a:ext cx="1920960" cy="1224000"/>
            <a:chOff x="4356000" y="4941720"/>
            <a:chExt cx="1920960" cy="1224000"/>
          </a:xfrm>
        </p:grpSpPr>
        <p:sp>
          <p:nvSpPr>
            <p:cNvPr id="199" name="AutoShape 33"/>
            <p:cNvSpPr/>
            <p:nvPr/>
          </p:nvSpPr>
          <p:spPr>
            <a:xfrm>
              <a:off x="4406760" y="4941720"/>
              <a:ext cx="1870200" cy="1224000"/>
            </a:xfrm>
            <a:prstGeom prst="roundRect">
              <a:avLst>
                <a:gd name="adj" fmla="val 16667"/>
              </a:avLst>
            </a:prstGeom>
            <a:solidFill>
              <a:srgbClr val="ff33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4"/>
            <p:cNvSpPr/>
            <p:nvPr/>
          </p:nvSpPr>
          <p:spPr>
            <a:xfrm>
              <a:off x="4356000" y="5147280"/>
              <a:ext cx="186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err is      not wr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AutoShape 35"/>
          <p:cNvSpPr/>
          <p:nvPr/>
        </p:nvSpPr>
        <p:spPr>
          <a:xfrm>
            <a:off x="3492360" y="3070080"/>
            <a:ext cx="792360" cy="287640"/>
          </a:xfrm>
          <a:prstGeom prst="leftRightArrow">
            <a:avLst>
              <a:gd name="adj1" fmla="val 50000"/>
              <a:gd name="adj2" fmla="val 54839"/>
            </a:avLst>
          </a:prstGeom>
          <a:solidFill>
            <a:srgbClr val="cc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6"/>
          <p:cNvSpPr/>
          <p:nvPr/>
        </p:nvSpPr>
        <p:spPr>
          <a:xfrm>
            <a:off x="2340000" y="3862440"/>
            <a:ext cx="360360" cy="1079280"/>
          </a:xfrm>
          <a:prstGeom prst="downArrow">
            <a:avLst>
              <a:gd name="adj1" fmla="val 50000"/>
              <a:gd name="adj2" fmla="val 74875"/>
            </a:avLst>
          </a:prstGeom>
          <a:solidFill>
            <a:srgbClr val="ccffcc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7"/>
          <p:cNvSpPr/>
          <p:nvPr/>
        </p:nvSpPr>
        <p:spPr>
          <a:xfrm>
            <a:off x="5075280" y="3862440"/>
            <a:ext cx="360360" cy="1079280"/>
          </a:xfrm>
          <a:prstGeom prst="downArrow">
            <a:avLst>
              <a:gd name="adj1" fmla="val 50000"/>
              <a:gd name="adj2" fmla="val 74875"/>
            </a:avLst>
          </a:prstGeom>
          <a:solidFill>
            <a:srgbClr val="ff33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250920" y="260280"/>
            <a:ext cx="576108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Text Reading &amp; Compreh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468360" y="1557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graph 2: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 “…errors are viewed as a necessary by-product of creative think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5" descr="speech bubble 3"/>
          <p:cNvPicPr/>
          <p:nvPr/>
        </p:nvPicPr>
        <p:blipFill>
          <a:blip r:embed="rId2"/>
          <a:stretch/>
        </p:blipFill>
        <p:spPr>
          <a:xfrm>
            <a:off x="6300720" y="3645000"/>
            <a:ext cx="2448000" cy="170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6E8-31E6-43B0-AEEC-46B5C44C015B}" type="slidenum">
              <a:rPr b="0" lang="en-US" sz="1400" spc="-1" strike="noStrike">
                <a:solidFill>
                  <a:srgbClr val="000000"/>
                </a:solidFill>
                <a:latin typeface="-머리정체M"/>
                <a:ea typeface="-머리정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04836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9d5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1258920" y="141300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标题 1"/>
          <p:cNvSpPr/>
          <p:nvPr/>
        </p:nvSpPr>
        <p:spPr>
          <a:xfrm>
            <a:off x="250920" y="260280"/>
            <a:ext cx="3816360" cy="504720"/>
          </a:xfrm>
          <a:prstGeom prst="rect">
            <a:avLst/>
          </a:prstGeom>
          <a:gradFill rotWithShape="0">
            <a:gsLst>
              <a:gs pos="0">
                <a:srgbClr val="9eecc5"/>
              </a:gs>
              <a:gs pos="100000">
                <a:srgbClr val="e2f8ec"/>
              </a:gs>
            </a:gsLst>
            <a:lin ang="0"/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a9d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To Err is Wrong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-머리정체M"/>
              </a:rPr>
              <a:t> / Global 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5"/>
          <p:cNvGrpSpPr/>
          <p:nvPr/>
        </p:nvGrpSpPr>
        <p:grpSpPr>
          <a:xfrm>
            <a:off x="971640" y="1469880"/>
            <a:ext cx="4606920" cy="520560"/>
            <a:chOff x="971640" y="1469880"/>
            <a:chExt cx="4606920" cy="520560"/>
          </a:xfrm>
        </p:grpSpPr>
        <p:sp>
          <p:nvSpPr>
            <p:cNvPr id="212" name="Text Box 6"/>
            <p:cNvSpPr/>
            <p:nvPr/>
          </p:nvSpPr>
          <p:spPr>
            <a:xfrm>
              <a:off x="1474920" y="146988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Hits and Mi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Picture 11" descr="ball_of_whacks"/>
            <p:cNvPicPr/>
            <p:nvPr/>
          </p:nvPicPr>
          <p:blipFill>
            <a:blip r:embed="rId1"/>
            <a:stretch/>
          </p:blipFill>
          <p:spPr>
            <a:xfrm>
              <a:off x="971640" y="1557360"/>
              <a:ext cx="43164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26"/>
          <p:cNvGrpSpPr/>
          <p:nvPr/>
        </p:nvGrpSpPr>
        <p:grpSpPr>
          <a:xfrm>
            <a:off x="971640" y="2117880"/>
            <a:ext cx="4603680" cy="520560"/>
            <a:chOff x="971640" y="2117880"/>
            <a:chExt cx="4603680" cy="520560"/>
          </a:xfrm>
        </p:grpSpPr>
        <p:sp>
          <p:nvSpPr>
            <p:cNvPr id="215" name="Text Box 7"/>
            <p:cNvSpPr/>
            <p:nvPr/>
          </p:nvSpPr>
          <p:spPr>
            <a:xfrm>
              <a:off x="1471680" y="211788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A Different Log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Picture 12" descr="ball_of_whacks"/>
            <p:cNvPicPr/>
            <p:nvPr/>
          </p:nvPicPr>
          <p:blipFill>
            <a:blip r:embed="rId2"/>
            <a:stretch/>
          </p:blipFill>
          <p:spPr>
            <a:xfrm>
              <a:off x="971640" y="2206800"/>
              <a:ext cx="431640" cy="35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27"/>
          <p:cNvGrpSpPr/>
          <p:nvPr/>
        </p:nvGrpSpPr>
        <p:grpSpPr>
          <a:xfrm>
            <a:off x="971640" y="2981160"/>
            <a:ext cx="4941720" cy="520560"/>
            <a:chOff x="971640" y="2981160"/>
            <a:chExt cx="4941720" cy="520560"/>
          </a:xfrm>
        </p:grpSpPr>
        <p:sp>
          <p:nvSpPr>
            <p:cNvPr id="218" name="Text Box 8"/>
            <p:cNvSpPr/>
            <p:nvPr/>
          </p:nvSpPr>
          <p:spPr>
            <a:xfrm>
              <a:off x="1449360" y="2981160"/>
              <a:ext cx="44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Errors as Stepping St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Picture 13" descr="ball_of_whacks"/>
            <p:cNvPicPr/>
            <p:nvPr/>
          </p:nvPicPr>
          <p:blipFill>
            <a:blip r:embed="rId3"/>
            <a:stretch/>
          </p:blipFill>
          <p:spPr>
            <a:xfrm>
              <a:off x="971640" y="3070080"/>
              <a:ext cx="43164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28"/>
          <p:cNvGrpSpPr/>
          <p:nvPr/>
        </p:nvGrpSpPr>
        <p:grpSpPr>
          <a:xfrm>
            <a:off x="1003320" y="3557520"/>
            <a:ext cx="3717720" cy="520560"/>
            <a:chOff x="1003320" y="3557520"/>
            <a:chExt cx="3717720" cy="520560"/>
          </a:xfrm>
        </p:grpSpPr>
        <p:sp>
          <p:nvSpPr>
            <p:cNvPr id="221" name="Text Box 9"/>
            <p:cNvSpPr/>
            <p:nvPr/>
          </p:nvSpPr>
          <p:spPr>
            <a:xfrm>
              <a:off x="1481040" y="355752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Negative Feedba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Picture 14" descr="ball_of_whacks"/>
            <p:cNvPicPr/>
            <p:nvPr/>
          </p:nvPicPr>
          <p:blipFill>
            <a:blip r:embed="rId4"/>
            <a:stretch/>
          </p:blipFill>
          <p:spPr>
            <a:xfrm>
              <a:off x="1003320" y="3646440"/>
              <a:ext cx="43164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Group 29"/>
          <p:cNvGrpSpPr/>
          <p:nvPr/>
        </p:nvGrpSpPr>
        <p:grpSpPr>
          <a:xfrm>
            <a:off x="1042920" y="4278240"/>
            <a:ext cx="4548240" cy="520560"/>
            <a:chOff x="1042920" y="4278240"/>
            <a:chExt cx="4548240" cy="520560"/>
          </a:xfrm>
        </p:grpSpPr>
        <p:sp>
          <p:nvSpPr>
            <p:cNvPr id="224" name="Text Box 10"/>
            <p:cNvSpPr/>
            <p:nvPr/>
          </p:nvSpPr>
          <p:spPr>
            <a:xfrm>
              <a:off x="1487520" y="427824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Trying New Th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15" descr="ball_of_whacks"/>
            <p:cNvPicPr/>
            <p:nvPr/>
          </p:nvPicPr>
          <p:blipFill>
            <a:blip r:embed="rId5"/>
            <a:stretch/>
          </p:blipFill>
          <p:spPr>
            <a:xfrm>
              <a:off x="1042920" y="4365720"/>
              <a:ext cx="432000" cy="35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Text Box 16"/>
          <p:cNvSpPr/>
          <p:nvPr/>
        </p:nvSpPr>
        <p:spPr>
          <a:xfrm>
            <a:off x="3995640" y="14749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ducts of the sam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4284720" y="2112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rrors: a by-product of creative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5872320" y="3000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5506920" y="2997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5153040" y="36021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direct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4500720" y="3573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4572000" y="42782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order to b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6618240" y="42973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no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31"/>
          <p:cNvGrpSpPr/>
          <p:nvPr/>
        </p:nvGrpSpPr>
        <p:grpSpPr>
          <a:xfrm>
            <a:off x="971640" y="3573360"/>
            <a:ext cx="3717720" cy="520560"/>
            <a:chOff x="971640" y="3573360"/>
            <a:chExt cx="3717720" cy="520560"/>
          </a:xfrm>
        </p:grpSpPr>
        <p:sp>
          <p:nvSpPr>
            <p:cNvPr id="235" name="Text Box 32"/>
            <p:cNvSpPr/>
            <p:nvPr/>
          </p:nvSpPr>
          <p:spPr>
            <a:xfrm>
              <a:off x="1449360" y="357336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Err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Picture 33" descr="ball_of_whacks"/>
            <p:cNvPicPr/>
            <p:nvPr/>
          </p:nvPicPr>
          <p:blipFill>
            <a:blip r:embed="rId6"/>
            <a:stretch/>
          </p:blipFill>
          <p:spPr>
            <a:xfrm>
              <a:off x="971640" y="3662280"/>
              <a:ext cx="431640" cy="358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Lenovo</dc:creator>
  <dc:description/>
  <dc:language>en-US</dc:language>
  <cp:lastModifiedBy>USER-</cp:lastModifiedBy>
  <dcterms:modified xsi:type="dcterms:W3CDTF">2015-11-30T04:30:46Z</dcterms:modified>
  <cp:revision>50</cp:revision>
  <dc:subject/>
  <dc:title>A Few Kind Words for Superst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