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06F8-F403-4FD5-BC39-FA5DCC3E6A2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A1E9-4961-4466-BBD6-E0D68B314F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B88B-5CFF-44B3-8211-FA48F1A028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A12A-C638-4E21-9342-4B0FE2E30D9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C0E6-3DB3-419B-8EFA-DD2CC5DE23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B85-9BF1-427E-A1DE-9B785C69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030-19D9-4018-9A77-9B0E9C8B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319-CDEA-465F-9639-0635364E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95B-16AF-45DF-885D-B1D290E4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A9BA-9EFA-4D79-8C0A-6D2BC597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6834-A990-4A95-A2A5-4D115783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7C50-19DE-41C6-B692-E83335A0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34E5-DDCE-408F-953F-21977395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C3B7-235F-4026-B0FD-B6C73095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7692-9E72-4DC4-9BAA-DC9575A2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8639-2FD7-4BFE-AC32-7923A029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E3D8-0E44-409A-98F3-DB10C144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C064-95A5-4E24-8400-C4DC1024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FC1B-A0A8-467B-A172-0DD0105F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3126-808E-4B68-9216-D70DA66C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AAFA-98C8-4D2B-9D06-CAC7516A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473D-C0BD-413D-985A-AE06F936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84F7F-2999-44C1-9EAD-90AD2A49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3EAB3-CD21-42DE-88F2-ADEBDEA6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D68F0-5A24-4E03-98B6-60EFE079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317D5-632C-438F-A694-14431E1C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6858F-48AB-4282-B925-CA8F63B6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9176-8743-471F-B18B-4C60FE02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2A91C-2C70-4710-91B3-AEDCC3A0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54DB5-1B38-4E0D-A248-B6334012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A889B-C9E4-42DC-8A61-BC904A05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DCF01-71D4-453C-91E6-6DFE1038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EB25D-C2A1-4C34-969A-DA006B2B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E799F-6443-4CC8-A5AD-40A20804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FFBCF-15FC-4F19-ABAB-A2BE0F67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D47-2C44-4069-A2DB-6F96FCE1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DE0-16CE-4D69-A3F5-89D058EA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C9B4-53A2-4D1F-982C-15A860DD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0AB-87B0-47C6-BEA7-EABB321E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617-140F-4D8C-B830-AF2524C3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A2CF-D952-486A-B94D-5E66541B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演示模板底稿6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3B23-E03C-4E39-9CAA-C976362BE3D4}" type="slidenum"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CDC2-0C7B-4690-9D28-DE4569AC10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演示模板底稿5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DB77-F1EB-41D8-BC8D-355B58FDDC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-360" y="4800600"/>
            <a:ext cx="51116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To Err is Wrong</a:t>
            </a:r>
            <a:endParaRPr b="0" lang="en-US" sz="4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3000240" y="607212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oger von O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标注 2"/>
          <p:cNvSpPr/>
          <p:nvPr/>
        </p:nvSpPr>
        <p:spPr>
          <a:xfrm>
            <a:off x="714240" y="2214720"/>
            <a:ext cx="7858440" cy="12142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ccc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From a practical point of view, “to err is wrong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makes sens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标注 11"/>
          <p:cNvSpPr/>
          <p:nvPr/>
        </p:nvSpPr>
        <p:spPr>
          <a:xfrm>
            <a:off x="714240" y="4786200"/>
            <a:ext cx="7956720" cy="15004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ccc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evertheless, too great adherence to the belief “to err is wrong” can greatly undermine your attempts to generate new idea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0"/>
          <p:cNvSpPr/>
          <p:nvPr/>
        </p:nvSpPr>
        <p:spPr>
          <a:xfrm>
            <a:off x="0" y="0"/>
            <a:ext cx="5000760" cy="579240"/>
          </a:xfrm>
          <a:prstGeom prst="rect">
            <a:avLst/>
          </a:prstGeom>
          <a:solidFill>
            <a:srgbClr val="800000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Understanding rebut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折角形 7"/>
          <p:cNvSpPr/>
          <p:nvPr/>
        </p:nvSpPr>
        <p:spPr>
          <a:xfrm>
            <a:off x="5035680" y="-44280"/>
            <a:ext cx="4103640" cy="1044360"/>
          </a:xfrm>
          <a:prstGeom prst="foldedCorner">
            <a:avLst>
              <a:gd name="adj" fmla="val 25893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微软雅黑"/>
              </a:rPr>
              <a:t>Concession-refutatio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微软雅黑"/>
              </a:rPr>
              <a:t>          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微软雅黑"/>
              </a:rPr>
              <a:t>strate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8"/>
          <p:cNvSpPr/>
          <p:nvPr/>
        </p:nvSpPr>
        <p:spPr>
          <a:xfrm>
            <a:off x="214200" y="1000080"/>
            <a:ext cx="3132360" cy="121464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Conc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12"/>
          <p:cNvSpPr/>
          <p:nvPr/>
        </p:nvSpPr>
        <p:spPr>
          <a:xfrm>
            <a:off x="285840" y="3571920"/>
            <a:ext cx="2771640" cy="12142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Ref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725760" y="4857840"/>
            <a:ext cx="209340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verth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标注 11"/>
          <p:cNvSpPr/>
          <p:nvPr/>
        </p:nvSpPr>
        <p:spPr>
          <a:xfrm>
            <a:off x="714240" y="2208240"/>
            <a:ext cx="7667640" cy="863640"/>
          </a:xfrm>
          <a:prstGeom prst="wedgeRectCallout">
            <a:avLst>
              <a:gd name="adj1" fmla="val -21208"/>
              <a:gd name="adj2" fmla="val 52175"/>
            </a:avLst>
          </a:prstGeom>
          <a:solidFill>
            <a:srgbClr val="ffcccc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f you’re more concerned with producing righ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形标注 4"/>
          <p:cNvSpPr/>
          <p:nvPr/>
        </p:nvSpPr>
        <p:spPr>
          <a:xfrm>
            <a:off x="285840" y="955800"/>
            <a:ext cx="2843280" cy="1044360"/>
          </a:xfrm>
          <a:prstGeom prst="wedgeEllipseCallout">
            <a:avLst>
              <a:gd name="adj1" fmla="val 15972"/>
              <a:gd name="adj2" fmla="val 81018"/>
            </a:avLst>
          </a:prstGeom>
          <a:solidFill>
            <a:srgbClr val="ffffcc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Ref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标注 12"/>
          <p:cNvSpPr/>
          <p:nvPr/>
        </p:nvSpPr>
        <p:spPr>
          <a:xfrm>
            <a:off x="142920" y="3786120"/>
            <a:ext cx="8748720" cy="863640"/>
          </a:xfrm>
          <a:prstGeom prst="wedgeRectCallout">
            <a:avLst>
              <a:gd name="adj1" fmla="val -21208"/>
              <a:gd name="adj2" fmla="val 52175"/>
            </a:avLst>
          </a:prstGeom>
          <a:solidFill>
            <a:srgbClr val="ffcccc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you’ll make uncritical use of the rules, formulae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标注 13"/>
          <p:cNvSpPr/>
          <p:nvPr/>
        </p:nvSpPr>
        <p:spPr>
          <a:xfrm>
            <a:off x="642960" y="5494320"/>
            <a:ext cx="8207280" cy="863640"/>
          </a:xfrm>
          <a:prstGeom prst="wedgeRectCallout">
            <a:avLst>
              <a:gd name="adj1" fmla="val -21208"/>
              <a:gd name="adj2" fmla="val 52175"/>
            </a:avLst>
          </a:prstGeom>
          <a:solidFill>
            <a:srgbClr val="ffcccc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you’ll by-pass the germinal phase of the cre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thin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左弧形箭头 18"/>
          <p:cNvSpPr/>
          <p:nvPr/>
        </p:nvSpPr>
        <p:spPr>
          <a:xfrm>
            <a:off x="127080" y="2428920"/>
            <a:ext cx="730080" cy="1439640"/>
          </a:xfrm>
          <a:custGeom>
            <a:avLst/>
            <a:gdLst>
              <a:gd name="textAreaLeft" fmla="*/ 97560 w 730080"/>
              <a:gd name="textAreaRight" fmla="*/ 632520 w 730080"/>
              <a:gd name="textAreaTop" fmla="*/ 291240 h 1439640"/>
              <a:gd name="textAreaBottom" fmla="*/ 105696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46" stAng="-5400000" swAng="-5400000"/>
                <a:lnTo>
                  <a:pt x="0" y="11485"/>
                </a:lnTo>
                <a:arcTo wR="21600" hR="8746" stAng="10800000" swAng="-3448524"/>
                <a:lnTo>
                  <a:pt x="16200" y="21322"/>
                </a:lnTo>
                <a:lnTo>
                  <a:pt x="21600" y="18862"/>
                </a:lnTo>
                <a:lnTo>
                  <a:pt x="16200" y="15845"/>
                </a:lnTo>
                <a:lnTo>
                  <a:pt x="16200" y="17214"/>
                </a:lnTo>
                <a:arcTo wR="21600" hR="8746" stAng="7351476" swAng="3228142"/>
                <a:lnTo>
                  <a:pt x="266" y="10115"/>
                </a:lnTo>
                <a:arcTo wR="21600" hR="8746" stAng="-10579617" swAng="5179617"/>
                <a:close/>
              </a:path>
              <a:path fill="darkenLess" w="21600" h="21600">
                <a:moveTo>
                  <a:pt x="21600" y="0"/>
                </a:moveTo>
                <a:arcTo wR="21600" hR="8746" stAng="-5400000" swAng="-5400000"/>
                <a:lnTo>
                  <a:pt x="0" y="8746"/>
                </a:lnTo>
                <a:arcTo wR="21600" hR="8746" stAng="10800000" swAng="-220383"/>
                <a:lnTo>
                  <a:pt x="266" y="10115"/>
                </a:lnTo>
                <a:arcTo wR="21600" hR="8746" stAng="-10579617" swAng="5179617"/>
                <a:close/>
              </a:path>
            </a:pathLst>
          </a:custGeom>
          <a:solidFill>
            <a:srgbClr val="ffffcc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左弧形箭头 19"/>
          <p:cNvSpPr/>
          <p:nvPr/>
        </p:nvSpPr>
        <p:spPr>
          <a:xfrm>
            <a:off x="142920" y="4572000"/>
            <a:ext cx="730080" cy="1143000"/>
          </a:xfrm>
          <a:custGeom>
            <a:avLst/>
            <a:gdLst>
              <a:gd name="textAreaLeft" fmla="*/ 97560 w 730080"/>
              <a:gd name="textAreaRight" fmla="*/ 632520 w 730080"/>
              <a:gd name="textAreaTop" fmla="*/ 217080 h 1143000"/>
              <a:gd name="textAreaBottom" fmla="*/ 834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13" stAng="-5400000" swAng="-5400000"/>
                <a:lnTo>
                  <a:pt x="0" y="11663"/>
                </a:lnTo>
                <a:arcTo wR="21600" hR="8213" stAng="10800000" swAng="-3349178"/>
                <a:lnTo>
                  <a:pt x="16200" y="21339"/>
                </a:lnTo>
                <a:lnTo>
                  <a:pt x="21600" y="18150"/>
                </a:lnTo>
                <a:lnTo>
                  <a:pt x="16200" y="14439"/>
                </a:lnTo>
                <a:lnTo>
                  <a:pt x="16200" y="16164"/>
                </a:lnTo>
                <a:arcTo wR="21600" hR="8213" stAng="7450822" swAng="3068993"/>
                <a:lnTo>
                  <a:pt x="482" y="9938"/>
                </a:lnTo>
                <a:arcTo wR="21600" hR="8213" stAng="-10519815" swAng="5119815"/>
                <a:close/>
              </a:path>
              <a:path fill="darkenLess" w="21600" h="21600">
                <a:moveTo>
                  <a:pt x="21600" y="0"/>
                </a:moveTo>
                <a:arcTo wR="21600" hR="8213" stAng="-5400000" swAng="-5400000"/>
                <a:lnTo>
                  <a:pt x="0" y="8213"/>
                </a:lnTo>
                <a:arcTo wR="21600" hR="8213" stAng="10800000" swAng="-280185"/>
                <a:lnTo>
                  <a:pt x="482" y="9938"/>
                </a:lnTo>
                <a:arcTo wR="21600" hR="8213" stAng="-10519815" swAng="5119815"/>
                <a:close/>
              </a:path>
            </a:pathLst>
          </a:custGeom>
          <a:solidFill>
            <a:srgbClr val="ffffcc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8"/>
          <p:cNvSpPr/>
          <p:nvPr/>
        </p:nvSpPr>
        <p:spPr>
          <a:xfrm>
            <a:off x="3240" y="0"/>
            <a:ext cx="4925880" cy="579240"/>
          </a:xfrm>
          <a:prstGeom prst="rect">
            <a:avLst/>
          </a:prstGeom>
          <a:solidFill>
            <a:srgbClr val="800000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Understanding rebut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折角形 10"/>
          <p:cNvSpPr/>
          <p:nvPr/>
        </p:nvSpPr>
        <p:spPr>
          <a:xfrm>
            <a:off x="4929120" y="-44280"/>
            <a:ext cx="4210200" cy="1044360"/>
          </a:xfrm>
          <a:prstGeom prst="foldedCorner">
            <a:avLst>
              <a:gd name="adj" fmla="val 25893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微软雅黑"/>
              </a:rPr>
              <a:t>Concession-refutatio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微软雅黑"/>
              </a:rPr>
              <a:t>          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微软雅黑"/>
              </a:rPr>
              <a:t>strate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矩形标注 4"/>
          <p:cNvSpPr/>
          <p:nvPr/>
        </p:nvSpPr>
        <p:spPr>
          <a:xfrm>
            <a:off x="689040" y="2428920"/>
            <a:ext cx="7812000" cy="20001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ccc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s Yaz would put it, “If you want the hits, be prepared for the misses”. That is the way the game of life 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椭圆形标注 3"/>
          <p:cNvSpPr/>
          <p:nvPr/>
        </p:nvSpPr>
        <p:spPr>
          <a:xfrm>
            <a:off x="357120" y="1249200"/>
            <a:ext cx="2428920" cy="965520"/>
          </a:xfrm>
          <a:prstGeom prst="wedgeEllipseCallout">
            <a:avLst>
              <a:gd name="adj1" fmla="val 4648"/>
              <a:gd name="adj2" fmla="val 104388"/>
            </a:avLst>
          </a:prstGeom>
          <a:solidFill>
            <a:srgbClr val="ffffcc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5"/>
          <p:cNvSpPr/>
          <p:nvPr/>
        </p:nvSpPr>
        <p:spPr>
          <a:xfrm>
            <a:off x="3240" y="0"/>
            <a:ext cx="4925880" cy="579240"/>
          </a:xfrm>
          <a:prstGeom prst="rect">
            <a:avLst/>
          </a:prstGeom>
          <a:solidFill>
            <a:srgbClr val="800000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Understanding rebut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折角形 8"/>
          <p:cNvSpPr/>
          <p:nvPr/>
        </p:nvSpPr>
        <p:spPr>
          <a:xfrm>
            <a:off x="4929120" y="-44280"/>
            <a:ext cx="4210200" cy="1044360"/>
          </a:xfrm>
          <a:prstGeom prst="foldedCorner">
            <a:avLst>
              <a:gd name="adj" fmla="val 25893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微软雅黑"/>
              </a:rPr>
              <a:t>Concession-refutatio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微软雅黑"/>
              </a:rPr>
              <a:t>          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微软雅黑"/>
              </a:rPr>
              <a:t>strate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4"/>
          <p:cNvSpPr/>
          <p:nvPr/>
        </p:nvSpPr>
        <p:spPr>
          <a:xfrm>
            <a:off x="236520" y="2273400"/>
            <a:ext cx="87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want the hits, be prepared for the misses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2933280" y="227340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7222320" y="227340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云形标注 9"/>
          <p:cNvSpPr/>
          <p:nvPr/>
        </p:nvSpPr>
        <p:spPr>
          <a:xfrm>
            <a:off x="714240" y="757080"/>
            <a:ext cx="2952720" cy="1314720"/>
          </a:xfrm>
          <a:prstGeom prst="cloudCallout">
            <a:avLst>
              <a:gd name="adj1" fmla="val 37620"/>
              <a:gd name="adj2" fmla="val 73726"/>
            </a:avLst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Anti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4"/>
          <p:cNvSpPr/>
          <p:nvPr/>
        </p:nvSpPr>
        <p:spPr>
          <a:xfrm>
            <a:off x="1516680" y="3524400"/>
            <a:ext cx="315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as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5"/>
          <p:cNvSpPr/>
          <p:nvPr/>
        </p:nvSpPr>
        <p:spPr>
          <a:xfrm>
            <a:off x="594360" y="4381560"/>
            <a:ext cx="40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gh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ut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6"/>
          <p:cNvSpPr/>
          <p:nvPr/>
        </p:nvSpPr>
        <p:spPr>
          <a:xfrm>
            <a:off x="162000" y="540540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 i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ife i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r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3240" y="0"/>
            <a:ext cx="4925880" cy="579240"/>
          </a:xfrm>
          <a:prstGeom prst="rect">
            <a:avLst/>
          </a:prstGeom>
          <a:solidFill>
            <a:srgbClr val="800000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Understanding rebut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折角形 14"/>
          <p:cNvSpPr/>
          <p:nvPr/>
        </p:nvSpPr>
        <p:spPr>
          <a:xfrm>
            <a:off x="4929120" y="0"/>
            <a:ext cx="3816360" cy="720720"/>
          </a:xfrm>
          <a:prstGeom prst="foldedCorner">
            <a:avLst>
              <a:gd name="adj" fmla="val 30509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微软雅黑"/>
              </a:rPr>
              <a:t>Rhetorical de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22"/>
          <p:cNvSpPr/>
          <p:nvPr/>
        </p:nvSpPr>
        <p:spPr>
          <a:xfrm>
            <a:off x="357120" y="2500200"/>
            <a:ext cx="3818160" cy="34290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9" descr="c:\users\toshiba\appdata\roaming\360se6\User Data\temp\512iR4O5h4L._SL500.jpg"/>
          <p:cNvPicPr/>
          <p:nvPr/>
        </p:nvPicPr>
        <p:blipFill>
          <a:blip r:embed="rId1"/>
          <a:srcRect l="0" t="40623" r="5675" b="35006"/>
          <a:stretch/>
        </p:blipFill>
        <p:spPr>
          <a:xfrm>
            <a:off x="2403360" y="941400"/>
            <a:ext cx="4248360" cy="1344600"/>
          </a:xfrm>
          <a:prstGeom prst="rect">
            <a:avLst/>
          </a:prstGeom>
          <a:ln w="0">
            <a:noFill/>
          </a:ln>
        </p:spPr>
      </p:pic>
      <p:sp>
        <p:nvSpPr>
          <p:cNvPr id="275" name="TextBox 8"/>
          <p:cNvSpPr/>
          <p:nvPr/>
        </p:nvSpPr>
        <p:spPr>
          <a:xfrm>
            <a:off x="3240" y="0"/>
            <a:ext cx="4535280" cy="579240"/>
          </a:xfrm>
          <a:prstGeom prst="rect">
            <a:avLst/>
          </a:prstGeom>
          <a:solidFill>
            <a:srgbClr val="800000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Building vocabula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折角形 9"/>
          <p:cNvSpPr/>
          <p:nvPr/>
        </p:nvSpPr>
        <p:spPr>
          <a:xfrm>
            <a:off x="4572000" y="0"/>
            <a:ext cx="3816360" cy="720720"/>
          </a:xfrm>
          <a:prstGeom prst="foldedCorner">
            <a:avLst>
              <a:gd name="adj" fmla="val 28412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微软雅黑"/>
              </a:rPr>
              <a:t>Word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438840" y="28576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1"/>
          <p:cNvSpPr/>
          <p:nvPr/>
        </p:nvSpPr>
        <p:spPr>
          <a:xfrm>
            <a:off x="437760" y="3976560"/>
            <a:ext cx="15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2"/>
          <p:cNvSpPr/>
          <p:nvPr/>
        </p:nvSpPr>
        <p:spPr>
          <a:xfrm>
            <a:off x="438840" y="507060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ew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3"/>
          <p:cNvSpPr/>
          <p:nvPr/>
        </p:nvSpPr>
        <p:spPr>
          <a:xfrm>
            <a:off x="2651760" y="285768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2650320" y="392904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5"/>
          <p:cNvSpPr/>
          <p:nvPr/>
        </p:nvSpPr>
        <p:spPr>
          <a:xfrm>
            <a:off x="2654280" y="5048280"/>
            <a:ext cx="15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6"/>
          <p:cNvSpPr/>
          <p:nvPr/>
        </p:nvSpPr>
        <p:spPr>
          <a:xfrm>
            <a:off x="4725360" y="2857680"/>
            <a:ext cx="15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7"/>
          <p:cNvSpPr/>
          <p:nvPr/>
        </p:nvSpPr>
        <p:spPr>
          <a:xfrm>
            <a:off x="6870600" y="285768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ov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8"/>
          <p:cNvSpPr/>
          <p:nvPr/>
        </p:nvSpPr>
        <p:spPr>
          <a:xfrm>
            <a:off x="4720680" y="39052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9"/>
          <p:cNvSpPr/>
          <p:nvPr/>
        </p:nvSpPr>
        <p:spPr>
          <a:xfrm>
            <a:off x="7293960" y="390528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0"/>
          <p:cNvSpPr/>
          <p:nvPr/>
        </p:nvSpPr>
        <p:spPr>
          <a:xfrm>
            <a:off x="4729320" y="5000760"/>
            <a:ext cx="23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er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2"/>
          <p:cNvSpPr/>
          <p:nvPr/>
        </p:nvSpPr>
        <p:spPr>
          <a:xfrm>
            <a:off x="7524360" y="49766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24"/>
          <p:cNvSpPr/>
          <p:nvPr/>
        </p:nvSpPr>
        <p:spPr>
          <a:xfrm>
            <a:off x="1928880" y="3235320"/>
            <a:ext cx="882720" cy="197964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5"/>
          <p:cNvSpPr/>
          <p:nvPr/>
        </p:nvSpPr>
        <p:spPr>
          <a:xfrm flipH="1">
            <a:off x="1856880" y="3286080"/>
            <a:ext cx="838440" cy="85896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28"/>
          <p:cNvSpPr/>
          <p:nvPr/>
        </p:nvSpPr>
        <p:spPr>
          <a:xfrm flipH="1">
            <a:off x="1856880" y="4191120"/>
            <a:ext cx="785880" cy="103176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32"/>
          <p:cNvSpPr/>
          <p:nvPr/>
        </p:nvSpPr>
        <p:spPr>
          <a:xfrm>
            <a:off x="5718240" y="4167360"/>
            <a:ext cx="1801800" cy="107136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9"/>
          <p:cNvSpPr/>
          <p:nvPr/>
        </p:nvSpPr>
        <p:spPr>
          <a:xfrm flipH="1">
            <a:off x="6848280" y="3286080"/>
            <a:ext cx="252360" cy="183672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58"/>
          <p:cNvSpPr/>
          <p:nvPr/>
        </p:nvSpPr>
        <p:spPr>
          <a:xfrm>
            <a:off x="6215040" y="3166920"/>
            <a:ext cx="1079640" cy="93672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23"/>
          <p:cNvSpPr/>
          <p:nvPr/>
        </p:nvSpPr>
        <p:spPr>
          <a:xfrm>
            <a:off x="4714920" y="2476440"/>
            <a:ext cx="4068720" cy="34290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1000440" y="500040"/>
            <a:ext cx="311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>
            <a:off x="25920" y="1214280"/>
            <a:ext cx="56854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h the three thousand hi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t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14"/>
          <p:cNvSpPr/>
          <p:nvPr/>
        </p:nvSpPr>
        <p:spPr>
          <a:xfrm>
            <a:off x="71280" y="1785960"/>
            <a:ext cx="52927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组合 21"/>
          <p:cNvGrpSpPr/>
          <p:nvPr/>
        </p:nvGrpSpPr>
        <p:grpSpPr>
          <a:xfrm>
            <a:off x="6156360" y="870120"/>
            <a:ext cx="2916360" cy="2339280"/>
            <a:chOff x="6156360" y="870120"/>
            <a:chExt cx="2916360" cy="2339280"/>
          </a:xfrm>
        </p:grpSpPr>
        <p:sp>
          <p:nvSpPr>
            <p:cNvPr id="300" name="椭圆形标注 9"/>
            <p:cNvSpPr/>
            <p:nvPr/>
          </p:nvSpPr>
          <p:spPr>
            <a:xfrm>
              <a:off x="6156360" y="870120"/>
              <a:ext cx="2916360" cy="2146320"/>
            </a:xfrm>
            <a:prstGeom prst="wedgeEllipseCallout">
              <a:avLst>
                <a:gd name="adj1" fmla="val -68814"/>
                <a:gd name="adj2" fmla="val -18092"/>
              </a:avLst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6"/>
            <p:cNvSpPr/>
            <p:nvPr/>
          </p:nvSpPr>
          <p:spPr>
            <a:xfrm>
              <a:off x="6286320" y="1285920"/>
              <a:ext cx="26276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 state of little or no change following a period of rapid growth or develop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41"/>
          <p:cNvGrpSpPr/>
          <p:nvPr/>
        </p:nvGrpSpPr>
        <p:grpSpPr>
          <a:xfrm>
            <a:off x="149760" y="2928960"/>
            <a:ext cx="4038120" cy="1677960"/>
            <a:chOff x="149760" y="2928960"/>
            <a:chExt cx="4038120" cy="1677960"/>
          </a:xfrm>
        </p:grpSpPr>
        <p:pic>
          <p:nvPicPr>
            <p:cNvPr id="303" name="Picture 18" descr="c:\users\toshiba\appdata\roaming\360se6\User Data\temp\u=1359465783,1214624295&amp;fm=58.jpg"/>
            <p:cNvPicPr/>
            <p:nvPr/>
          </p:nvPicPr>
          <p:blipFill>
            <a:blip r:embed="rId1"/>
            <a:stretch/>
          </p:blipFill>
          <p:spPr>
            <a:xfrm>
              <a:off x="2571840" y="2928960"/>
              <a:ext cx="1616040" cy="167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组合 20"/>
            <p:cNvGrpSpPr/>
            <p:nvPr/>
          </p:nvGrpSpPr>
          <p:grpSpPr>
            <a:xfrm>
              <a:off x="149760" y="3359160"/>
              <a:ext cx="1911960" cy="461520"/>
              <a:chOff x="149760" y="3359160"/>
              <a:chExt cx="1911960" cy="461520"/>
            </a:xfrm>
          </p:grpSpPr>
          <p:sp>
            <p:nvSpPr>
              <p:cNvPr id="305" name="TextBox 6"/>
              <p:cNvSpPr/>
              <p:nvPr/>
            </p:nvSpPr>
            <p:spPr>
              <a:xfrm>
                <a:off x="149760" y="3359160"/>
                <a:ext cx="19119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e up to 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</a:rPr>
                  <a:t>ba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直接连接符 17"/>
              <p:cNvSpPr/>
              <p:nvPr/>
            </p:nvSpPr>
            <p:spPr>
              <a:xfrm>
                <a:off x="214200" y="3820680"/>
                <a:ext cx="1800360" cy="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椭圆形标注 10"/>
          <p:cNvSpPr/>
          <p:nvPr/>
        </p:nvSpPr>
        <p:spPr>
          <a:xfrm>
            <a:off x="4500720" y="3000240"/>
            <a:ext cx="2303280" cy="828720"/>
          </a:xfrm>
          <a:prstGeom prst="wedgeEllipseCallout">
            <a:avLst>
              <a:gd name="adj1" fmla="val -81120"/>
              <a:gd name="adj2" fmla="val 49833"/>
            </a:avLst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o be a b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42"/>
          <p:cNvGrpSpPr/>
          <p:nvPr/>
        </p:nvGrpSpPr>
        <p:grpSpPr>
          <a:xfrm>
            <a:off x="295920" y="4929120"/>
            <a:ext cx="5858640" cy="1677960"/>
            <a:chOff x="295920" y="4929120"/>
            <a:chExt cx="5858640" cy="1677960"/>
          </a:xfrm>
        </p:grpSpPr>
        <p:pic>
          <p:nvPicPr>
            <p:cNvPr id="309" name="Picture 11" descr="http://www.chinadaily.com.cn/cndy/attachement/jpg/site1/20110327/f04da2db11220ef8c9f736.jpg"/>
            <p:cNvPicPr/>
            <p:nvPr/>
          </p:nvPicPr>
          <p:blipFill>
            <a:blip r:embed="rId2"/>
            <a:stretch/>
          </p:blipFill>
          <p:spPr>
            <a:xfrm>
              <a:off x="2428920" y="4929120"/>
              <a:ext cx="3725640" cy="16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Box 7"/>
            <p:cNvSpPr/>
            <p:nvPr/>
          </p:nvSpPr>
          <p:spPr>
            <a:xfrm>
              <a:off x="295920" y="5604480"/>
              <a:ext cx="1794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 the 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pl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18"/>
            <p:cNvSpPr/>
            <p:nvPr/>
          </p:nvSpPr>
          <p:spPr>
            <a:xfrm>
              <a:off x="297000" y="6108840"/>
              <a:ext cx="1800000" cy="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22"/>
          <p:cNvGrpSpPr/>
          <p:nvPr/>
        </p:nvGrpSpPr>
        <p:grpSpPr>
          <a:xfrm>
            <a:off x="5857920" y="4143240"/>
            <a:ext cx="2198520" cy="921240"/>
            <a:chOff x="5857920" y="4143240"/>
            <a:chExt cx="2198520" cy="921240"/>
          </a:xfrm>
        </p:grpSpPr>
        <p:sp>
          <p:nvSpPr>
            <p:cNvPr id="313" name="椭圆形标注 11"/>
            <p:cNvSpPr/>
            <p:nvPr/>
          </p:nvSpPr>
          <p:spPr>
            <a:xfrm>
              <a:off x="5857920" y="4143240"/>
              <a:ext cx="2195640" cy="921240"/>
            </a:xfrm>
            <a:prstGeom prst="wedgeEllipseCallout">
              <a:avLst>
                <a:gd name="adj1" fmla="val -79680"/>
                <a:gd name="adj2" fmla="val 119064"/>
              </a:avLst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21"/>
            <p:cNvSpPr/>
            <p:nvPr/>
          </p:nvSpPr>
          <p:spPr>
            <a:xfrm>
              <a:off x="5857920" y="4198320"/>
              <a:ext cx="219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me base of the batting si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Box 31"/>
          <p:cNvSpPr/>
          <p:nvPr/>
        </p:nvSpPr>
        <p:spPr>
          <a:xfrm>
            <a:off x="3240" y="0"/>
            <a:ext cx="4572000" cy="579240"/>
          </a:xfrm>
          <a:prstGeom prst="rect">
            <a:avLst/>
          </a:prstGeom>
          <a:solidFill>
            <a:srgbClr val="800000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Building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折角形 32"/>
          <p:cNvSpPr/>
          <p:nvPr/>
        </p:nvSpPr>
        <p:spPr>
          <a:xfrm>
            <a:off x="4572000" y="0"/>
            <a:ext cx="3384720" cy="720720"/>
          </a:xfrm>
          <a:prstGeom prst="foldedCorner">
            <a:avLst>
              <a:gd name="adj" fmla="val 33111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微软雅黑"/>
              </a:rPr>
              <a:t>Baseball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3"/>
          <p:cNvSpPr/>
          <p:nvPr/>
        </p:nvSpPr>
        <p:spPr>
          <a:xfrm>
            <a:off x="3240" y="0"/>
            <a:ext cx="3672000" cy="579240"/>
          </a:xfrm>
          <a:prstGeom prst="rect">
            <a:avLst/>
          </a:prstGeom>
          <a:solidFill>
            <a:srgbClr val="800000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Thinking cri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折角形 4"/>
          <p:cNvSpPr/>
          <p:nvPr/>
        </p:nvSpPr>
        <p:spPr>
          <a:xfrm>
            <a:off x="3643200" y="0"/>
            <a:ext cx="5508720" cy="720720"/>
          </a:xfrm>
          <a:prstGeom prst="foldedCorner">
            <a:avLst>
              <a:gd name="adj" fmla="val 25893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00000"/>
                </a:solidFill>
                <a:latin typeface="Arial"/>
                <a:ea typeface="微软雅黑"/>
              </a:rPr>
              <a:t>Reflection on learning Englis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http://img3.douban.com/pview/event_poster/raw/public/6ff726e6b1bc1c6.jpg"/>
          <p:cNvPicPr/>
          <p:nvPr/>
        </p:nvPicPr>
        <p:blipFill>
          <a:blip r:embed="rId1"/>
          <a:stretch/>
        </p:blipFill>
        <p:spPr>
          <a:xfrm>
            <a:off x="155520" y="1428840"/>
            <a:ext cx="5130720" cy="44290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http://e.hznews.com/data/djsb/2015/0923/A17923C_5.jpg"/>
          <p:cNvPicPr/>
          <p:nvPr/>
        </p:nvPicPr>
        <p:blipFill>
          <a:blip r:embed="rId2"/>
          <a:stretch/>
        </p:blipFill>
        <p:spPr>
          <a:xfrm>
            <a:off x="5286240" y="1143000"/>
            <a:ext cx="3564000" cy="2849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"/>
          <p:cNvPicPr/>
          <p:nvPr/>
        </p:nvPicPr>
        <p:blipFill>
          <a:blip r:embed="rId3"/>
          <a:stretch/>
        </p:blipFill>
        <p:spPr>
          <a:xfrm>
            <a:off x="5286240" y="4000680"/>
            <a:ext cx="3367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对角圆角矩形 15"/>
          <p:cNvSpPr/>
          <p:nvPr/>
        </p:nvSpPr>
        <p:spPr>
          <a:xfrm>
            <a:off x="500040" y="1000080"/>
            <a:ext cx="8136000" cy="53578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★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Vocabulary----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ynonym and anton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★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Listening----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TED speech “On Being Wrong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★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Writing----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  <a:ea typeface="Arial Unicode MS"/>
              </a:rPr>
              <a:t>rebuttal strate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Times New Roman"/>
                <a:ea typeface="Arial Unicode MS"/>
              </a:rPr>
              <a:t>     “</a:t>
            </a:r>
            <a:r>
              <a:rPr b="0" i="1" lang="en-US" sz="2800" spc="-1" strike="noStrike">
                <a:solidFill>
                  <a:srgbClr val="990033"/>
                </a:solidFill>
                <a:latin typeface="Times New Roman"/>
                <a:ea typeface="Arial Unicode MS"/>
              </a:rPr>
              <a:t>There’s a crack in everything, that’s how th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Times New Roman"/>
                <a:ea typeface="Arial Unicode MS"/>
              </a:rPr>
              <a:t>     </a:t>
            </a:r>
            <a:r>
              <a:rPr b="0" i="1" lang="en-US" sz="2800" spc="-1" strike="noStrike">
                <a:solidFill>
                  <a:srgbClr val="990033"/>
                </a:solidFill>
                <a:latin typeface="Times New Roman"/>
                <a:ea typeface="Arial Unicode MS"/>
              </a:rPr>
              <a:t>light gets in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Times New Roman"/>
                <a:ea typeface="Arial Unicode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Times New Roman"/>
                <a:ea typeface="Arial Unicode MS"/>
              </a:rPr>
              <a:t>     “</a:t>
            </a:r>
            <a:r>
              <a:rPr b="0" i="1" lang="en-US" sz="2800" spc="-1" strike="noStrike">
                <a:solidFill>
                  <a:srgbClr val="990033"/>
                </a:solidFill>
                <a:latin typeface="Times New Roman"/>
                <a:ea typeface="Arial Unicode MS"/>
              </a:rPr>
              <a:t>Every cloud has a silver lin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"/>
          <p:cNvSpPr/>
          <p:nvPr/>
        </p:nvSpPr>
        <p:spPr>
          <a:xfrm>
            <a:off x="3240" y="0"/>
            <a:ext cx="2987640" cy="579240"/>
          </a:xfrm>
          <a:prstGeom prst="rect">
            <a:avLst/>
          </a:prstGeom>
          <a:solidFill>
            <a:srgbClr val="800000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996633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357200" y="2065320"/>
            <a:ext cx="6191280" cy="1008360"/>
          </a:xfrm>
          <a:prstGeom prst="rect">
            <a:avLst/>
          </a:prstGeom>
          <a:solidFill>
            <a:srgbClr val="99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6633"/>
                </a:solidFill>
                <a:latin typeface="Arial"/>
                <a:ea typeface="微软雅黑"/>
              </a:rPr>
              <a:t>      </a:t>
            </a:r>
            <a:r>
              <a:rPr b="1" i="1" lang="en-US" sz="6000" spc="-1" strike="noStrike">
                <a:solidFill>
                  <a:srgbClr val="ffc000"/>
                </a:solidFill>
                <a:latin typeface="Adobe Garamond Pro Bold"/>
                <a:ea typeface="微软雅黑"/>
              </a:rPr>
              <a:t>Thank yo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5"/>
          <p:cNvSpPr/>
          <p:nvPr/>
        </p:nvSpPr>
        <p:spPr>
          <a:xfrm>
            <a:off x="324000" y="4437000"/>
            <a:ext cx="345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6"/>
          <p:cNvSpPr/>
          <p:nvPr/>
        </p:nvSpPr>
        <p:spPr>
          <a:xfrm>
            <a:off x="396720" y="530208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0"/>
          <p:cNvSpPr/>
          <p:nvPr/>
        </p:nvSpPr>
        <p:spPr>
          <a:xfrm>
            <a:off x="7524720" y="5950080"/>
            <a:ext cx="1584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571680" y="496800"/>
            <a:ext cx="4679640" cy="642600"/>
          </a:xfrm>
          <a:prstGeom prst="rect">
            <a:avLst/>
          </a:prstGeom>
          <a:solidFill>
            <a:srgbClr val="800000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Teach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示 7" descr=""/>
          <p:cNvPicPr/>
          <p:nvPr/>
        </p:nvPicPr>
        <p:blipFill>
          <a:blip r:embed="rId1"/>
          <a:stretch/>
        </p:blipFill>
        <p:spPr>
          <a:xfrm>
            <a:off x="554040" y="1768320"/>
            <a:ext cx="810252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857160" y="357120"/>
            <a:ext cx="4788000" cy="642600"/>
          </a:xfrm>
          <a:prstGeom prst="rect">
            <a:avLst/>
          </a:prstGeom>
          <a:solidFill>
            <a:srgbClr val="800000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Learning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2500200" y="5835600"/>
            <a:ext cx="2772000" cy="581400"/>
          </a:xfrm>
          <a:prstGeom prst="rect">
            <a:avLst/>
          </a:prstGeom>
          <a:solidFill>
            <a:srgbClr val="6699ff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示 11" descr=""/>
          <p:cNvPicPr/>
          <p:nvPr/>
        </p:nvPicPr>
        <p:blipFill>
          <a:blip r:embed="rId1"/>
          <a:stretch/>
        </p:blipFill>
        <p:spPr>
          <a:xfrm>
            <a:off x="1268280" y="1566720"/>
            <a:ext cx="59374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8"/>
          <p:cNvSpPr/>
          <p:nvPr/>
        </p:nvSpPr>
        <p:spPr>
          <a:xfrm>
            <a:off x="3240" y="30240"/>
            <a:ext cx="3203640" cy="579240"/>
          </a:xfrm>
          <a:prstGeom prst="rect">
            <a:avLst/>
          </a:prstGeom>
          <a:solidFill>
            <a:srgbClr val="800000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Brainstorm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0" descr="http://i1.t.hjfile.cn/ing_new/201304_5/7fb669ea-79b8-4a32-b3f7-62ff243d0b75_200X144.jpg"/>
          <p:cNvPicPr/>
          <p:nvPr/>
        </p:nvPicPr>
        <p:blipFill>
          <a:blip r:embed="rId1"/>
          <a:stretch/>
        </p:blipFill>
        <p:spPr>
          <a:xfrm>
            <a:off x="1000080" y="3786120"/>
            <a:ext cx="3565440" cy="2786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8" descr=""/>
          <p:cNvPicPr/>
          <p:nvPr/>
        </p:nvPicPr>
        <p:blipFill>
          <a:blip r:embed="rId2"/>
          <a:stretch/>
        </p:blipFill>
        <p:spPr>
          <a:xfrm>
            <a:off x="4572000" y="3786120"/>
            <a:ext cx="3643200" cy="2786040"/>
          </a:xfrm>
          <a:prstGeom prst="rect">
            <a:avLst/>
          </a:prstGeom>
          <a:ln w="0">
            <a:noFill/>
          </a:ln>
        </p:spPr>
      </p:pic>
      <p:sp>
        <p:nvSpPr>
          <p:cNvPr id="152" name="折角形 15"/>
          <p:cNvSpPr/>
          <p:nvPr/>
        </p:nvSpPr>
        <p:spPr>
          <a:xfrm>
            <a:off x="3214800" y="0"/>
            <a:ext cx="5929200" cy="720720"/>
          </a:xfrm>
          <a:prstGeom prst="foldedCorner">
            <a:avLst>
              <a:gd name="adj" fmla="val 28199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微软雅黑"/>
              </a:rPr>
              <a:t> 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微软雅黑"/>
              </a:rPr>
              <a:t>Your feelings facing a mista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7" descr=""/>
          <p:cNvPicPr/>
          <p:nvPr/>
        </p:nvPicPr>
        <p:blipFill>
          <a:blip r:embed="rId3"/>
          <a:stretch/>
        </p:blipFill>
        <p:spPr>
          <a:xfrm>
            <a:off x="2357280" y="992160"/>
            <a:ext cx="41436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标注 6"/>
          <p:cNvSpPr/>
          <p:nvPr/>
        </p:nvSpPr>
        <p:spPr>
          <a:xfrm>
            <a:off x="214200" y="1285920"/>
            <a:ext cx="8712360" cy="5003640"/>
          </a:xfrm>
          <a:prstGeom prst="wedgeRectCallout">
            <a:avLst>
              <a:gd name="adj1" fmla="val -20472"/>
              <a:gd name="adj2" fmla="val 57282"/>
            </a:avLst>
          </a:prstGeom>
          <a:solidFill>
            <a:srgbClr val="cc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You might never fail on the scale I did, but some failure in life i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微软雅黑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. It is impossible to live without failing at something, unless you live s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微软雅黑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that you might as well not have lived at all - in which case, you fail by default. Failure gave me an inn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微软雅黑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that I had never attained by passing examinations. Failure taught me things about myself that I could have learned no other way. I discovered that I had a strong will, and mor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微软雅黑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than I had suspected; I also found out that I had friends whose value was truly abov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微软雅黑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of rubi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4864680" y="2476440"/>
            <a:ext cx="16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uti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1221480" y="204804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evi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5790600" y="5437080"/>
            <a:ext cx="84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3240" y="0"/>
            <a:ext cx="2496960" cy="579240"/>
          </a:xfrm>
          <a:prstGeom prst="rect">
            <a:avLst/>
          </a:prstGeom>
          <a:solidFill>
            <a:srgbClr val="800000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Lead-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折角形 11"/>
          <p:cNvSpPr/>
          <p:nvPr/>
        </p:nvSpPr>
        <p:spPr>
          <a:xfrm>
            <a:off x="2500200" y="0"/>
            <a:ext cx="6372360" cy="7207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微软雅黑"/>
              </a:rPr>
              <a:t> 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微软雅黑"/>
              </a:rPr>
              <a:t>J.K. Rowling’s speech at Harv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5187600" y="333540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5"/>
          <p:cNvSpPr/>
          <p:nvPr/>
        </p:nvSpPr>
        <p:spPr>
          <a:xfrm>
            <a:off x="6721560" y="461952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39"/>
          <p:cNvGrpSpPr/>
          <p:nvPr/>
        </p:nvGrpSpPr>
        <p:grpSpPr>
          <a:xfrm>
            <a:off x="266760" y="1571760"/>
            <a:ext cx="8620200" cy="1428480"/>
            <a:chOff x="266760" y="1571760"/>
            <a:chExt cx="8620200" cy="1428480"/>
          </a:xfrm>
        </p:grpSpPr>
        <p:sp>
          <p:nvSpPr>
            <p:cNvPr id="163" name="TextBox 35"/>
            <p:cNvSpPr/>
            <p:nvPr/>
          </p:nvSpPr>
          <p:spPr>
            <a:xfrm>
              <a:off x="4303800" y="2460600"/>
              <a:ext cx="2268360" cy="539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微软雅黑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so cautiousl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组合 38"/>
            <p:cNvGrpSpPr/>
            <p:nvPr/>
          </p:nvGrpSpPr>
          <p:grpSpPr>
            <a:xfrm>
              <a:off x="266760" y="1571760"/>
              <a:ext cx="8620200" cy="968040"/>
              <a:chOff x="266760" y="1571760"/>
              <a:chExt cx="8620200" cy="968040"/>
            </a:xfrm>
          </p:grpSpPr>
          <p:sp>
            <p:nvSpPr>
              <p:cNvPr id="165" name="TextBox 36"/>
              <p:cNvSpPr/>
              <p:nvPr/>
            </p:nvSpPr>
            <p:spPr>
              <a:xfrm>
                <a:off x="6572520" y="1571760"/>
                <a:ext cx="2314440" cy="576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Times New Roman"/>
                    <a:ea typeface="微软雅黑"/>
                  </a:rPr>
                  <a:t>some failure i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Box 37"/>
              <p:cNvSpPr/>
              <p:nvPr/>
            </p:nvSpPr>
            <p:spPr>
              <a:xfrm>
                <a:off x="266760" y="2071800"/>
                <a:ext cx="2519280" cy="468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cc"/>
                    </a:solidFill>
                    <a:latin typeface="Times New Roman"/>
                    <a:ea typeface="微软雅黑"/>
                  </a:rPr>
                  <a:t>life is inevitab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TextBox 41"/>
          <p:cNvSpPr/>
          <p:nvPr/>
        </p:nvSpPr>
        <p:spPr>
          <a:xfrm>
            <a:off x="3857760" y="3286080"/>
            <a:ext cx="2700360" cy="576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an inner secu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42"/>
          <p:cNvSpPr/>
          <p:nvPr/>
        </p:nvSpPr>
        <p:spPr>
          <a:xfrm>
            <a:off x="3286080" y="4567320"/>
            <a:ext cx="2052720" cy="576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a strong wil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3"/>
          <p:cNvSpPr/>
          <p:nvPr/>
        </p:nvSpPr>
        <p:spPr>
          <a:xfrm>
            <a:off x="5834160" y="4567320"/>
            <a:ext cx="3084480" cy="576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微软雅黑"/>
              </a:rPr>
              <a:t>more discipli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47"/>
          <p:cNvGrpSpPr/>
          <p:nvPr/>
        </p:nvGrpSpPr>
        <p:grpSpPr>
          <a:xfrm>
            <a:off x="5715000" y="5000760"/>
            <a:ext cx="2181240" cy="1000080"/>
            <a:chOff x="5715000" y="5000760"/>
            <a:chExt cx="2181240" cy="1000080"/>
          </a:xfrm>
        </p:grpSpPr>
        <p:sp>
          <p:nvSpPr>
            <p:cNvPr id="171" name="矩形 44"/>
            <p:cNvSpPr/>
            <p:nvPr/>
          </p:nvSpPr>
          <p:spPr>
            <a:xfrm>
              <a:off x="6715080" y="5000760"/>
              <a:ext cx="1181160" cy="539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Times New Roman"/>
                  <a:ea typeface="微软雅黑"/>
                </a:rPr>
                <a:t>frien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12"/>
            <p:cNvSpPr/>
            <p:nvPr/>
          </p:nvSpPr>
          <p:spPr>
            <a:xfrm>
              <a:off x="5715000" y="5437440"/>
              <a:ext cx="1042920" cy="5634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pri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2008年J.K.罗琳在哈佛大学毕业典礼上的演讲_001.mp3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4207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22"/>
          <p:cNvSpPr/>
          <p:nvPr/>
        </p:nvSpPr>
        <p:spPr>
          <a:xfrm>
            <a:off x="3240" y="0"/>
            <a:ext cx="3657600" cy="579240"/>
          </a:xfrm>
          <a:prstGeom prst="rect">
            <a:avLst/>
          </a:prstGeom>
          <a:solidFill>
            <a:srgbClr val="800000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Reading for 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3"/>
          <p:cNvSpPr/>
          <p:nvPr/>
        </p:nvSpPr>
        <p:spPr>
          <a:xfrm>
            <a:off x="428760" y="857160"/>
            <a:ext cx="1728720" cy="900360"/>
          </a:xfrm>
          <a:prstGeom prst="ellipse">
            <a:avLst/>
          </a:prstGeom>
          <a:solidFill>
            <a:srgbClr val="ff9999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  <a:ea typeface="微软雅黑"/>
              </a:rPr>
              <a:t>H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4"/>
          <p:cNvSpPr/>
          <p:nvPr/>
        </p:nvSpPr>
        <p:spPr>
          <a:xfrm>
            <a:off x="4000680" y="857160"/>
            <a:ext cx="1836720" cy="9003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  <a:ea typeface="微软雅黑"/>
              </a:rPr>
              <a:t>Mi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1" descr="c:\users\toshiba\appdata\roaming\360se6\User Data\temp\u=3511153630,3107683626&amp;fm=15&amp;gp=0.jpg"/>
          <p:cNvPicPr/>
          <p:nvPr/>
        </p:nvPicPr>
        <p:blipFill>
          <a:blip r:embed="rId1"/>
          <a:srcRect l="2626" t="6253" r="0" b="2835"/>
          <a:stretch/>
        </p:blipFill>
        <p:spPr>
          <a:xfrm>
            <a:off x="2214720" y="806400"/>
            <a:ext cx="1714320" cy="176544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30"/>
          <p:cNvGrpSpPr/>
          <p:nvPr/>
        </p:nvGrpSpPr>
        <p:grpSpPr>
          <a:xfrm>
            <a:off x="3660840" y="3656160"/>
            <a:ext cx="2411280" cy="1622160"/>
            <a:chOff x="3660840" y="3656160"/>
            <a:chExt cx="2411280" cy="1622160"/>
          </a:xfrm>
        </p:grpSpPr>
        <p:sp>
          <p:nvSpPr>
            <p:cNvPr id="179" name="矩形 25"/>
            <p:cNvSpPr/>
            <p:nvPr/>
          </p:nvSpPr>
          <p:spPr>
            <a:xfrm>
              <a:off x="3660840" y="3656160"/>
              <a:ext cx="2411280" cy="3682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Arial"/>
                </a:rPr>
                <a:t>A Different Log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23" descr="c:\users\toshiba\appdata\roaming\360se6\User Data\temp\u=2367468477,89931109&amp;fm=21&amp;gp=0.jpg"/>
            <p:cNvPicPr/>
            <p:nvPr/>
          </p:nvPicPr>
          <p:blipFill>
            <a:blip r:embed="rId2"/>
            <a:stretch/>
          </p:blipFill>
          <p:spPr>
            <a:xfrm>
              <a:off x="3660840" y="4000320"/>
              <a:ext cx="2411280" cy="12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组合 40"/>
          <p:cNvGrpSpPr/>
          <p:nvPr/>
        </p:nvGrpSpPr>
        <p:grpSpPr>
          <a:xfrm>
            <a:off x="142920" y="3735360"/>
            <a:ext cx="2411280" cy="1622520"/>
            <a:chOff x="142920" y="3735360"/>
            <a:chExt cx="2411280" cy="1622520"/>
          </a:xfrm>
        </p:grpSpPr>
        <p:pic>
          <p:nvPicPr>
            <p:cNvPr id="182" name="Picture 25" descr="c:\users\toshiba\appdata\roaming\360se6\User Data\temp\u=2427284760,3515057621&amp;fm=21&amp;gp=0.jpg"/>
            <p:cNvPicPr/>
            <p:nvPr/>
          </p:nvPicPr>
          <p:blipFill>
            <a:blip r:embed="rId3"/>
            <a:stretch/>
          </p:blipFill>
          <p:spPr>
            <a:xfrm>
              <a:off x="142920" y="4079520"/>
              <a:ext cx="2405880" cy="12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矩形 34"/>
            <p:cNvSpPr/>
            <p:nvPr/>
          </p:nvSpPr>
          <p:spPr>
            <a:xfrm>
              <a:off x="142920" y="3735360"/>
              <a:ext cx="2411280" cy="3682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Arial"/>
                </a:rPr>
                <a:t>Traditional log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38"/>
          <p:cNvGrpSpPr/>
          <p:nvPr/>
        </p:nvGrpSpPr>
        <p:grpSpPr>
          <a:xfrm>
            <a:off x="6626160" y="2714760"/>
            <a:ext cx="2303640" cy="3951000"/>
            <a:chOff x="6626160" y="2714760"/>
            <a:chExt cx="2303640" cy="3951000"/>
          </a:xfrm>
        </p:grpSpPr>
        <p:sp>
          <p:nvSpPr>
            <p:cNvPr id="185" name="矩形 61"/>
            <p:cNvSpPr/>
            <p:nvPr/>
          </p:nvSpPr>
          <p:spPr>
            <a:xfrm>
              <a:off x="6913440" y="2714760"/>
              <a:ext cx="2016360" cy="947520"/>
            </a:xfrm>
            <a:prstGeom prst="rect">
              <a:avLst/>
            </a:prstGeom>
            <a:solidFill>
              <a:srgbClr val="99ccff"/>
            </a:solidFill>
            <a:ln w="381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2060"/>
                  </a:solidFill>
                  <a:latin typeface="Arial"/>
                  <a:ea typeface="微软雅黑"/>
                </a:rPr>
                <a:t>Errors as stepping ston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59"/>
            <p:cNvSpPr/>
            <p:nvPr/>
          </p:nvSpPr>
          <p:spPr>
            <a:xfrm>
              <a:off x="6913440" y="4218120"/>
              <a:ext cx="2016360" cy="949320"/>
            </a:xfrm>
            <a:prstGeom prst="rect">
              <a:avLst/>
            </a:prstGeom>
            <a:solidFill>
              <a:srgbClr val="99ccff"/>
            </a:solidFill>
            <a:ln w="381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57"/>
            <p:cNvSpPr/>
            <p:nvPr/>
          </p:nvSpPr>
          <p:spPr>
            <a:xfrm>
              <a:off x="6913440" y="5691240"/>
              <a:ext cx="2016360" cy="947520"/>
            </a:xfrm>
            <a:prstGeom prst="rect">
              <a:avLst/>
            </a:prstGeom>
            <a:solidFill>
              <a:srgbClr val="99ccff"/>
            </a:solidFill>
            <a:ln w="381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49"/>
            <p:cNvSpPr/>
            <p:nvPr/>
          </p:nvSpPr>
          <p:spPr>
            <a:xfrm>
              <a:off x="7164360" y="4354560"/>
              <a:ext cx="176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2060"/>
                  </a:solidFill>
                  <a:latin typeface="Arial"/>
                  <a:ea typeface="微软雅黑"/>
                </a:rPr>
                <a:t>Negativ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2060"/>
                  </a:solidFill>
                  <a:latin typeface="Arial"/>
                  <a:ea typeface="微软雅黑"/>
                </a:rPr>
                <a:t>feedbac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50"/>
            <p:cNvSpPr/>
            <p:nvPr/>
          </p:nvSpPr>
          <p:spPr>
            <a:xfrm>
              <a:off x="6983280" y="5783400"/>
              <a:ext cx="1946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2060"/>
                  </a:solidFill>
                  <a:latin typeface="Arial"/>
                  <a:ea typeface="微软雅黑"/>
                </a:rPr>
                <a:t>Try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2060"/>
                  </a:solidFill>
                  <a:latin typeface="Arial"/>
                  <a:ea typeface="微软雅黑"/>
                </a:rPr>
                <a:t> </a:t>
              </a:r>
              <a:r>
                <a:rPr b="1" lang="en-US" sz="2200" spc="-1" strike="noStrike">
                  <a:solidFill>
                    <a:srgbClr val="002060"/>
                  </a:solidFill>
                  <a:latin typeface="Arial"/>
                  <a:ea typeface="微软雅黑"/>
                </a:rPr>
                <a:t>new thing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60"/>
            <p:cNvSpPr/>
            <p:nvPr/>
          </p:nvSpPr>
          <p:spPr>
            <a:xfrm>
              <a:off x="6626160" y="3282840"/>
              <a:ext cx="0" cy="3382920"/>
            </a:xfrm>
            <a:prstGeom prst="line">
              <a:avLst/>
            </a:prstGeom>
            <a:ln w="381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63"/>
            <p:cNvSpPr/>
            <p:nvPr/>
          </p:nvSpPr>
          <p:spPr>
            <a:xfrm>
              <a:off x="6626160" y="3282840"/>
              <a:ext cx="287280" cy="0"/>
            </a:xfrm>
            <a:prstGeom prst="line">
              <a:avLst/>
            </a:prstGeom>
            <a:ln w="381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64"/>
            <p:cNvSpPr/>
            <p:nvPr/>
          </p:nvSpPr>
          <p:spPr>
            <a:xfrm>
              <a:off x="6626160" y="4711680"/>
              <a:ext cx="287280" cy="0"/>
            </a:xfrm>
            <a:prstGeom prst="line">
              <a:avLst/>
            </a:prstGeom>
            <a:ln w="381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直接连接符 65"/>
            <p:cNvSpPr/>
            <p:nvPr/>
          </p:nvSpPr>
          <p:spPr>
            <a:xfrm>
              <a:off x="6626160" y="6210360"/>
              <a:ext cx="287280" cy="0"/>
            </a:xfrm>
            <a:prstGeom prst="line">
              <a:avLst/>
            </a:prstGeom>
            <a:ln w="381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右箭头 33"/>
          <p:cNvSpPr/>
          <p:nvPr/>
        </p:nvSpPr>
        <p:spPr>
          <a:xfrm rot="5400000">
            <a:off x="4497840" y="2137680"/>
            <a:ext cx="755640" cy="252360"/>
          </a:xfrm>
          <a:prstGeom prst="rightArrow">
            <a:avLst>
              <a:gd name="adj1" fmla="val 31648"/>
              <a:gd name="adj2" fmla="val 50016"/>
            </a:avLst>
          </a:prstGeom>
          <a:solidFill>
            <a:srgbClr val="800000"/>
          </a:solidFill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51"/>
          <p:cNvSpPr/>
          <p:nvPr/>
        </p:nvSpPr>
        <p:spPr>
          <a:xfrm>
            <a:off x="285840" y="2709720"/>
            <a:ext cx="2160360" cy="900360"/>
          </a:xfrm>
          <a:prstGeom prst="ellipse">
            <a:avLst/>
          </a:prstGeom>
          <a:solidFill>
            <a:srgbClr val="ff9999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  <a:ea typeface="微软雅黑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52"/>
          <p:cNvSpPr/>
          <p:nvPr/>
        </p:nvSpPr>
        <p:spPr>
          <a:xfrm>
            <a:off x="4000680" y="2717640"/>
            <a:ext cx="1800000" cy="9003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  <a:ea typeface="微软雅黑"/>
              </a:rPr>
              <a:t>Fail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54"/>
          <p:cNvSpPr/>
          <p:nvPr/>
        </p:nvSpPr>
        <p:spPr>
          <a:xfrm>
            <a:off x="285840" y="5815080"/>
            <a:ext cx="2193840" cy="900000"/>
          </a:xfrm>
          <a:prstGeom prst="ellipse">
            <a:avLst/>
          </a:prstGeom>
          <a:solidFill>
            <a:srgbClr val="ff9999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  <a:ea typeface="微软雅黑"/>
              </a:rPr>
              <a:t>To err is wro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56"/>
          <p:cNvSpPr/>
          <p:nvPr/>
        </p:nvSpPr>
        <p:spPr>
          <a:xfrm>
            <a:off x="3429000" y="5851440"/>
            <a:ext cx="2519280" cy="8636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  <a:ea typeface="微软雅黑"/>
              </a:rPr>
              <a:t>To err is not wro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右箭头 58"/>
          <p:cNvSpPr/>
          <p:nvPr/>
        </p:nvSpPr>
        <p:spPr>
          <a:xfrm rot="5400000">
            <a:off x="961920" y="2174760"/>
            <a:ext cx="720720" cy="216000"/>
          </a:xfrm>
          <a:prstGeom prst="rightArrow">
            <a:avLst>
              <a:gd name="adj1" fmla="val 31648"/>
              <a:gd name="adj2" fmla="val 49973"/>
            </a:avLst>
          </a:prstGeom>
          <a:solidFill>
            <a:srgbClr val="800000"/>
          </a:solidFill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右箭头 66"/>
          <p:cNvSpPr/>
          <p:nvPr/>
        </p:nvSpPr>
        <p:spPr>
          <a:xfrm rot="5400000">
            <a:off x="1069200" y="5498280"/>
            <a:ext cx="503280" cy="216000"/>
          </a:xfrm>
          <a:prstGeom prst="rightArrow">
            <a:avLst>
              <a:gd name="adj1" fmla="val 31648"/>
              <a:gd name="adj2" fmla="val 49976"/>
            </a:avLst>
          </a:prstGeom>
          <a:solidFill>
            <a:srgbClr val="800000"/>
          </a:solidFill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右箭头 67"/>
          <p:cNvSpPr/>
          <p:nvPr/>
        </p:nvSpPr>
        <p:spPr>
          <a:xfrm rot="5400000">
            <a:off x="4605480" y="5429880"/>
            <a:ext cx="540000" cy="252360"/>
          </a:xfrm>
          <a:prstGeom prst="rightArrow">
            <a:avLst>
              <a:gd name="adj1" fmla="val 31648"/>
              <a:gd name="adj2" fmla="val 50038"/>
            </a:avLst>
          </a:prstGeom>
          <a:solidFill>
            <a:srgbClr val="800000"/>
          </a:solidFill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右箭头 68"/>
          <p:cNvSpPr/>
          <p:nvPr/>
        </p:nvSpPr>
        <p:spPr>
          <a:xfrm>
            <a:off x="5996160" y="6141960"/>
            <a:ext cx="576000" cy="252360"/>
          </a:xfrm>
          <a:prstGeom prst="rightArrow">
            <a:avLst>
              <a:gd name="adj1" fmla="val 31648"/>
              <a:gd name="adj2" fmla="val 49992"/>
            </a:avLst>
          </a:prstGeom>
          <a:solidFill>
            <a:srgbClr val="800000"/>
          </a:solidFill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折角形 31"/>
          <p:cNvSpPr/>
          <p:nvPr/>
        </p:nvSpPr>
        <p:spPr>
          <a:xfrm>
            <a:off x="3643200" y="0"/>
            <a:ext cx="4464000" cy="720720"/>
          </a:xfrm>
          <a:prstGeom prst="foldedCorner">
            <a:avLst>
              <a:gd name="adj" fmla="val 2358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微软雅黑"/>
              </a:rPr>
              <a:t>Logic map of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23"/>
          <p:cNvSpPr/>
          <p:nvPr/>
        </p:nvSpPr>
        <p:spPr>
          <a:xfrm>
            <a:off x="203040" y="3143160"/>
            <a:ext cx="1511640" cy="1071720"/>
          </a:xfrm>
          <a:prstGeom prst="rect">
            <a:avLst/>
          </a:prstGeom>
          <a:solidFill>
            <a:srgbClr val="ffffcc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Differen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圆角矩形 24"/>
          <p:cNvSpPr/>
          <p:nvPr/>
        </p:nvSpPr>
        <p:spPr>
          <a:xfrm>
            <a:off x="2357280" y="1214280"/>
            <a:ext cx="6588360" cy="900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Errors in germinal phase are by-product of c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_____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thinking.   (Para. 2 Part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 27"/>
          <p:cNvSpPr/>
          <p:nvPr/>
        </p:nvSpPr>
        <p:spPr>
          <a:xfrm>
            <a:off x="2357280" y="2571840"/>
            <a:ext cx="6588360" cy="900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Realize potential v___  of errors as stepping stones to new idea. (Part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圆角矩形 29"/>
          <p:cNvSpPr/>
          <p:nvPr/>
        </p:nvSpPr>
        <p:spPr>
          <a:xfrm>
            <a:off x="2357280" y="4000680"/>
            <a:ext cx="6588360" cy="900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Errors tell us to change d______ . Learn by t___ and error. (Part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圆角矩形 30"/>
          <p:cNvSpPr/>
          <p:nvPr/>
        </p:nvSpPr>
        <p:spPr>
          <a:xfrm>
            <a:off x="2357280" y="5357880"/>
            <a:ext cx="6588360" cy="900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Mistakes in trying new things lead to i_________. (Part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2578680" y="160956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5"/>
          <p:cNvSpPr/>
          <p:nvPr/>
        </p:nvSpPr>
        <p:spPr>
          <a:xfrm>
            <a:off x="5062680" y="2610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6"/>
          <p:cNvSpPr/>
          <p:nvPr/>
        </p:nvSpPr>
        <p:spPr>
          <a:xfrm>
            <a:off x="6078600" y="40384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8"/>
          <p:cNvSpPr/>
          <p:nvPr/>
        </p:nvSpPr>
        <p:spPr>
          <a:xfrm>
            <a:off x="2500200" y="439596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9"/>
          <p:cNvSpPr/>
          <p:nvPr/>
        </p:nvSpPr>
        <p:spPr>
          <a:xfrm>
            <a:off x="2508480" y="575316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折角形 20"/>
          <p:cNvSpPr/>
          <p:nvPr/>
        </p:nvSpPr>
        <p:spPr>
          <a:xfrm>
            <a:off x="3857760" y="0"/>
            <a:ext cx="2663640" cy="7207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微软雅黑"/>
              </a:rPr>
              <a:t>Mai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1"/>
          <p:cNvSpPr/>
          <p:nvPr/>
        </p:nvSpPr>
        <p:spPr>
          <a:xfrm>
            <a:off x="3240" y="0"/>
            <a:ext cx="3851280" cy="579240"/>
          </a:xfrm>
          <a:prstGeom prst="rect">
            <a:avLst/>
          </a:prstGeom>
          <a:solidFill>
            <a:srgbClr val="800000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Reading for 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左大括号 25"/>
          <p:cNvSpPr/>
          <p:nvPr/>
        </p:nvSpPr>
        <p:spPr>
          <a:xfrm>
            <a:off x="1781280" y="1571760"/>
            <a:ext cx="576000" cy="4248000"/>
          </a:xfrm>
          <a:custGeom>
            <a:avLst/>
            <a:gdLst>
              <a:gd name="textAreaLeft" fmla="*/ 367920 w 576000"/>
              <a:gd name="textAreaRight" fmla="*/ 576000 w 576000"/>
              <a:gd name="textAreaTop" fmla="*/ 108360 h 4248000"/>
              <a:gd name="textAreaBottom" fmla="*/ 4139640 h 42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3"/>
                  <a:pt x="10800" y="1766"/>
                </a:cubicBezTo>
                <a:lnTo>
                  <a:pt x="10800" y="9034"/>
                </a:lnTo>
                <a:cubicBezTo>
                  <a:pt x="10800" y="9917"/>
                  <a:pt x="5400" y="10800"/>
                  <a:pt x="0" y="10800"/>
                </a:cubicBezTo>
                <a:cubicBezTo>
                  <a:pt x="5400" y="10800"/>
                  <a:pt x="10800" y="11683"/>
                  <a:pt x="10800" y="12566"/>
                </a:cubicBezTo>
                <a:lnTo>
                  <a:pt x="10800" y="19834"/>
                </a:lnTo>
                <a:cubicBezTo>
                  <a:pt x="10800" y="2071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3"/>
          <p:cNvSpPr/>
          <p:nvPr/>
        </p:nvSpPr>
        <p:spPr>
          <a:xfrm>
            <a:off x="3240" y="0"/>
            <a:ext cx="4997520" cy="579240"/>
          </a:xfrm>
          <a:prstGeom prst="rect">
            <a:avLst/>
          </a:prstGeom>
          <a:solidFill>
            <a:srgbClr val="800000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Understanding rebut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19"/>
          <p:cNvGrpSpPr/>
          <p:nvPr/>
        </p:nvGrpSpPr>
        <p:grpSpPr>
          <a:xfrm>
            <a:off x="6517080" y="4286160"/>
            <a:ext cx="2590200" cy="2484360"/>
            <a:chOff x="6517080" y="4286160"/>
            <a:chExt cx="2590200" cy="2484360"/>
          </a:xfrm>
        </p:grpSpPr>
        <p:sp>
          <p:nvSpPr>
            <p:cNvPr id="219" name="椭圆 12"/>
            <p:cNvSpPr/>
            <p:nvPr/>
          </p:nvSpPr>
          <p:spPr>
            <a:xfrm>
              <a:off x="6553080" y="4286160"/>
              <a:ext cx="2484720" cy="24843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7"/>
            <p:cNvSpPr/>
            <p:nvPr/>
          </p:nvSpPr>
          <p:spPr>
            <a:xfrm>
              <a:off x="6517080" y="5000400"/>
              <a:ext cx="259020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3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iscours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3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phistic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矩形 13"/>
          <p:cNvSpPr/>
          <p:nvPr/>
        </p:nvSpPr>
        <p:spPr>
          <a:xfrm>
            <a:off x="214200" y="1174680"/>
            <a:ext cx="3714840" cy="296856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6"/>
          <p:cNvSpPr/>
          <p:nvPr/>
        </p:nvSpPr>
        <p:spPr>
          <a:xfrm>
            <a:off x="247680" y="858960"/>
            <a:ext cx="446724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posing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cred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irety of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orough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7"/>
          <p:cNvSpPr/>
          <p:nvPr/>
        </p:nvSpPr>
        <p:spPr>
          <a:xfrm>
            <a:off x="214200" y="825480"/>
            <a:ext cx="3714840" cy="6206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4"/>
          <p:cNvSpPr/>
          <p:nvPr/>
        </p:nvSpPr>
        <p:spPr>
          <a:xfrm>
            <a:off x="968400" y="905040"/>
            <a:ext cx="2103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40680" bIns="4068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422360"/>
                <a:tab algn="l" pos="2844720"/>
                <a:tab algn="l" pos="4267080"/>
                <a:tab algn="l" pos="5689440"/>
                <a:tab algn="l" pos="7112160"/>
                <a:tab algn="l" pos="8534520"/>
                <a:tab algn="l" pos="995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Rebut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16"/>
          <p:cNvGrpSpPr/>
          <p:nvPr/>
        </p:nvGrpSpPr>
        <p:grpSpPr>
          <a:xfrm>
            <a:off x="1357200" y="4143240"/>
            <a:ext cx="5214960" cy="1892520"/>
            <a:chOff x="1357200" y="4143240"/>
            <a:chExt cx="5214960" cy="1892520"/>
          </a:xfrm>
        </p:grpSpPr>
        <p:sp>
          <p:nvSpPr>
            <p:cNvPr id="226" name="直角上箭头 20"/>
            <p:cNvSpPr/>
            <p:nvPr/>
          </p:nvSpPr>
          <p:spPr>
            <a:xfrm rot="5400000">
              <a:off x="3018240" y="2481840"/>
              <a:ext cx="1892520" cy="5214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11"/>
            <p:cNvSpPr/>
            <p:nvPr/>
          </p:nvSpPr>
          <p:spPr>
            <a:xfrm>
              <a:off x="1357200" y="5467320"/>
              <a:ext cx="514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cession-refutation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18"/>
          <p:cNvGrpSpPr/>
          <p:nvPr/>
        </p:nvGrpSpPr>
        <p:grpSpPr>
          <a:xfrm>
            <a:off x="3967200" y="1999800"/>
            <a:ext cx="4319640" cy="2303640"/>
            <a:chOff x="3967200" y="1999800"/>
            <a:chExt cx="4319640" cy="2303640"/>
          </a:xfrm>
        </p:grpSpPr>
        <p:sp>
          <p:nvSpPr>
            <p:cNvPr id="229" name="直角上箭头 22"/>
            <p:cNvSpPr/>
            <p:nvPr/>
          </p:nvSpPr>
          <p:spPr>
            <a:xfrm flipV="1">
              <a:off x="3967200" y="1999080"/>
              <a:ext cx="4319640" cy="23036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10"/>
            <p:cNvSpPr/>
            <p:nvPr/>
          </p:nvSpPr>
          <p:spPr>
            <a:xfrm>
              <a:off x="4357440" y="2071440"/>
              <a:ext cx="371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es-bu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折角形 14"/>
          <p:cNvSpPr/>
          <p:nvPr/>
        </p:nvSpPr>
        <p:spPr>
          <a:xfrm>
            <a:off x="5000760" y="0"/>
            <a:ext cx="2663640" cy="7207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微软雅黑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云形标注 15"/>
          <p:cNvSpPr/>
          <p:nvPr/>
        </p:nvSpPr>
        <p:spPr>
          <a:xfrm>
            <a:off x="3860640" y="905040"/>
            <a:ext cx="4356360" cy="1908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Rebut: to refute or prove something to be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直接箭头连接符 23"/>
          <p:cNvCxnSpPr/>
          <p:nvPr/>
        </p:nvCxnSpPr>
        <p:spPr>
          <a:xfrm>
            <a:off x="3928680" y="3499920"/>
            <a:ext cx="2701080" cy="1585080"/>
          </a:xfrm>
          <a:prstGeom prst="straightConnector1">
            <a:avLst/>
          </a:prstGeom>
          <a:ln w="25560">
            <a:solidFill>
              <a:srgbClr val="8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标注 2"/>
          <p:cNvSpPr/>
          <p:nvPr/>
        </p:nvSpPr>
        <p:spPr>
          <a:xfrm>
            <a:off x="285840" y="1428840"/>
            <a:ext cx="85723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ccc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Most people consider success and failure are opposi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3240" y="0"/>
            <a:ext cx="4925880" cy="579240"/>
          </a:xfrm>
          <a:prstGeom prst="rect">
            <a:avLst/>
          </a:prstGeom>
          <a:solidFill>
            <a:srgbClr val="800000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Understanding rebut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折角形 6"/>
          <p:cNvSpPr/>
          <p:nvPr/>
        </p:nvSpPr>
        <p:spPr>
          <a:xfrm>
            <a:off x="4929120" y="0"/>
            <a:ext cx="3708360" cy="720720"/>
          </a:xfrm>
          <a:prstGeom prst="foldedCorner">
            <a:avLst>
              <a:gd name="adj" fmla="val 25893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微软雅黑"/>
              </a:rPr>
              <a:t>Yes-but Strateg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标注 13"/>
          <p:cNvSpPr/>
          <p:nvPr/>
        </p:nvSpPr>
        <p:spPr>
          <a:xfrm>
            <a:off x="285840" y="4500720"/>
            <a:ext cx="8531280" cy="2143080"/>
          </a:xfrm>
          <a:prstGeom prst="wedgeRectCallout">
            <a:avLst>
              <a:gd name="adj1" fmla="val -21004"/>
              <a:gd name="adj2" fmla="val 56995"/>
            </a:avLst>
          </a:prstGeom>
          <a:solidFill>
            <a:srgbClr val="ffcccc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s Yaz suggests, an activity which produces a hit may also produce a miss. It is the same with creative thinking: the same energy which generates good creative ideas also produces err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形标注 3"/>
          <p:cNvSpPr/>
          <p:nvPr/>
        </p:nvSpPr>
        <p:spPr>
          <a:xfrm>
            <a:off x="214200" y="3714840"/>
            <a:ext cx="2159280" cy="928440"/>
          </a:xfrm>
          <a:prstGeom prst="wedgeEllipseCallout">
            <a:avLst>
              <a:gd name="adj1" fmla="val -3277"/>
              <a:gd name="adj2" fmla="val 73722"/>
            </a:avLst>
          </a:prstGeom>
          <a:solidFill>
            <a:srgbClr val="ffffcc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18"/>
          <p:cNvSpPr/>
          <p:nvPr/>
        </p:nvSpPr>
        <p:spPr>
          <a:xfrm>
            <a:off x="326880" y="5143680"/>
            <a:ext cx="8460000" cy="144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20"/>
          <p:cNvSpPr/>
          <p:nvPr/>
        </p:nvSpPr>
        <p:spPr>
          <a:xfrm>
            <a:off x="326880" y="5572080"/>
            <a:ext cx="3564000" cy="18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标注 9"/>
          <p:cNvSpPr/>
          <p:nvPr/>
        </p:nvSpPr>
        <p:spPr>
          <a:xfrm>
            <a:off x="244440" y="2851200"/>
            <a:ext cx="8572680" cy="863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ccc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ut they are actually both products of the same proc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19"/>
          <p:cNvSpPr/>
          <p:nvPr/>
        </p:nvSpPr>
        <p:spPr>
          <a:xfrm>
            <a:off x="326880" y="720720"/>
            <a:ext cx="1459080" cy="70812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21"/>
          <p:cNvSpPr/>
          <p:nvPr/>
        </p:nvSpPr>
        <p:spPr>
          <a:xfrm>
            <a:off x="326880" y="2149560"/>
            <a:ext cx="1459080" cy="70812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2"/>
          <p:cNvSpPr/>
          <p:nvPr/>
        </p:nvSpPr>
        <p:spPr>
          <a:xfrm>
            <a:off x="249480" y="283356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6:54:51Z</dcterms:created>
  <dc:creator>三联素材 www.3lian.com</dc:creator>
  <dc:description/>
  <dc:language>en-US</dc:language>
  <cp:lastModifiedBy>sam</cp:lastModifiedBy>
  <cp:lastPrinted>1899-12-30T00:00:00Z</cp:lastPrinted>
  <dcterms:modified xsi:type="dcterms:W3CDTF">2015-11-27T16:24:05Z</dcterms:modified>
  <cp:revision>198</cp:revision>
  <dc:subject/>
  <dc:title>高清棒球图片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