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0DE-40CD-47B4-86BD-F3B300C6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4D8-1CD5-4F0F-A2A0-1ACE57E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95EF9-B766-4A4F-AABA-8E548F6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BA423-6992-4B1D-90E2-8FFC12C3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0C809-94B4-45A6-83E9-9CCD9FE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199C3-4970-46D4-97D8-72578E6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FC72E-AC1E-4BD3-A0C5-CA5B729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F8B4-BE25-4EA1-BCB4-F7F4E52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7E96E-98E2-4CFD-8075-665972F6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EC4EB-6E09-4EC9-AE5C-CD636AC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617FA-21A1-46BC-B4AA-0A7FFB93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DAA07-3575-4326-844C-FD79E748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67C-B86C-4A06-BA23-5FD803EB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00600-F5B5-417A-BD7D-CD8E1D1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6E97-795C-4513-AD7C-81E40AA3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C033-4645-4F94-A7A0-825D170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4571-19DE-4ED0-BE2D-4A0C1A5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2FB73-59E7-45E6-8DC4-69158F7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82414-09D9-4D56-A367-616F55A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B5488-E15A-4D7C-84C2-B1DDD3A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7C058-8F4B-484B-B933-5E740CF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DD107-8C98-4FC3-A79F-28DE38D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3EC42-0AD0-4BB3-94FD-7A49C3E1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39E-27A1-4B3D-B086-B4E99552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6285-8D8E-4B43-AEE7-7D2CA985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FA29-362E-4C67-86D9-BA10E634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3A041-9BE0-48AD-BC2B-D3855C6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2FFD-1EFE-47F3-B980-0CD25CA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6BC0-A845-4A72-BFD6-3881452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72BD-E6CF-405C-BA67-1804396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8AAF-D1CB-465B-AF90-1B9E132D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0E74E-52B9-429B-8A66-836D8A9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F4BA-F692-4708-ACFC-EE0598A6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F4C60-0719-457B-B879-92CF4E1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A4E3-DF2B-45B2-8376-5B050FBF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44897-86A6-41B2-AFD4-B5A8C5A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0CC2F-2822-4D3F-88C0-1E858022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B272-4308-459D-B4E5-B4E74C1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939C-8997-45E8-8232-D073131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97A9F-9710-463A-B6A8-13004B0B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E1F1-E9F6-4A16-9268-4C2BDFA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2254-CBF1-4715-903F-26E9194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3ADE-4360-4E93-9AB1-98BF64B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F320B-5463-4933-BB09-4C36532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53636-DD9E-45EE-8A59-7BBC33C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28DC-E694-4246-BB04-E75ED795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4F5C5-13D4-4419-BB03-A213053A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A3727-C8E2-4330-AE81-8BE6005B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225DA-1F30-4FFF-AE8D-542B8AD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9FB07-582B-47DF-ADC4-BE27C469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521A-09BD-470C-AFBA-DE4F1C4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A0CC9-B75D-4F51-B03F-5DC15A3C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9C5B8-7BE6-4C58-B893-137CEC5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51AC9-DDE9-46D6-B577-18E202C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6B206-A256-4DC8-ACF7-2E9877E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1035D-A3CA-4F80-AF7E-DED8C84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DE32-F402-4809-9836-ADAAA2ED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CDD6A-E23C-4C37-8948-DA64D64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4824F-AA23-406B-A090-555EF46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0D3C6-356D-46FC-A0F3-1C2F720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70E46-EA95-49C1-8333-DDCB112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FA2E8-66CD-4B7C-947C-F3225DF7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191B4-C35C-4797-84D0-0FF2444D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4767E-1954-4315-8C84-220E81DA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5A74-A23E-4EED-ADA5-E09545E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A0B5-736F-44B8-8EDF-6DCEC1F8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357-45B2-4EC2-9E0F-EAD6E04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E6D4-DFC4-471A-8B82-2D25DA9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DB1-540A-4DF9-A813-A31BB6A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21E5-33E1-48AF-A341-B3C6C6A3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8F6B-2C59-4E24-9C35-BF85397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CD9-8DF9-44D4-91F7-FC1A310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CED1-339C-4ABE-8CE0-9F79BA44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F5ED-4880-43D1-9D46-DB9E83DB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EEB3-02E9-4493-AFF8-2E1C9674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2A5E-7B99-47F1-B379-FD46C5E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B7C1-CB73-4976-9AC3-BD05AF6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C59B-8219-4C14-8BC3-69DC4F7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24AB-A74E-4249-A5A1-9BD5809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EDC-0517-4DA0-9D2E-162D66A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FDEA-0DDE-4826-AAF4-3D6FB31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4053-F65D-4238-8A74-2AD338E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F653-3CA6-4A99-AA92-C67FAC5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A5F7-C531-451E-BB79-4465976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C75D-F453-43BB-B861-A0B59DA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D538-60C3-4E3B-A894-3A635A0E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81AC-5DBC-4610-8C89-1A4EF01E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2BCF-9859-403A-94E5-EA61C2C2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05D8-E1EE-4B95-B23B-2AB3885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98EE-2375-48BC-A027-B5B789D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5C3-0411-475B-8B46-35F7CF00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A8CB-EB0C-4BDE-BE64-01274E5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C1A6-E07D-48A6-8BF0-14C9C9C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D9DB-C1D6-4715-A225-5B54711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B24D-5838-4EC1-87DB-059E48D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F49B-A254-49B6-814F-879FEB3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624A-8415-4113-BEF1-07AD825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3384-C6AE-400D-A41E-4E530C96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18C6-B240-43E2-8D2F-EC937016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E12A-BEF7-44FC-8CDE-AE3B54B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0EA1-E974-4E80-86CC-C5DF2CA0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C78-45B3-4B14-8DDF-ED9C5988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D716-4800-45F8-B9B3-6833A2DB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2421-D5FB-4205-BF52-F05A51E7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9430-BE55-4DF2-B926-A44B4F4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20F5-5911-43A0-B23F-A9AF685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D12E-14DE-4883-A9E7-5480D83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9738-4BE1-4178-8597-9049C33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7EB7-FB7D-422D-A5CD-19F3836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B8F4-3479-4A0C-B9D7-156C6D5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CB83-9472-499E-B5AB-703298C9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18D0-FE70-4008-8EA9-D73309A8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65C-2B64-4A84-8239-693F21A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8E5C-C780-49A9-BF02-D4BD5531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872C-3CF6-4CED-A914-46354CBF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686F-3E45-49E2-9569-7CE738B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0FD6-586A-451D-9075-540B35F8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1F15B-0A9F-46C7-BEF0-B7733A9F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60ED-3F2D-402A-AB9D-0BB4034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3D74-B36D-4E5A-B33B-5251B9C9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E3E7-0C61-4F9F-9FFE-97EF0D31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7742-9E92-40E5-90EF-EFFED1A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D0B6-296B-41E5-954D-2CA9D30D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02F-E67F-4F12-A363-D33F90C0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E8F6-369B-46C4-BBDB-AC8BA14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E297-6422-4CED-87FF-A46981D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0E3D-971E-4E8A-AB49-F980A591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87BFA-3175-4A2F-BD8B-D8329A05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25E33-7BE0-4AF9-96AA-258BD7F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3363-310B-42CF-B21E-40C85ECE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0D3DC-21DC-4123-BF6D-C41C99B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258A-C5DF-409A-A70B-36DB1C8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FF62-29C5-4C2A-902B-E5392A23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12CA-3919-49B1-92EA-08F8C79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7DC-B89C-4FEE-8C97-DEC7077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2CEB4-6459-461F-AEAC-2BB3565E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4CD0-7233-456E-AA57-1E092C3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9F09-D143-4129-9718-837968B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08F9-00BA-4D00-9AF1-831D340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118F-AF23-448D-8B3A-ACFD6BF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2659-C33D-4269-96F9-0C6D5EB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B01D-3BF7-4297-8F10-53DB109D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E131-D031-4002-A3A2-9B514D5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D4418-8AA1-41EA-B481-DD9B7118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2CB8-AB49-44D9-8D84-4DD98742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DE5-4BD0-4DAF-A00D-A6B8727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721F-8CB7-4F92-BFA4-79B39542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4A1D-70F4-402F-B02A-0562234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B2EA-3062-4DDC-AEDB-BECAB2C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C139-9BCD-45E4-BD6F-1A97251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0E10-9B49-41CD-ACC5-4D7ED3D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FC17-3B74-4010-A911-DFC4EC4C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0DAF-99AE-4009-AFF0-EBDFFC76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26CD4-9FCE-453E-9B60-F18800D2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51B41-4F1D-4956-A5E2-009733B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4FA0D-31AF-4C48-9479-BAEE2B87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6A1-C401-4E68-A8E9-B8C063C0DEE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59E-1FCB-4088-9408-A78207D201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E3A-73BF-4397-9BA1-3AE6FEC33A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CBF0-BE6E-4DDF-88D1-4A70A84690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0B4-8E59-4DAC-A92E-BF44171AB1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43D-D1C0-40F5-B1EE-15A8B45132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3DE-7266-44C9-9AC4-D01154901A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20E-DF4E-42BC-A1FB-C592BA5795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CD6-45D6-41F6-933E-D16AED12BB6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50F-AEE6-4DA4-9EF1-5DE2F377AA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ADB-6E62-44A9-B34E-2E3D3F255E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21A5-0733-47C9-A42C-D46733C1D8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06A0-F527-4C1E-B713-9FB89D6C596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4B9-8FE1-42DB-AACF-AD215EC99D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BA90-66D5-4B5A-9CDF-C6F10781E9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6EA-5BB0-408C-981A-7100784405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24D-B584-45B2-9844-5F122468CA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EA2-3CA4-4EC2-A0FB-E2524379F3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CE1-BBC3-479D-B729-ECA4BD03C12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E34-FC8A-4CF6-BFA7-DF7E2AAF4E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190-BC04-4098-9310-F4827DFB73D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0F33-EE62-416D-B52C-D93F965E7A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DA0C-A3FC-4EA5-A72D-DAB8C74D72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4D6-0441-4B14-BE65-BFE823B2C1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0C8-BE2C-468E-8BCD-25D3B3B7FD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07C9-F764-4512-9DA6-1F90DFC1EE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法国红酒专家让"/>
          <p:cNvPicPr/>
          <p:nvPr/>
        </p:nvPicPr>
        <p:blipFill>
          <a:blip r:embed="rId1"/>
          <a:stretch/>
        </p:blipFill>
        <p:spPr>
          <a:xfrm>
            <a:off x="684360" y="907920"/>
            <a:ext cx="7883280" cy="5662800"/>
          </a:xfrm>
          <a:prstGeom prst="rect">
            <a:avLst/>
          </a:prstGeom>
          <a:ln w="0">
            <a:noFill/>
          </a:ln>
        </p:spPr>
      </p:pic>
      <p:sp>
        <p:nvSpPr>
          <p:cNvPr id="534" name="Line 39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250920" y="0"/>
            <a:ext cx="25207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-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12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Object 30"/>
          <p:cNvGraphicFramePr/>
          <p:nvPr/>
        </p:nvGraphicFramePr>
        <p:xfrm>
          <a:off x="179280" y="1773360"/>
          <a:ext cx="42386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42386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1042920" y="5157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 bud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1836000" y="155736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% P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4716360" y="50086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for advertising and mark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7236000" y="501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9"/>
          <p:cNvSpPr/>
          <p:nvPr/>
        </p:nvSpPr>
        <p:spPr>
          <a:xfrm>
            <a:off x="1116000" y="3429000"/>
            <a:ext cx="792000" cy="792000"/>
          </a:xfrm>
          <a:prstGeom prst="flowChartConnector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&amp;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5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1619280" y="4141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4 b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0"/>
          <p:cNvSpPr/>
          <p:nvPr/>
        </p:nvSpPr>
        <p:spPr>
          <a:xfrm>
            <a:off x="4643280" y="1557360"/>
            <a:ext cx="31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(the U.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1"/>
          <p:cNvSpPr/>
          <p:nvPr/>
        </p:nvSpPr>
        <p:spPr>
          <a:xfrm flipV="1" rot="10803000">
            <a:off x="5168160" y="23482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475bn (6.7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2"/>
          <p:cNvSpPr/>
          <p:nvPr/>
        </p:nvSpPr>
        <p:spPr>
          <a:xfrm flipV="1">
            <a:off x="7761240" y="4870080"/>
            <a:ext cx="0" cy="142920"/>
          </a:xfrm>
          <a:prstGeom prst="line">
            <a:avLst/>
          </a:prstGeom>
          <a:ln w="190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3"/>
          <p:cNvSpPr/>
          <p:nvPr/>
        </p:nvSpPr>
        <p:spPr>
          <a:xfrm>
            <a:off x="7109280" y="45100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3.7bn (9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64"/>
          <p:cNvSpPr/>
          <p:nvPr/>
        </p:nvSpPr>
        <p:spPr>
          <a:xfrm flipV="1">
            <a:off x="5959440" y="2781360"/>
            <a:ext cx="0" cy="2232000"/>
          </a:xfrm>
          <a:prstGeom prst="line">
            <a:avLst/>
          </a:prstGeom>
          <a:ln w="190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5"/>
          <p:cNvSpPr/>
          <p:nvPr/>
        </p:nvSpPr>
        <p:spPr>
          <a:xfrm>
            <a:off x="5094360" y="5013360"/>
            <a:ext cx="3384360" cy="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6"/>
          <p:cNvSpPr/>
          <p:nvPr/>
        </p:nvSpPr>
        <p:spPr>
          <a:xfrm flipV="1">
            <a:off x="5076720" y="2060640"/>
            <a:ext cx="0" cy="2952720"/>
          </a:xfrm>
          <a:prstGeom prst="line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1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6804000" y="331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s. 3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3"/>
          <p:cNvSpPr/>
          <p:nvPr/>
        </p:nvSpPr>
        <p:spPr>
          <a:xfrm>
            <a:off x="357120" y="907920"/>
            <a:ext cx="1943280" cy="50508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4"/>
          <p:cNvSpPr/>
          <p:nvPr/>
        </p:nvSpPr>
        <p:spPr>
          <a:xfrm>
            <a:off x="2286000" y="907920"/>
            <a:ext cx="1943280" cy="50508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5786280" y="928800"/>
            <a:ext cx="1943280" cy="5047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d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WordArt 27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4500720" y="2852640"/>
            <a:ext cx="1296720" cy="647640"/>
          </a:xfrm>
          <a:prstGeom prst="pie">
            <a:avLst/>
          </a:prstGeom>
          <a:solidFill>
            <a:srgbClr val="548dd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5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0"/>
          <p:cNvGrpSpPr/>
          <p:nvPr/>
        </p:nvGrpSpPr>
        <p:grpSpPr>
          <a:xfrm>
            <a:off x="179280" y="1125360"/>
            <a:ext cx="4824360" cy="4896000"/>
            <a:chOff x="179280" y="1125360"/>
            <a:chExt cx="4824360" cy="4896000"/>
          </a:xfrm>
        </p:grpSpPr>
        <p:pic>
          <p:nvPicPr>
            <p:cNvPr id="651" name="Picture 21" descr="1d950a7b02087bf41c666e08f0d3572c10dfcf4c"/>
            <p:cNvPicPr/>
            <p:nvPr/>
          </p:nvPicPr>
          <p:blipFill>
            <a:blip r:embed="rId1"/>
            <a:stretch/>
          </p:blipFill>
          <p:spPr>
            <a:xfrm>
              <a:off x="3203640" y="3789360"/>
              <a:ext cx="16761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26" descr=""/>
            <p:cNvPicPr/>
            <p:nvPr/>
          </p:nvPicPr>
          <p:blipFill>
            <a:blip r:embed="rId2"/>
            <a:stretch/>
          </p:blipFill>
          <p:spPr>
            <a:xfrm>
              <a:off x="2627280" y="1125360"/>
              <a:ext cx="2376360" cy="15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28" descr=""/>
            <p:cNvPicPr/>
            <p:nvPr/>
          </p:nvPicPr>
          <p:blipFill>
            <a:blip r:embed="rId3"/>
            <a:stretch/>
          </p:blipFill>
          <p:spPr>
            <a:xfrm>
              <a:off x="250920" y="3789360"/>
              <a:ext cx="24480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9" descr=""/>
            <p:cNvPicPr/>
            <p:nvPr/>
          </p:nvPicPr>
          <p:blipFill>
            <a:blip r:embed="rId4"/>
            <a:stretch/>
          </p:blipFill>
          <p:spPr>
            <a:xfrm>
              <a:off x="179280" y="1125360"/>
              <a:ext cx="230508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 Box 25"/>
          <p:cNvSpPr/>
          <p:nvPr/>
        </p:nvSpPr>
        <p:spPr>
          <a:xfrm>
            <a:off x="6804000" y="33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.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1042920" y="2924280"/>
            <a:ext cx="2519280" cy="5047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6300720" y="2924280"/>
            <a:ext cx="2158920" cy="5047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16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8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162240" cy="47624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21"/>
          <p:cNvSpPr/>
          <p:nvPr/>
        </p:nvSpPr>
        <p:spPr>
          <a:xfrm>
            <a:off x="6156360" y="2205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0"/>
          <p:cNvSpPr/>
          <p:nvPr/>
        </p:nvSpPr>
        <p:spPr>
          <a:xfrm>
            <a:off x="6804000" y="331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. 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2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0"/>
          <p:cNvGrpSpPr/>
          <p:nvPr/>
        </p:nvGrpSpPr>
        <p:grpSpPr>
          <a:xfrm>
            <a:off x="324000" y="2205000"/>
            <a:ext cx="2447640" cy="1224000"/>
            <a:chOff x="324000" y="2205000"/>
            <a:chExt cx="2447640" cy="1224000"/>
          </a:xfrm>
        </p:grpSpPr>
        <p:sp>
          <p:nvSpPr>
            <p:cNvPr id="670" name="Text Box 19"/>
            <p:cNvSpPr/>
            <p:nvPr/>
          </p:nvSpPr>
          <p:spPr>
            <a:xfrm>
              <a:off x="324000" y="2205000"/>
              <a:ext cx="244764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 ha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19"/>
            <p:cNvSpPr/>
            <p:nvPr/>
          </p:nvSpPr>
          <p:spPr>
            <a:xfrm>
              <a:off x="468360" y="2924280"/>
              <a:ext cx="1942920" cy="504720"/>
            </a:xfrm>
            <a:prstGeom prst="rect">
              <a:avLst/>
            </a:prstGeom>
            <a:solidFill>
              <a:srgbClr val="548dd4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edibility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WordArt 17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Line 39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5" descr="法国红酒专家让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8168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7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6"/>
          <p:cNvSpPr/>
          <p:nvPr/>
        </p:nvSpPr>
        <p:spPr>
          <a:xfrm>
            <a:off x="755640" y="1844640"/>
            <a:ext cx="3600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 is surprisingly ___________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ra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1187280" y="220500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468360" y="3645000"/>
            <a:ext cx="310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R is _______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ra4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908000" y="364500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5292720" y="1844640"/>
            <a:ext cx="3460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R material can mo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ily get an___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ra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7020000" y="220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i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2"/>
          <p:cNvSpPr/>
          <p:nvPr/>
        </p:nvSpPr>
        <p:spPr>
          <a:xfrm>
            <a:off x="5292720" y="3645000"/>
            <a:ext cx="347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PR has ____________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ra1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665964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d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4"/>
          <p:cNvSpPr/>
          <p:nvPr/>
        </p:nvSpPr>
        <p:spPr>
          <a:xfrm>
            <a:off x="900000" y="476280"/>
            <a:ext cx="251964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5364000" y="549360"/>
            <a:ext cx="266400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WordArt 19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4"/>
          <p:cNvSpPr/>
          <p:nvPr/>
        </p:nvSpPr>
        <p:spPr>
          <a:xfrm>
            <a:off x="971640" y="1844640"/>
            <a:ext cx="6912000" cy="180036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9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uss in groups how PR is used by SFLEP in the annual event of National Foreign Language Teaching Contes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12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13"/>
          <p:cNvSpPr/>
          <p:nvPr/>
        </p:nvSpPr>
        <p:spPr>
          <a:xfrm>
            <a:off x="1908000" y="189000"/>
            <a:ext cx="482616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6" descr="bs_05.png"/>
          <p:cNvPicPr/>
          <p:nvPr/>
        </p:nvPicPr>
        <p:blipFill>
          <a:blip r:embed="rId1"/>
          <a:stretch/>
        </p:blipFill>
        <p:spPr>
          <a:xfrm>
            <a:off x="7451640" y="4149720"/>
            <a:ext cx="1432080" cy="2143080"/>
          </a:xfrm>
          <a:prstGeom prst="rect">
            <a:avLst/>
          </a:prstGeom>
          <a:ln w="0">
            <a:noFill/>
          </a:ln>
        </p:spPr>
      </p:pic>
      <p:sp>
        <p:nvSpPr>
          <p:cNvPr id="540" name="WordArt 9"/>
          <p:cNvSpPr txBox="1"/>
          <p:nvPr/>
        </p:nvSpPr>
        <p:spPr>
          <a:xfrm>
            <a:off x="1332000" y="227664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3366cc"/>
                    </a:gs>
                    <a:gs pos="50000">
                      <a:srgbClr val="003366"/>
                    </a:gs>
                    <a:gs pos="100000">
                      <a:srgbClr val="3366cc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PR Industry</a:t>
            </a:r>
            <a:endParaRPr b="1" i="1" lang="en-US" sz="4800" spc="1" strike="noStrike">
              <a:ln w="0">
                <a:noFill/>
              </a:ln>
              <a:gradFill rotWithShape="0">
                <a:gsLst>
                  <a:gs pos="0">
                    <a:srgbClr val="3366cc"/>
                  </a:gs>
                  <a:gs pos="50000">
                    <a:srgbClr val="003366"/>
                  </a:gs>
                  <a:gs pos="100000">
                    <a:srgbClr val="3366cc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4"/>
          <p:cNvSpPr/>
          <p:nvPr/>
        </p:nvSpPr>
        <p:spPr>
          <a:xfrm>
            <a:off x="503280" y="1773360"/>
            <a:ext cx="8640720" cy="718920"/>
          </a:xfrm>
          <a:prstGeom prst="roundRect">
            <a:avLst>
              <a:gd name="adj" fmla="val 16667"/>
            </a:avLst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ing of the 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>
            <a:off x="503280" y="436572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538200" y="3141720"/>
            <a:ext cx="8605800" cy="720720"/>
          </a:xfrm>
          <a:prstGeom prst="roundRect">
            <a:avLst>
              <a:gd name="adj" fmla="val 16667"/>
            </a:avLst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tice (Review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250920" y="0"/>
            <a:ext cx="230508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17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250920" y="1844640"/>
            <a:ext cx="8675640" cy="863640"/>
          </a:xfrm>
          <a:prstGeom prst="rect">
            <a:avLst/>
          </a:prstGeom>
          <a:solidFill>
            <a:srgbClr val="548dd4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sp the concept of P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50920" y="3429000"/>
            <a:ext cx="8675640" cy="863640"/>
          </a:xfrm>
          <a:prstGeom prst="rect">
            <a:avLst/>
          </a:prstGeom>
          <a:solidFill>
            <a:srgbClr val="548dd4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 the difference between PR and ad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250920" y="0"/>
            <a:ext cx="25207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7286760" y="1071720"/>
            <a:ext cx="1439640" cy="136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/>
          <p:cNvSpPr/>
          <p:nvPr/>
        </p:nvSpPr>
        <p:spPr>
          <a:xfrm>
            <a:off x="7093080" y="2276640"/>
            <a:ext cx="1726920" cy="576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4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250920" y="0"/>
            <a:ext cx="25207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37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  <p:sp>
        <p:nvSpPr>
          <p:cNvPr id="558" name="Oval 2"/>
          <p:cNvSpPr/>
          <p:nvPr/>
        </p:nvSpPr>
        <p:spPr>
          <a:xfrm>
            <a:off x="2268360" y="981000"/>
            <a:ext cx="5446800" cy="5160960"/>
          </a:xfrm>
          <a:prstGeom prst="ellipse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2629080" y="2637000"/>
            <a:ext cx="194292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2557440" y="3571920"/>
            <a:ext cx="1727280" cy="39888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. 1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5365800" y="3571920"/>
            <a:ext cx="2230560" cy="39888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. 3-5/10-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3997440" y="5229360"/>
            <a:ext cx="1942920" cy="33732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s. 6-9/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V="1">
            <a:off x="5005440" y="98100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6"/>
          <p:cNvSpPr/>
          <p:nvPr/>
        </p:nvSpPr>
        <p:spPr>
          <a:xfrm flipH="1">
            <a:off x="3635280" y="3429000"/>
            <a:ext cx="137016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7"/>
          <p:cNvSpPr/>
          <p:nvPr/>
        </p:nvSpPr>
        <p:spPr>
          <a:xfrm>
            <a:off x="5005440" y="3429000"/>
            <a:ext cx="143820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365800" y="2637000"/>
            <a:ext cx="194292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643280" y="4653000"/>
            <a:ext cx="792360" cy="47304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0"/>
          <p:cNvSpPr/>
          <p:nvPr/>
        </p:nvSpPr>
        <p:spPr>
          <a:xfrm>
            <a:off x="2268360" y="5229360"/>
            <a:ext cx="2087640" cy="72720"/>
          </a:xfrm>
          <a:prstGeom prst="rightArrow">
            <a:avLst>
              <a:gd name="adj1" fmla="val 50000"/>
              <a:gd name="adj2" fmla="val 7176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1"/>
          <p:cNvSpPr/>
          <p:nvPr/>
        </p:nvSpPr>
        <p:spPr>
          <a:xfrm>
            <a:off x="826920" y="4941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y stu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4932360" y="1916280"/>
            <a:ext cx="3887640" cy="9471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uffing about bad n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826920" y="4292640"/>
            <a:ext cx="2448000" cy="9471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ffing celebr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888000" cy="2489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3" descr="图片1_副本"/>
          <p:cNvPicPr/>
          <p:nvPr/>
        </p:nvPicPr>
        <p:blipFill>
          <a:blip r:embed="rId2"/>
          <a:stretch/>
        </p:blipFill>
        <p:spPr>
          <a:xfrm>
            <a:off x="395280" y="1197000"/>
            <a:ext cx="2808360" cy="252576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24"/>
          <p:cNvSpPr/>
          <p:nvPr/>
        </p:nvSpPr>
        <p:spPr>
          <a:xfrm>
            <a:off x="3276720" y="2133720"/>
            <a:ext cx="1368360" cy="2887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6"/>
          <p:cNvSpPr/>
          <p:nvPr/>
        </p:nvSpPr>
        <p:spPr>
          <a:xfrm rot="10800000">
            <a:off x="3492360" y="4436640"/>
            <a:ext cx="1368720" cy="28908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2"/>
          <p:cNvSpPr/>
          <p:nvPr/>
        </p:nvSpPr>
        <p:spPr>
          <a:xfrm>
            <a:off x="6804000" y="331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.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18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3492360" y="2205000"/>
            <a:ext cx="2880000" cy="2305080"/>
          </a:xfrm>
          <a:prstGeom prst="pie">
            <a:avLst/>
          </a:prstGeom>
          <a:solidFill>
            <a:srgbClr val="548dd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95280" y="2708280"/>
            <a:ext cx="2952720" cy="106884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ching stories 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urna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6804000" y="331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.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6516720" y="2708280"/>
            <a:ext cx="2341440" cy="106884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up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3348000" y="981000"/>
            <a:ext cx="3087720" cy="106884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1187280" y="4653000"/>
            <a:ext cx="2881440" cy="106884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ing eye-catching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724360" y="4653000"/>
            <a:ext cx="2562480" cy="106884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ing out samples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14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23640" y="12794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ing the news or business press to secure positive coverage about your                       or your products; cultivating a good relationship with                     representative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ine 13"/>
          <p:cNvSpPr/>
          <p:nvPr/>
        </p:nvSpPr>
        <p:spPr>
          <a:xfrm flipH="1" flipV="1">
            <a:off x="1763640" y="2204640"/>
            <a:ext cx="223200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7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8"/>
          <p:cNvSpPr/>
          <p:nvPr/>
        </p:nvSpPr>
        <p:spPr>
          <a:xfrm>
            <a:off x="6429240" y="17859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mp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9"/>
          <p:cNvSpPr/>
          <p:nvPr/>
        </p:nvSpPr>
        <p:spPr>
          <a:xfrm>
            <a:off x="3429000" y="271368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cal pre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250920" y="0"/>
            <a:ext cx="194292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6804000" y="331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. 1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2556000" y="4292640"/>
            <a:ext cx="3600360" cy="792000"/>
          </a:xfrm>
          <a:prstGeom prst="rect">
            <a:avLst/>
          </a:prstGeom>
          <a:gradFill rotWithShape="0">
            <a:gsLst>
              <a:gs pos="0">
                <a:srgbClr val="548dd4"/>
              </a:gs>
              <a:gs pos="50000">
                <a:srgbClr val="1f497d"/>
              </a:gs>
              <a:gs pos="100000">
                <a:srgbClr val="548dd4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3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</p:spTree>
  </p:cSld>
  <p:transition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500" autoRev="1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95" dur="500" autoRev="1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250920" y="763560"/>
            <a:ext cx="856908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250920" y="0"/>
            <a:ext cx="2178000" cy="762120"/>
          </a:xfrm>
          <a:prstGeom prst="rect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"/>
          <p:cNvSpPr/>
          <p:nvPr/>
        </p:nvSpPr>
        <p:spPr>
          <a:xfrm>
            <a:off x="2268360" y="981000"/>
            <a:ext cx="5446800" cy="5160960"/>
          </a:xfrm>
          <a:prstGeom prst="ellipse">
            <a:avLst/>
          </a:prstGeom>
          <a:solidFill>
            <a:srgbClr val="548dd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2629080" y="2637000"/>
            <a:ext cx="194292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2557440" y="3571920"/>
            <a:ext cx="1727280" cy="39888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.1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5365800" y="3571920"/>
            <a:ext cx="2230560" cy="39888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. 3-5/10-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3997440" y="5229360"/>
            <a:ext cx="1942920" cy="337320"/>
          </a:xfrm>
          <a:prstGeom prst="rect">
            <a:avLst/>
          </a:prstGeom>
          <a:solidFill>
            <a:srgbClr val="548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s.6-9/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6"/>
          <p:cNvSpPr/>
          <p:nvPr/>
        </p:nvSpPr>
        <p:spPr>
          <a:xfrm flipV="1">
            <a:off x="5005440" y="98100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7"/>
          <p:cNvSpPr/>
          <p:nvPr/>
        </p:nvSpPr>
        <p:spPr>
          <a:xfrm flipH="1">
            <a:off x="3635280" y="3429000"/>
            <a:ext cx="137016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8"/>
          <p:cNvSpPr/>
          <p:nvPr/>
        </p:nvSpPr>
        <p:spPr>
          <a:xfrm>
            <a:off x="5005440" y="3429000"/>
            <a:ext cx="143820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5365800" y="2637000"/>
            <a:ext cx="1942920" cy="76176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4643280" y="4653000"/>
            <a:ext cx="792360" cy="47304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44"/>
          <p:cNvSpPr txBox="1"/>
          <p:nvPr/>
        </p:nvSpPr>
        <p:spPr>
          <a:xfrm>
            <a:off x="179280" y="6400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b5e4"/>
                </a:solidFill>
                <a:latin typeface="宋体"/>
              </a:rPr>
              <a:t>P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ab5e4"/>
              </a:solidFill>
              <a:latin typeface="宋体"/>
              <a:ea typeface="宋体"/>
            </a:endParaRPr>
          </a:p>
        </p:txBody>
      </p:sp>
      <p:sp>
        <p:nvSpPr>
          <p:cNvPr id="619" name="AutoShape 46"/>
          <p:cNvSpPr/>
          <p:nvPr/>
        </p:nvSpPr>
        <p:spPr>
          <a:xfrm>
            <a:off x="2268360" y="5229360"/>
            <a:ext cx="2087640" cy="72720"/>
          </a:xfrm>
          <a:prstGeom prst="rightArrow">
            <a:avLst>
              <a:gd name="adj1" fmla="val 50000"/>
              <a:gd name="adj2" fmla="val 7176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826920" y="4941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y stu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21:00Z</dcterms:created>
  <dc:creator>微软用户</dc:creator>
  <dc:description/>
  <cp:keywords/>
  <dc:language>en-US</dc:language>
  <cp:lastModifiedBy>User</cp:lastModifiedBy>
  <dcterms:modified xsi:type="dcterms:W3CDTF">2015-11-26T13:05:37Z</dcterms:modified>
  <cp:revision>1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