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87C7-33A8-42A1-8D98-89DD8C411C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BCF1-0750-43B6-9DA9-6AFF91E809D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30D-1759-4C90-863C-4022D223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700-ECB1-4EE9-A58E-136BA541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8F8-B96C-4D1F-91F4-460B8D5B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986-286F-4EB6-B03D-F2EDC7EC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BD51-333F-456B-95A1-6B0CB5E5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A8CD-C698-41A4-B84E-0DE9EC9A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0BFC-EEA5-48B0-B53A-EFDE3A9E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2E0-888C-4A9F-B68C-FE5FEF4A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B4D1-BABC-4AD8-ACEA-5C252F44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9608-B712-41EF-A93F-87FED612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C6E2-D7A7-4C6D-B31C-550B017F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F77-230B-43D0-83BC-81C02D7D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8075-A90B-40EF-9C55-9D138FD4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70BF-71AC-41FF-BD89-9AA68E4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08E6-A3EF-48E5-A84A-B9E86ED2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0620-E5C6-4AC2-B2B7-C9639771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87CB-AEE6-4B5A-B7FA-D244B512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3F5-A3AC-4C45-A615-A2843A1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6E8-9628-4293-86CE-082BC5FF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CAA-1CE3-458E-A0FD-1BCFF42D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F5B-17A1-482E-A454-7443BACD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AC7-2979-4EA2-BE1C-D5074D6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520-82D3-4809-94B5-A60E90D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536-2E83-4106-8AE0-F5B3E54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86DD-DB87-4888-B223-4AFCB4BE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57F-9F48-4B64-B7FB-622579D94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d Adair, troubleshooter extraordin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5" descr="C:\Users\dell\Desktop\12306316_f520.jpg"/>
          <p:cNvPicPr/>
          <p:nvPr/>
        </p:nvPicPr>
        <p:blipFill>
          <a:blip r:embed="rId1"/>
          <a:stretch/>
        </p:blipFill>
        <p:spPr>
          <a:xfrm>
            <a:off x="5715000" y="2590920"/>
            <a:ext cx="3051000" cy="388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dell\Desktop\vector_cartoon_illustration_repair_290115.jpg"/>
          <p:cNvPicPr/>
          <p:nvPr/>
        </p:nvPicPr>
        <p:blipFill>
          <a:blip r:embed="rId2"/>
          <a:stretch/>
        </p:blipFill>
        <p:spPr>
          <a:xfrm>
            <a:off x="1523880" y="2743200"/>
            <a:ext cx="352296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ghlighting the Compound Wor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2209680" y="213372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ouble + shooter=troubleshoo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2364840" y="26668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il  + well=oil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右大括号 14"/>
          <p:cNvSpPr/>
          <p:nvPr/>
        </p:nvSpPr>
        <p:spPr>
          <a:xfrm>
            <a:off x="7010280" y="22860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800 h 685800"/>
              <a:gd name="textAreaBottom" fmla="*/ 68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7238880" y="2362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838080" y="3505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ordinary: it does not mean extra ordin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右大括号 12"/>
          <p:cNvSpPr/>
          <p:nvPr/>
        </p:nvSpPr>
        <p:spPr>
          <a:xfrm>
            <a:off x="7010280" y="34290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3960 h 533520"/>
              <a:gd name="textAreaBottom" fmla="*/ 529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7162920" y="33526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ar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838080" y="44197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dline: it does not mean a line that is de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7238880" y="43434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transpar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右大括号 17"/>
          <p:cNvSpPr/>
          <p:nvPr/>
        </p:nvSpPr>
        <p:spPr>
          <a:xfrm>
            <a:off x="7010280" y="4419720"/>
            <a:ext cx="152640" cy="533160"/>
          </a:xfrm>
          <a:custGeom>
            <a:avLst/>
            <a:gdLst>
              <a:gd name="textAreaLeft" fmla="*/ 0 w 152640"/>
              <a:gd name="textAreaRight" fmla="*/ 55080 w 152640"/>
              <a:gd name="textAreaTop" fmla="*/ 3960 h 533160"/>
              <a:gd name="textAreaBottom" fmla="*/ 5292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3" descr="C:\Users\dell\Desktop\th (1).jpg"/>
          <p:cNvPicPr/>
          <p:nvPr/>
        </p:nvPicPr>
        <p:blipFill>
          <a:blip r:embed="rId1"/>
          <a:stretch/>
        </p:blipFill>
        <p:spPr>
          <a:xfrm rot="344400">
            <a:off x="38052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aying with the Numb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椭圆 59"/>
          <p:cNvSpPr/>
          <p:nvPr/>
        </p:nvSpPr>
        <p:spPr>
          <a:xfrm>
            <a:off x="7162920" y="2895480"/>
            <a:ext cx="1295280" cy="60984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6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组合 17"/>
          <p:cNvGrpSpPr/>
          <p:nvPr/>
        </p:nvGrpSpPr>
        <p:grpSpPr>
          <a:xfrm>
            <a:off x="762120" y="2133720"/>
            <a:ext cx="7619760" cy="4114800"/>
            <a:chOff x="762120" y="2133720"/>
            <a:chExt cx="7619760" cy="4114800"/>
          </a:xfrm>
        </p:grpSpPr>
        <p:sp>
          <p:nvSpPr>
            <p:cNvPr id="178" name="椭圆 2"/>
            <p:cNvSpPr/>
            <p:nvPr/>
          </p:nvSpPr>
          <p:spPr>
            <a:xfrm>
              <a:off x="3610080" y="3649680"/>
              <a:ext cx="2077920" cy="1082520"/>
            </a:xfrm>
            <a:prstGeom prst="ellips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umber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直接连接符 4"/>
            <p:cNvSpPr/>
            <p:nvPr/>
          </p:nvSpPr>
          <p:spPr>
            <a:xfrm flipH="1" flipV="1">
              <a:off x="2069640" y="3649320"/>
              <a:ext cx="1539720" cy="54108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直接连接符 5"/>
            <p:cNvSpPr/>
            <p:nvPr/>
          </p:nvSpPr>
          <p:spPr>
            <a:xfrm flipV="1">
              <a:off x="5383080" y="3416040"/>
              <a:ext cx="1969920" cy="39204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直接连接符 25"/>
            <p:cNvSpPr/>
            <p:nvPr/>
          </p:nvSpPr>
          <p:spPr>
            <a:xfrm>
              <a:off x="5383080" y="4575240"/>
              <a:ext cx="1766880" cy="44604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直接连接符 28"/>
            <p:cNvSpPr/>
            <p:nvPr/>
          </p:nvSpPr>
          <p:spPr>
            <a:xfrm flipH="1">
              <a:off x="2494080" y="4575240"/>
              <a:ext cx="1420560" cy="74772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直接连接符 32"/>
            <p:cNvSpPr/>
            <p:nvPr/>
          </p:nvSpPr>
          <p:spPr>
            <a:xfrm>
              <a:off x="4648320" y="4732560"/>
              <a:ext cx="923760" cy="100944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直接连接符 37"/>
            <p:cNvSpPr/>
            <p:nvPr/>
          </p:nvSpPr>
          <p:spPr>
            <a:xfrm>
              <a:off x="3430440" y="2698560"/>
              <a:ext cx="483840" cy="110808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直接连接符 46"/>
            <p:cNvSpPr/>
            <p:nvPr/>
          </p:nvSpPr>
          <p:spPr>
            <a:xfrm flipV="1">
              <a:off x="4648320" y="2711520"/>
              <a:ext cx="1001520" cy="93816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椭圆 52"/>
            <p:cNvSpPr/>
            <p:nvPr/>
          </p:nvSpPr>
          <p:spPr>
            <a:xfrm>
              <a:off x="2378160" y="2205000"/>
              <a:ext cx="1231560" cy="5778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1915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椭圆 56"/>
            <p:cNvSpPr/>
            <p:nvPr/>
          </p:nvSpPr>
          <p:spPr>
            <a:xfrm>
              <a:off x="4995720" y="2133720"/>
              <a:ext cx="1307880" cy="5778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椭圆 60"/>
            <p:cNvSpPr/>
            <p:nvPr/>
          </p:nvSpPr>
          <p:spPr>
            <a:xfrm>
              <a:off x="7150320" y="4732560"/>
              <a:ext cx="1231560" cy="5778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椭圆 61"/>
            <p:cNvSpPr/>
            <p:nvPr/>
          </p:nvSpPr>
          <p:spPr>
            <a:xfrm>
              <a:off x="4917960" y="5742360"/>
              <a:ext cx="1307880" cy="5061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椭圆 74"/>
            <p:cNvSpPr/>
            <p:nvPr/>
          </p:nvSpPr>
          <p:spPr>
            <a:xfrm>
              <a:off x="1377720" y="5239080"/>
              <a:ext cx="1307880" cy="5760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199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椭圆 81"/>
            <p:cNvSpPr/>
            <p:nvPr/>
          </p:nvSpPr>
          <p:spPr>
            <a:xfrm>
              <a:off x="762120" y="3360960"/>
              <a:ext cx="1307880" cy="5778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89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aying with the Numb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321560" y="2971800"/>
            <a:ext cx="49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’s the year when Red Adair was born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1438200" y="4495680"/>
            <a:ext cx="53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’s a year. In this year a family in Houst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ebrated the arrival of a new-born baby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6" descr="C:\Users\dell\Desktop\th (6).jpg"/>
          <p:cNvPicPr/>
          <p:nvPr/>
        </p:nvPicPr>
        <p:blipFill>
          <a:blip r:embed="rId1"/>
          <a:stretch/>
        </p:blipFill>
        <p:spPr>
          <a:xfrm rot="21087600">
            <a:off x="6665760" y="4963680"/>
            <a:ext cx="2286000" cy="1733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Users\dell\Desktop\255500.png"/>
          <p:cNvPicPr/>
          <p:nvPr/>
        </p:nvPicPr>
        <p:blipFill>
          <a:blip r:embed="rId2"/>
          <a:stretch/>
        </p:blipFill>
        <p:spPr>
          <a:xfrm>
            <a:off x="533520" y="2666880"/>
            <a:ext cx="6248160" cy="1249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Users\dell\Desktop\255500.png"/>
          <p:cNvPicPr/>
          <p:nvPr/>
        </p:nvPicPr>
        <p:blipFill>
          <a:blip r:embed="rId3"/>
          <a:stretch/>
        </p:blipFill>
        <p:spPr>
          <a:xfrm>
            <a:off x="304920" y="4114800"/>
            <a:ext cx="7162560" cy="17715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8"/>
          <p:cNvSpPr/>
          <p:nvPr/>
        </p:nvSpPr>
        <p:spPr>
          <a:xfrm>
            <a:off x="914400" y="1752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cribe and Guess the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7620120" y="35812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9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0" name="直接箭头连接符 11"/>
          <p:cNvCxnSpPr>
            <a:endCxn id="199" idx="1"/>
          </p:cNvCxnSpPr>
          <p:nvPr/>
        </p:nvCxnSpPr>
        <p:spPr>
          <a:xfrm>
            <a:off x="6781320" y="3292560"/>
            <a:ext cx="839160" cy="489600"/>
          </a:xfrm>
          <a:prstGeom prst="straightConnector1">
            <a:avLst/>
          </a:prstGeom>
          <a:ln w="1908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201" name="直接箭头连接符 12"/>
          <p:cNvCxnSpPr>
            <a:endCxn id="199" idx="1"/>
          </p:cNvCxnSpPr>
          <p:nvPr/>
        </p:nvCxnSpPr>
        <p:spPr>
          <a:xfrm flipV="1">
            <a:off x="6857640" y="3780720"/>
            <a:ext cx="762840" cy="639000"/>
          </a:xfrm>
          <a:prstGeom prst="straightConnector1">
            <a:avLst/>
          </a:prstGeom>
          <a:ln w="19080">
            <a:solidFill>
              <a:srgbClr val="2ecbcb"/>
            </a:solidFill>
            <a:miter/>
            <a:tailEnd len="med" type="arrow" w="med"/>
          </a:ln>
        </p:spPr>
      </p:cxnSp>
    </p:spTree>
  </p:cSld>
  <p:transition spd="slow">
    <p:randomBa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aying with the Numb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椭圆 59"/>
          <p:cNvSpPr/>
          <p:nvPr/>
        </p:nvSpPr>
        <p:spPr>
          <a:xfrm>
            <a:off x="7010280" y="3124080"/>
            <a:ext cx="1295640" cy="60984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6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组合 17"/>
          <p:cNvGrpSpPr/>
          <p:nvPr/>
        </p:nvGrpSpPr>
        <p:grpSpPr>
          <a:xfrm>
            <a:off x="762120" y="2438280"/>
            <a:ext cx="7619760" cy="3810240"/>
            <a:chOff x="762120" y="2438280"/>
            <a:chExt cx="7619760" cy="3810240"/>
          </a:xfrm>
        </p:grpSpPr>
        <p:sp>
          <p:nvSpPr>
            <p:cNvPr id="205" name="椭圆 2"/>
            <p:cNvSpPr/>
            <p:nvPr/>
          </p:nvSpPr>
          <p:spPr>
            <a:xfrm>
              <a:off x="3610080" y="3841560"/>
              <a:ext cx="2077920" cy="1003320"/>
            </a:xfrm>
            <a:prstGeom prst="ellips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umber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直接连接符 4"/>
            <p:cNvSpPr/>
            <p:nvPr/>
          </p:nvSpPr>
          <p:spPr>
            <a:xfrm flipH="1" flipV="1">
              <a:off x="2069640" y="3841200"/>
              <a:ext cx="1539720" cy="50148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直接连接符 5"/>
            <p:cNvSpPr/>
            <p:nvPr/>
          </p:nvSpPr>
          <p:spPr>
            <a:xfrm flipV="1">
              <a:off x="5382360" y="3644280"/>
              <a:ext cx="1817640" cy="34452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直接连接符 25"/>
            <p:cNvSpPr/>
            <p:nvPr/>
          </p:nvSpPr>
          <p:spPr>
            <a:xfrm>
              <a:off x="5383080" y="4699080"/>
              <a:ext cx="1766880" cy="41256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直接连接符 28"/>
            <p:cNvSpPr/>
            <p:nvPr/>
          </p:nvSpPr>
          <p:spPr>
            <a:xfrm flipH="1">
              <a:off x="2494080" y="4699080"/>
              <a:ext cx="1420560" cy="69192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直接连接符 32"/>
            <p:cNvSpPr/>
            <p:nvPr/>
          </p:nvSpPr>
          <p:spPr>
            <a:xfrm>
              <a:off x="4648320" y="4845240"/>
              <a:ext cx="923760" cy="93492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直接连接符 37"/>
            <p:cNvSpPr/>
            <p:nvPr/>
          </p:nvSpPr>
          <p:spPr>
            <a:xfrm>
              <a:off x="3430440" y="2962080"/>
              <a:ext cx="483840" cy="102564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直接连接符 46"/>
            <p:cNvSpPr/>
            <p:nvPr/>
          </p:nvSpPr>
          <p:spPr>
            <a:xfrm flipV="1">
              <a:off x="4648320" y="2973240"/>
              <a:ext cx="1001520" cy="86832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椭圆 52"/>
            <p:cNvSpPr/>
            <p:nvPr/>
          </p:nvSpPr>
          <p:spPr>
            <a:xfrm>
              <a:off x="2378160" y="2504880"/>
              <a:ext cx="1231560" cy="5349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1915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椭圆 56"/>
            <p:cNvSpPr/>
            <p:nvPr/>
          </p:nvSpPr>
          <p:spPr>
            <a:xfrm>
              <a:off x="4995720" y="2438280"/>
              <a:ext cx="1307880" cy="5349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椭圆 60"/>
            <p:cNvSpPr/>
            <p:nvPr/>
          </p:nvSpPr>
          <p:spPr>
            <a:xfrm>
              <a:off x="7150320" y="4845240"/>
              <a:ext cx="1231560" cy="5349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椭圆 61"/>
            <p:cNvSpPr/>
            <p:nvPr/>
          </p:nvSpPr>
          <p:spPr>
            <a:xfrm>
              <a:off x="4917960" y="5780160"/>
              <a:ext cx="1307880" cy="4683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椭圆 74"/>
            <p:cNvSpPr/>
            <p:nvPr/>
          </p:nvSpPr>
          <p:spPr>
            <a:xfrm>
              <a:off x="1377720" y="5313600"/>
              <a:ext cx="1307880" cy="5331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199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椭圆 81"/>
            <p:cNvSpPr/>
            <p:nvPr/>
          </p:nvSpPr>
          <p:spPr>
            <a:xfrm>
              <a:off x="762120" y="3574800"/>
              <a:ext cx="1307880" cy="5349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89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TextBox 19"/>
          <p:cNvSpPr/>
          <p:nvPr/>
        </p:nvSpPr>
        <p:spPr>
          <a:xfrm>
            <a:off x="1600200" y="6324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mber not to spell out the number direct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22"/>
          <p:cNvSpPr/>
          <p:nvPr/>
        </p:nvSpPr>
        <p:spPr>
          <a:xfrm>
            <a:off x="106668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cribe and Guess the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osing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219320" y="279396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ory about the technician in chronological order and illustrate his essential qualities with som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ajor ev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umbe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mpound wor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3" descr="C:\Users\dell\Desktop\-736543577.png"/>
          <p:cNvPicPr/>
          <p:nvPr/>
        </p:nvPicPr>
        <p:blipFill>
          <a:blip r:embed="rId1"/>
          <a:stretch/>
        </p:blipFill>
        <p:spPr>
          <a:xfrm>
            <a:off x="914400" y="1371600"/>
            <a:ext cx="4714920" cy="1471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C:\Users\dell\Desktop\thEQYYNMUK.jpg"/>
          <p:cNvPicPr/>
          <p:nvPr/>
        </p:nvPicPr>
        <p:blipFill>
          <a:blip r:embed="rId2"/>
          <a:stretch/>
        </p:blipFill>
        <p:spPr>
          <a:xfrm>
            <a:off x="6248520" y="4724280"/>
            <a:ext cx="236196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dell\Desktop\W020150508385810164222.jpg"/>
          <p:cNvPicPr/>
          <p:nvPr/>
        </p:nvPicPr>
        <p:blipFill>
          <a:blip r:embed="rId3"/>
          <a:stretch/>
        </p:blipFill>
        <p:spPr>
          <a:xfrm>
            <a:off x="1295280" y="4267080"/>
            <a:ext cx="381024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6" descr="imagesCA5IG081"/>
          <p:cNvPicPr/>
          <p:nvPr/>
        </p:nvPicPr>
        <p:blipFill>
          <a:blip r:embed="rId1"/>
          <a:stretch/>
        </p:blipFill>
        <p:spPr>
          <a:xfrm>
            <a:off x="1295280" y="1268280"/>
            <a:ext cx="739152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2054160" cy="1330200"/>
          </a:xfrm>
          <a:prstGeom prst="rect">
            <a:avLst/>
          </a:prstGeom>
          <a:ln w="0">
            <a:noFill/>
          </a:ln>
        </p:spPr>
      </p:pic>
      <p:pic>
        <p:nvPicPr>
          <p:cNvPr id="102" name="内容占位符 5" descr=""/>
          <p:cNvPicPr/>
          <p:nvPr/>
        </p:nvPicPr>
        <p:blipFill>
          <a:blip r:embed="rId2"/>
          <a:stretch/>
        </p:blipFill>
        <p:spPr>
          <a:xfrm>
            <a:off x="1274760" y="1596960"/>
            <a:ext cx="6710400" cy="359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dure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内容占位符 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75708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dell\Desktop\background_for_web_1000x133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pening up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46" descr="untitled 2"/>
          <p:cNvPicPr/>
          <p:nvPr/>
        </p:nvPicPr>
        <p:blipFill>
          <a:blip r:embed="rId1"/>
          <a:stretch/>
        </p:blipFill>
        <p:spPr>
          <a:xfrm>
            <a:off x="5105520" y="228600"/>
            <a:ext cx="34290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805320" y="1752480"/>
            <a:ext cx="83815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is your personal hero or heroin?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1781280" y="5132520"/>
            <a:ext cx="6508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5167440" y="5219640"/>
            <a:ext cx="738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C:\Users\dell\Desktop\nelson_mandela_dead.jpg"/>
          <p:cNvPicPr/>
          <p:nvPr/>
        </p:nvPicPr>
        <p:blipFill>
          <a:blip r:embed="rId2"/>
          <a:stretch/>
        </p:blipFill>
        <p:spPr>
          <a:xfrm>
            <a:off x="609480" y="3124080"/>
            <a:ext cx="1828800" cy="293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C:\Users\dell\Desktop\th (5).jpg"/>
          <p:cNvPicPr/>
          <p:nvPr/>
        </p:nvPicPr>
        <p:blipFill>
          <a:blip r:embed="rId3"/>
          <a:stretch/>
        </p:blipFill>
        <p:spPr>
          <a:xfrm>
            <a:off x="2438280" y="3124080"/>
            <a:ext cx="221004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C:\Users\dell\Desktop\Taylor-Swift-taylor-alison-swift-songs-club-35816678-1024-768.jpg"/>
          <p:cNvPicPr/>
          <p:nvPr/>
        </p:nvPicPr>
        <p:blipFill>
          <a:blip r:embed="rId4"/>
          <a:stretch/>
        </p:blipFill>
        <p:spPr>
          <a:xfrm>
            <a:off x="6629400" y="3124080"/>
            <a:ext cx="198108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C:\Users\dell\Desktop\eb161473-e648-3855-b52d-67d39d6cd11c.jpg"/>
          <p:cNvPicPr/>
          <p:nvPr/>
        </p:nvPicPr>
        <p:blipFill>
          <a:blip r:embed="rId5"/>
          <a:stretch/>
        </p:blipFill>
        <p:spPr>
          <a:xfrm>
            <a:off x="4572000" y="3200400"/>
            <a:ext cx="19810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pening u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2514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his funeral, many family members and fri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nored him by ________________. Many Americ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mber Red Adair for his________. He lived his life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__________________. He was known for his willingness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_____________ to save 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622520" y="182880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isten and fill in the blank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3452040" y="28764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wearing red clot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4890240" y="32576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rav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1392840" y="358128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n the edge of dan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1686960" y="3962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risk his own li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1" descr="C:\Users\dell\Desktop\新建文件夹\image112.jpg"/>
          <p:cNvPicPr/>
          <p:nvPr/>
        </p:nvPicPr>
        <p:blipFill>
          <a:blip r:embed="rId1"/>
          <a:stretch/>
        </p:blipFill>
        <p:spPr>
          <a:xfrm>
            <a:off x="380880" y="4648320"/>
            <a:ext cx="2202120" cy="16002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2925720" y="4952880"/>
            <a:ext cx="589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Verdana"/>
              </a:rPr>
              <a:t>What dangers did he fa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Verdana"/>
              </a:rPr>
              <a:t>Why did people wear red clothes at his funer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第八届外教社杯教学大赛决赛.mp3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11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derstanding the Major Ev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984240" y="3332160"/>
            <a:ext cx="2216160" cy="16970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" descr=""/>
          <p:cNvPicPr/>
          <p:nvPr/>
        </p:nvPicPr>
        <p:blipFill>
          <a:blip r:embed="rId3"/>
          <a:stretch/>
        </p:blipFill>
        <p:spPr>
          <a:xfrm>
            <a:off x="990720" y="5116680"/>
            <a:ext cx="2216160" cy="15714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4"/>
          <p:cNvSpPr/>
          <p:nvPr/>
        </p:nvSpPr>
        <p:spPr>
          <a:xfrm>
            <a:off x="3235320" y="2027160"/>
            <a:ext cx="301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the Sahar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er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lg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文本框 5"/>
          <p:cNvSpPr/>
          <p:nvPr/>
        </p:nvSpPr>
        <p:spPr>
          <a:xfrm>
            <a:off x="3309840" y="377676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the North S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文本框 7"/>
          <p:cNvSpPr/>
          <p:nvPr/>
        </p:nvSpPr>
        <p:spPr>
          <a:xfrm>
            <a:off x="3325680" y="594360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Kuwa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文本框 8"/>
          <p:cNvSpPr/>
          <p:nvPr/>
        </p:nvSpPr>
        <p:spPr>
          <a:xfrm>
            <a:off x="5796360" y="1600200"/>
            <a:ext cx="339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 Adai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inguished hu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s of f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ed by milita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li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文本框 11"/>
          <p:cNvSpPr/>
          <p:nvPr/>
        </p:nvSpPr>
        <p:spPr>
          <a:xfrm>
            <a:off x="6172200" y="339732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Red Adair helped control the most serious offshore oil disaster in terms of lives l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文本框 12"/>
          <p:cNvSpPr/>
          <p:nvPr/>
        </p:nvSpPr>
        <p:spPr>
          <a:xfrm>
            <a:off x="6172200" y="518148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Red Adair put 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igantic fire lasting for a long time that could be seen from af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7" name="直接箭头连接符 13"/>
          <p:cNvCxnSpPr/>
          <p:nvPr/>
        </p:nvCxnSpPr>
        <p:spPr>
          <a:xfrm>
            <a:off x="4799520" y="2438280"/>
            <a:ext cx="1600920" cy="28965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8" name="直接箭头连接符 16"/>
          <p:cNvCxnSpPr/>
          <p:nvPr/>
        </p:nvCxnSpPr>
        <p:spPr>
          <a:xfrm flipV="1">
            <a:off x="4800600" y="2513880"/>
            <a:ext cx="1372320" cy="35060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9" name="直接箭头连接符 19"/>
          <p:cNvCxnSpPr/>
          <p:nvPr/>
        </p:nvCxnSpPr>
        <p:spPr>
          <a:xfrm>
            <a:off x="5334120" y="3962520"/>
            <a:ext cx="83880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pening u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19320" y="2514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his funeral, many family members and fri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nored him by ________________. Many Americ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mber Red Adair for his________. He lived his life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__________________. He was known for his willingness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_____________ to save 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622520" y="182880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isten and fill in the blank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3452040" y="28764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wearing red clot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4890240" y="32576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rav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1392840" y="358128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n the edge of dan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1686960" y="3962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risk his own li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11" descr="C:\Users\dell\Desktop\新建文件夹\image112.jpg"/>
          <p:cNvPicPr/>
          <p:nvPr/>
        </p:nvPicPr>
        <p:blipFill>
          <a:blip r:embed="rId1"/>
          <a:stretch/>
        </p:blipFill>
        <p:spPr>
          <a:xfrm>
            <a:off x="380880" y="4648320"/>
            <a:ext cx="220212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0"/>
          <p:cNvSpPr/>
          <p:nvPr/>
        </p:nvSpPr>
        <p:spPr>
          <a:xfrm>
            <a:off x="2882520" y="4952880"/>
            <a:ext cx="61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What dangers did he fa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Verdana"/>
              </a:rPr>
              <a:t>2. Why did people wear red clothes at his funer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第八届外教社杯教学大赛决赛.mp3" descr=""/>
          <p:cNvPicPr/>
          <p:nvPr/>
        </p:nvPicPr>
        <p:blipFill>
          <a:blip r:embed="rId2"/>
          <a:stretch/>
        </p:blipFill>
        <p:spPr>
          <a:xfrm>
            <a:off x="5891040" y="1828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9116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ghlighting the Compound Wor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1295280" y="1752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trademark=trade + ma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90720" y="2438280"/>
          <a:ext cx="7467480" cy="3895920"/>
        </p:xfrm>
        <a:graphic>
          <a:graphicData uri="http://schemas.openxmlformats.org/drawingml/2006/table">
            <a:tbl>
              <a:tblPr/>
              <a:tblGrid>
                <a:gridCol w="2008080"/>
                <a:gridCol w="1954080"/>
                <a:gridCol w="35053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 in the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>
                        <a:alpha val="73000"/>
                      </a:srgbClr>
                    </a:solidFill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sed compound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pace, no hyphens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>
                        <a:alpha val="73000"/>
                      </a:srgbClr>
                    </a:solidFill>
                  </a:tcPr>
                </a:tc>
              </a:tr>
              <a:tr h="12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 comp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 space but no hyph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>
                        <a:alpha val="73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phen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und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 hyph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>
                        <a:alpha val="73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5029200" y="39625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il well (para 1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5137560" y="426708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il rig (para 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029200" y="2895480"/>
            <a:ext cx="288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oubleshooter (tit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ordinary (tit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lfighter (para 6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5029200" y="487692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garette lighter (para 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83640" y="5257800"/>
            <a:ext cx="24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il-related (para 3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6" descr="C:\Users\dell\Desktop\新建文件夹\IMAG0941.jpg"/>
          <p:cNvPicPr/>
          <p:nvPr/>
        </p:nvPicPr>
        <p:blipFill>
          <a:blip r:embed="rId1"/>
          <a:stretch/>
        </p:blipFill>
        <p:spPr>
          <a:xfrm>
            <a:off x="4800600" y="2971800"/>
            <a:ext cx="3817800" cy="259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7" descr="C:\Users\dell\Desktop\新建文件夹\Oil_platform_in_the_North_Sea.jpg"/>
          <p:cNvPicPr/>
          <p:nvPr/>
        </p:nvPicPr>
        <p:blipFill>
          <a:blip r:embed="rId2"/>
          <a:stretch/>
        </p:blipFill>
        <p:spPr>
          <a:xfrm>
            <a:off x="4800600" y="2971800"/>
            <a:ext cx="3751200" cy="24829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4"/>
          <p:cNvSpPr/>
          <p:nvPr/>
        </p:nvSpPr>
        <p:spPr>
          <a:xfrm>
            <a:off x="5162040" y="4572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 leak (para 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35" descr="C:\Users\dell\Desktop\98a9bc98-9a13-4066-9eb8-4976accfc46c-large16x9_GasLeak_689x388.jpg"/>
          <p:cNvPicPr/>
          <p:nvPr/>
        </p:nvPicPr>
        <p:blipFill>
          <a:blip r:embed="rId3"/>
          <a:stretch/>
        </p:blipFill>
        <p:spPr>
          <a:xfrm>
            <a:off x="4876920" y="3048120"/>
            <a:ext cx="3733560" cy="2409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C:\Users\dell\Desktop\th (3).jpg"/>
          <p:cNvPicPr/>
          <p:nvPr/>
        </p:nvPicPr>
        <p:blipFill>
          <a:blip r:embed="rId4"/>
          <a:stretch/>
        </p:blipFill>
        <p:spPr>
          <a:xfrm>
            <a:off x="4952880" y="2971800"/>
            <a:ext cx="335304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7,23,-87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7,23,-87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7,23,-87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7,23,-87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sflep</cp:lastModifiedBy>
  <dcterms:modified xsi:type="dcterms:W3CDTF">2017-11-24T11:05:45Z</dcterms:modified>
  <cp:revision>3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