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2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28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8.jpeg" ContentType="image/jpeg"/>
  <Override PartName="/ppt/media/image13.jpeg" ContentType="image/jpeg"/>
  <Override PartName="/ppt/media/image20.jpeg" ContentType="image/jpeg"/>
  <Override PartName="/ppt/media/key.wav" ContentType="audio/x-wav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6.jpeg" ContentType="image/jpeg"/>
  <Override PartName="/ppt/media/image17.jpeg" ContentType="image/jpe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CDE-28F9-4333-ACAE-F75C06B3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40320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1640" y="5814720"/>
            <a:ext cx="40320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E47-FAD3-4307-9D3C-21ECD6ED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3768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71640" y="581472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37680" y="581472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5CA-3350-4F64-A8F5-DCD13726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334960" y="558936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698640" y="558936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71640" y="581472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334960" y="581472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698640" y="581472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31E-FCCB-4D73-A731-7A93E7EC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8591-78F5-4897-8BAD-4E64576E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5589360"/>
            <a:ext cx="4032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A2D7-6579-4A4F-A5F3-39D42E7B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4032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7400-AAB2-47E7-919F-3CEEBFBE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967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037680" y="5589360"/>
            <a:ext cx="1967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A20E-140C-494A-9A67-B330EBC9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023C-1385-4996-9841-45E61E21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000" y="4654080"/>
            <a:ext cx="4608360" cy="40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203D-6B9C-4960-8B92-D7894D1F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037680" y="5589360"/>
            <a:ext cx="1967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71640" y="581472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F5C0-2EC5-4BBF-B4BD-5481AFCD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71640" y="5589360"/>
            <a:ext cx="4032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A3B-0376-4EC8-822C-213943E0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967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3768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37680" y="581472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E343-8699-4977-A817-B1F44AE4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3768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1640" y="5814720"/>
            <a:ext cx="40320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93F4-A37C-4A9E-8B57-E01A0C8D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40320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71640" y="5814720"/>
            <a:ext cx="40320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68F2-2B64-4BB8-A622-3B844DD4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768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71640" y="581472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37680" y="581472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CCCE-AA79-4C81-A74E-BC62FC4F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334960" y="558936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698640" y="558936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71640" y="581472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334960" y="581472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3698640" y="5814720"/>
            <a:ext cx="129816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FC68-F149-4365-AA56-E6221E74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4032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7B6-C19C-4A0B-86B0-305C5E70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967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037680" y="5589360"/>
            <a:ext cx="1967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50C-0FEB-4140-BB78-3676E0AD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531-61C2-4E26-A51C-80E29D3B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4654080"/>
            <a:ext cx="4608360" cy="40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906-FC84-4078-B5CF-9B1182B2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037680" y="5589360"/>
            <a:ext cx="1967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71640" y="581472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BB1-79EC-4AA6-83BE-676267EE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9674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03768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37680" y="581472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31F-3C45-49E7-B481-73F25F85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37680" y="5589360"/>
            <a:ext cx="19674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640" y="5814720"/>
            <a:ext cx="4032000" cy="2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ECF-7A55-4BA4-A540-F491FCCC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5560" y="-15840"/>
            <a:ext cx="9277560" cy="6899400"/>
            <a:chOff x="-25560" y="-15840"/>
            <a:chExt cx="9277560" cy="6899400"/>
          </a:xfrm>
        </p:grpSpPr>
        <p:pic>
          <p:nvPicPr>
            <p:cNvPr id="1" name="" descr=""/>
            <p:cNvPicPr/>
            <p:nvPr/>
          </p:nvPicPr>
          <p:blipFill>
            <a:blip r:embed="rId2"/>
            <a:srcRect l="8323" t="9665" r="15674" b="0"/>
            <a:stretch/>
          </p:blipFill>
          <p:spPr>
            <a:xfrm>
              <a:off x="11520" y="-15840"/>
              <a:ext cx="9240480" cy="68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25560" y="1088640"/>
              <a:ext cx="9237960" cy="507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37E6-892D-4EC9-8973-B06FAC1F50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9018" t="0" r="7573" b="0"/>
          <a:stretch/>
        </p:blipFill>
        <p:spPr>
          <a:xfrm>
            <a:off x="0" y="144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1321-8427-4A03-A9B7-ED17ADAC3A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18.pn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key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932000" y="6237000"/>
            <a:ext cx="403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</a:rPr>
              <a:t>In-class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3575160"/>
            <a:ext cx="828216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0" y="2924280"/>
            <a:ext cx="9144000" cy="1512720"/>
          </a:xfrm>
          <a:prstGeom prst="rect">
            <a:avLst/>
          </a:prstGeom>
          <a:solidFill>
            <a:srgbClr val="cc99ff">
              <a:alpha val="5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Georgia"/>
              </a:rPr>
              <a:t>How I Discovered Word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5800" y="620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333360"/>
            <a:ext cx="352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黑体"/>
              </a:rPr>
              <a:t>Unit Five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黑体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4654080"/>
            <a:ext cx="4608360" cy="863640"/>
          </a:xfrm>
          <a:prstGeom prst="rect">
            <a:avLst/>
          </a:prstGeom>
          <a:solidFill>
            <a:srgbClr val="bbe0e3">
              <a:alpha val="5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2c84"/>
                </a:solidFill>
                <a:latin typeface="Arial"/>
              </a:rPr>
              <a:t>How I Discovered Wor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867280" y="4076640"/>
            <a:ext cx="16509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9423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Georgia"/>
              </a:rPr>
              <a:t>Story T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684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Let’s read the stor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00"/>
                </a:solidFill>
                <a:uFillTx/>
                <a:latin typeface="Times New Roman"/>
              </a:rPr>
              <a:t>How I Discovered Words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00120" y="3789360"/>
            <a:ext cx="1770120" cy="2160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35640" y="3716280"/>
            <a:ext cx="19335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海伦出生的小屋"/>
          <p:cNvPicPr/>
          <p:nvPr/>
        </p:nvPicPr>
        <p:blipFill>
          <a:blip r:embed="rId1"/>
          <a:stretch/>
        </p:blipFill>
        <p:spPr>
          <a:xfrm>
            <a:off x="2771640" y="103320"/>
            <a:ext cx="3529080" cy="22827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942920" cy="14623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572000" y="5157720"/>
            <a:ext cx="1800360" cy="13716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48" name="" descr="那口著名的井"/>
          <p:cNvPicPr/>
          <p:nvPr/>
        </p:nvPicPr>
        <p:blipFill>
          <a:blip r:embed="rId4"/>
          <a:stretch/>
        </p:blipFill>
        <p:spPr>
          <a:xfrm>
            <a:off x="324000" y="5013360"/>
            <a:ext cx="2087280" cy="14875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2340000" y="4653000"/>
            <a:ext cx="1512720" cy="2016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324000" y="1916280"/>
            <a:ext cx="1831680" cy="18716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3851280" y="5661000"/>
            <a:ext cx="649440" cy="649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2828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3995640" y="119700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96360" y="40464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arch 3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 Black"/>
              </a:rPr>
              <a:t>rd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,18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0360" y="357336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n Ann’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4292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n the well-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19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t the close of the day, in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4508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One day (several days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7308720" y="1125360"/>
            <a:ext cx="1582920" cy="1944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3635280" y="278136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76720" y="2492280"/>
            <a:ext cx="2305080" cy="2016360"/>
          </a:xfrm>
          <a:custGeom>
            <a:avLst/>
            <a:gdLst>
              <a:gd name="textAreaLeft" fmla="*/ 0 w 2305080"/>
              <a:gd name="textAreaRight" fmla="*/ 2305080 w 230508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15408" y="4885"/>
                </a:moveTo>
                <a:arcTo wR="-7498" hR="-7498" stAng="-3124807" swAng="-18480375"/>
                <a:lnTo>
                  <a:pt x="0" y="10816"/>
                </a:lnTo>
                <a:arcTo wR="10800" hR="10800" stAng="10794817" swAng="18480375"/>
                <a:lnTo>
                  <a:pt x="2503" y="21450"/>
                </a:lnTo>
                <a:lnTo>
                  <a:pt x="1745" y="15343"/>
                </a:lnTo>
                <a:lnTo>
                  <a:pt x="7851" y="14585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7200">
            <a:off x="6156000" y="189000"/>
            <a:ext cx="1295280" cy="12970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898238"/>
                <a:lnTo>
                  <a:pt x="369" y="7999"/>
                </a:lnTo>
                <a:arcTo wR="10800" hR="10800" stAng="-9898238" swAng="989823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2828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4408400">
            <a:off x="240120" y="3788280"/>
            <a:ext cx="1152720" cy="129708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2828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6838200">
            <a:off x="6181200" y="4411800"/>
            <a:ext cx="1681200" cy="158904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6945905"/>
                <a:lnTo>
                  <a:pt x="6105" y="1074"/>
                </a:lnTo>
                <a:arcTo wR="10800" hR="10800" stAng="-6945905" swAng="694590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2828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67640" y="3068640"/>
            <a:ext cx="7905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828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0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</a:rPr>
              <a:t>Text reading</a:t>
            </a:r>
            <a:br>
              <a:rPr sz="3200"/>
            </a:br>
            <a:r>
              <a:rPr b="0" lang="zh-CN" sz="4400" spc="-1" strike="noStrike">
                <a:solidFill>
                  <a:srgbClr val="cc0099"/>
                </a:solidFill>
                <a:latin typeface="Times New Roman"/>
              </a:rPr>
              <a:t>How I </a:t>
            </a: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D</a:t>
            </a:r>
            <a:r>
              <a:rPr b="0" lang="zh-CN" sz="4400" spc="-1" strike="noStrike">
                <a:solidFill>
                  <a:srgbClr val="cc0099"/>
                </a:solidFill>
                <a:latin typeface="Times New Roman"/>
              </a:rPr>
              <a:t>iscovered </a:t>
            </a: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W</a:t>
            </a:r>
            <a:r>
              <a:rPr b="0" lang="zh-CN" sz="4400" spc="-1" strike="noStrike">
                <a:solidFill>
                  <a:srgbClr val="cc0099"/>
                </a:solidFill>
                <a:latin typeface="Times New Roman"/>
              </a:rPr>
              <a:t>ord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58920" y="3357720"/>
            <a:ext cx="7416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read the first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84720" y="333000"/>
            <a:ext cx="25876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agraph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1421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9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0" i="1" lang="en-US" sz="3600" spc="-1" strike="noStrike">
                <a:solidFill>
                  <a:srgbClr val="003300"/>
                </a:solidFill>
                <a:latin typeface="Georgia"/>
              </a:rPr>
              <a:t>The most important day I remember in all my life is the one on which my teacher, Anne Mansfield Sullivan, came to me.   I am filled with wonder when I consider the immeasurable contrast between the two lives which it connects.  It was the third of March, 1887, three months before I was seven years o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3357720"/>
            <a:ext cx="2446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3789360"/>
            <a:ext cx="734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4365720"/>
            <a:ext cx="73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4797360"/>
            <a:ext cx="576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1844640"/>
            <a:ext cx="59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5300640"/>
            <a:ext cx="576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ara1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key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30989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lack"/>
              </a:rPr>
              <a:t>March 3rd, 18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3311640" cy="36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Life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268280"/>
            <a:ext cx="346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1268280"/>
            <a:ext cx="346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1557360"/>
            <a:ext cx="346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2565360"/>
            <a:ext cx="3527280" cy="360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Life afte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4797360"/>
            <a:ext cx="69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黑体"/>
              </a:rPr>
              <a:t>Immeasu</a:t>
            </a:r>
            <a:r>
              <a:rPr b="0" lang="en-US" sz="4800" spc="-1" strike="noStrike">
                <a:solidFill>
                  <a:srgbClr val="000000"/>
                </a:solidFill>
                <a:latin typeface="Impact"/>
                <a:ea typeface="黑体"/>
              </a:rPr>
              <a:t>rable </a:t>
            </a:r>
            <a:r>
              <a:rPr b="0" lang="en-US" sz="4800" spc="-1" strike="noStrike">
                <a:solidFill>
                  <a:srgbClr val="333399"/>
                </a:solidFill>
                <a:latin typeface="Impact"/>
                <a:ea typeface="黑体"/>
              </a:rPr>
              <a:t>contr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3575160"/>
            <a:ext cx="1873080" cy="1008000"/>
          </a:xfrm>
          <a:prstGeom prst="leftRightArrow">
            <a:avLst>
              <a:gd name="adj1" fmla="val 50000"/>
              <a:gd name="adj2" fmla="val 36992"/>
            </a:avLst>
          </a:prstGeom>
          <a:solidFill>
            <a:srgbClr val="cc99ff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335772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335772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981000"/>
            <a:ext cx="78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filled with wonder when I consider </a:t>
            </a:r>
            <a:r>
              <a:rPr b="1" i="1" lang="en-US" sz="3200" spc="-1" strike="noStrike">
                <a:solidFill>
                  <a:srgbClr val="db4f17"/>
                </a:solidFill>
                <a:latin typeface="Times New Roman"/>
              </a:rPr>
              <a:t>the immeasurable contra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etween th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wo liv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hich </a:t>
            </a: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onnect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My life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dumb, expectant” 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(line5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nger, bitterness, languor, passionate struggle 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line 12-1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Have you ever been at sea in a dense fog, when it seemed as if a tangible white darkness shut you in, and the great ship, tense and anxious, groped her way toward the shore with plummet and sounding-line, and you waited with beating heart for something to happen?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” 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(lin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still, dark world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” (lin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48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197000"/>
            <a:ext cx="8136000" cy="5149080"/>
          </a:xfrm>
          <a:prstGeom prst="rect">
            <a:avLst/>
          </a:prstGeom>
          <a:solidFill>
            <a:srgbClr val="000000"/>
          </a:solidFill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    “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Light! Give me light!”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was the wordless cry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my soul.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(line.20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189000"/>
            <a:ext cx="5219640" cy="72072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Georgia"/>
              </a:rPr>
              <a:t>My life after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17080" y="635328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17386" y="10800"/>
                </a:moveTo>
                <a:lnTo>
                  <a:pt x="6880" y="17806"/>
                </a:lnTo>
                <a:lnTo>
                  <a:pt x="6880" y="3794"/>
                </a:lnTo>
                <a:close/>
              </a:path>
              <a:path fill="darken" w="27774" h="21600">
                <a:moveTo>
                  <a:pt x="19231" y="3794"/>
                </a:moveTo>
                <a:lnTo>
                  <a:pt x="19231" y="17806"/>
                </a:lnTo>
                <a:lnTo>
                  <a:pt x="20893" y="17806"/>
                </a:lnTo>
                <a:lnTo>
                  <a:pt x="2089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268280"/>
            <a:ext cx="882000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b0f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b0f22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db0f22"/>
                </a:solidFill>
                <a:latin typeface="Arial"/>
              </a:rPr>
              <a:t>the light of love shone on me in that very hour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3200" spc="-1" strike="noStrike">
                <a:solidFill>
                  <a:srgbClr val="db0f22"/>
                </a:solidFill>
                <a:latin typeface="Arial"/>
              </a:rPr>
              <a:t>(line</a:t>
            </a:r>
            <a:r>
              <a:rPr b="0" i="1" lang="en-US" sz="3200" spc="-1" strike="noStrike">
                <a:solidFill>
                  <a:srgbClr val="db0f22"/>
                </a:solidFill>
                <a:latin typeface="Arial"/>
              </a:rPr>
              <a:t>s</a:t>
            </a:r>
            <a:r>
              <a:rPr b="0" i="1" lang="zh-CN" sz="3200" spc="-1" strike="noStrike">
                <a:solidFill>
                  <a:srgbClr val="db0f22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db0f22"/>
                </a:solidFill>
                <a:latin typeface="Arial"/>
              </a:rPr>
              <a:t>21</a:t>
            </a:r>
            <a:r>
              <a:rPr b="0" i="1" lang="zh-CN" sz="3200" spc="-1" strike="noStrike">
                <a:solidFill>
                  <a:srgbClr val="db0f2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db0f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b0f22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db0f22"/>
                </a:solidFill>
                <a:latin typeface="Arial"/>
              </a:rPr>
              <a:t>That living word awakened my soul, gave it light, hope, joy, set it free!</a:t>
            </a:r>
            <a:r>
              <a:rPr b="0" lang="zh-CN" sz="3200" spc="-1" strike="noStrike">
                <a:solidFill>
                  <a:srgbClr val="db0f22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db0f2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db0f22"/>
                </a:solidFill>
                <a:latin typeface="Arial"/>
              </a:rPr>
              <a:t> </a:t>
            </a:r>
            <a:r>
              <a:rPr b="0" i="1" lang="zh-CN" sz="3200" spc="-1" strike="noStrike">
                <a:solidFill>
                  <a:srgbClr val="db0f22"/>
                </a:solidFill>
                <a:latin typeface="Arial"/>
              </a:rPr>
              <a:t>(line</a:t>
            </a:r>
            <a:r>
              <a:rPr b="0" i="1" lang="en-US" sz="3200" spc="-1" strike="noStrike">
                <a:solidFill>
                  <a:srgbClr val="db0f22"/>
                </a:solidFill>
                <a:latin typeface="Arial"/>
              </a:rPr>
              <a:t>s</a:t>
            </a:r>
            <a:r>
              <a:rPr b="0" i="1" lang="zh-CN" sz="3200" spc="-1" strike="noStrike">
                <a:solidFill>
                  <a:srgbClr val="db0f22"/>
                </a:solidFill>
                <a:latin typeface="Arial"/>
              </a:rPr>
              <a:t>.6</a:t>
            </a:r>
            <a:r>
              <a:rPr b="0" i="1" lang="en-US" sz="3200" spc="-1" strike="noStrike">
                <a:solidFill>
                  <a:srgbClr val="db0f22"/>
                </a:solidFill>
                <a:latin typeface="Arial"/>
              </a:rPr>
              <a:t>2</a:t>
            </a:r>
            <a:r>
              <a:rPr b="0" i="1" lang="zh-CN" sz="3200" spc="-1" strike="noStrike">
                <a:solidFill>
                  <a:srgbClr val="db0f2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db0f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b0f22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db0f22"/>
                </a:solidFill>
                <a:latin typeface="Arial"/>
              </a:rPr>
              <a:t>every object which I touched seemed to quiver with life”</a:t>
            </a:r>
            <a:r>
              <a:rPr b="1" lang="zh-CN" sz="3200" spc="-1" strike="noStrike">
                <a:solidFill>
                  <a:srgbClr val="db0f22"/>
                </a:solidFill>
                <a:latin typeface="Arial"/>
              </a:rPr>
              <a:t> </a:t>
            </a:r>
            <a:r>
              <a:rPr b="0" i="1" lang="zh-CN" sz="3200" spc="-1" strike="noStrike">
                <a:solidFill>
                  <a:srgbClr val="db0f22"/>
                </a:solidFill>
                <a:latin typeface="Arial"/>
              </a:rPr>
              <a:t>(line.</a:t>
            </a:r>
            <a:r>
              <a:rPr b="0" i="1" lang="en-US" sz="3200" spc="-1" strike="noStrike">
                <a:solidFill>
                  <a:srgbClr val="db0f22"/>
                </a:solidFill>
                <a:latin typeface="Arial"/>
              </a:rPr>
              <a:t>65-66</a:t>
            </a:r>
            <a:r>
              <a:rPr b="0" i="1" lang="zh-CN" sz="3200" spc="-1" strike="noStrike">
                <a:solidFill>
                  <a:srgbClr val="db0f22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db0f2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db0f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b0f22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db0f22"/>
                </a:solidFill>
                <a:latin typeface="Arial"/>
              </a:rPr>
              <a:t>the world blossom for me”</a:t>
            </a:r>
            <a:r>
              <a:rPr b="0" lang="zh-CN" sz="3200" spc="-1" strike="noStrike">
                <a:solidFill>
                  <a:srgbClr val="db0f22"/>
                </a:solidFill>
                <a:latin typeface="Arial"/>
              </a:rPr>
              <a:t> </a:t>
            </a:r>
            <a:r>
              <a:rPr b="0" i="1" lang="zh-CN" sz="3200" spc="-1" strike="noStrike">
                <a:solidFill>
                  <a:srgbClr val="db0f22"/>
                </a:solidFill>
                <a:latin typeface="Arial"/>
              </a:rPr>
              <a:t>(line.7</a:t>
            </a:r>
            <a:r>
              <a:rPr b="0" i="1" lang="en-US" sz="3200" spc="-1" strike="noStrike">
                <a:solidFill>
                  <a:srgbClr val="db0f22"/>
                </a:solidFill>
                <a:latin typeface="Arial"/>
              </a:rPr>
              <a:t>3</a:t>
            </a:r>
            <a:r>
              <a:rPr b="0" i="1" lang="zh-CN" sz="3200" spc="-1" strike="noStrike">
                <a:solidFill>
                  <a:srgbClr val="db0f22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1197000"/>
            <a:ext cx="8640720" cy="4781160"/>
          </a:xfrm>
          <a:prstGeom prst="rect">
            <a:avLst/>
          </a:prstGeom>
          <a:solidFill>
            <a:srgbClr val="ffff99"/>
          </a:solidFill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“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t would have b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fficult to find a happi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ild than I was”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(line.74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1628640"/>
            <a:ext cx="8459640" cy="46227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635280" y="4626000"/>
            <a:ext cx="2160720" cy="2231640"/>
            <a:chOff x="3635280" y="4626000"/>
            <a:chExt cx="2160720" cy="2231640"/>
          </a:xfrm>
        </p:grpSpPr>
        <p:sp>
          <p:nvSpPr>
            <p:cNvPr id="197" name=""/>
            <p:cNvSpPr/>
            <p:nvPr/>
          </p:nvSpPr>
          <p:spPr>
            <a:xfrm>
              <a:off x="3635280" y="5991480"/>
              <a:ext cx="2160720" cy="866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31400" y="4626000"/>
              <a:ext cx="1968120" cy="18666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56960" y="4635720"/>
              <a:ext cx="1920240" cy="18212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7120" y="4653720"/>
              <a:ext cx="1827000" cy="170208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80808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2960" y="4701960"/>
              <a:ext cx="1624680" cy="1380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8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187280" y="4365720"/>
            <a:ext cx="1872000" cy="2016000"/>
            <a:chOff x="1187280" y="4365720"/>
            <a:chExt cx="1872000" cy="2016000"/>
          </a:xfrm>
        </p:grpSpPr>
        <p:sp>
          <p:nvSpPr>
            <p:cNvPr id="203" name=""/>
            <p:cNvSpPr/>
            <p:nvPr/>
          </p:nvSpPr>
          <p:spPr>
            <a:xfrm>
              <a:off x="1187280" y="5599080"/>
              <a:ext cx="1872000" cy="782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70440" y="4365720"/>
              <a:ext cx="1705320" cy="16858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2400" y="4374720"/>
              <a:ext cx="1663920" cy="16452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10040" y="4390920"/>
              <a:ext cx="1582920" cy="153720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80808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01840" y="4434480"/>
              <a:ext cx="1407600" cy="1247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8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 rot="16200000">
            <a:off x="5757840" y="226800"/>
            <a:ext cx="7290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he change of e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2708280"/>
            <a:ext cx="1744560" cy="1900080"/>
            <a:chOff x="0" y="2708280"/>
            <a:chExt cx="1744560" cy="1900080"/>
          </a:xfrm>
        </p:grpSpPr>
        <p:sp>
          <p:nvSpPr>
            <p:cNvPr id="210" name=""/>
            <p:cNvSpPr/>
            <p:nvPr/>
          </p:nvSpPr>
          <p:spPr>
            <a:xfrm>
              <a:off x="0" y="3870720"/>
              <a:ext cx="1744560" cy="737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400" y="2708280"/>
              <a:ext cx="1589040" cy="158904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8280" y="2716560"/>
              <a:ext cx="1550520" cy="15505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480" y="2732040"/>
              <a:ext cx="1475280" cy="144900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80808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9800" y="2773080"/>
              <a:ext cx="1311840" cy="1175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8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476360" y="1413000"/>
            <a:ext cx="1382760" cy="1568160"/>
            <a:chOff x="1476360" y="1413000"/>
            <a:chExt cx="1382760" cy="1568160"/>
          </a:xfrm>
        </p:grpSpPr>
        <p:sp>
          <p:nvSpPr>
            <p:cNvPr id="216" name=""/>
            <p:cNvSpPr/>
            <p:nvPr/>
          </p:nvSpPr>
          <p:spPr>
            <a:xfrm>
              <a:off x="1476360" y="2372400"/>
              <a:ext cx="1382760" cy="608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37920" y="1413000"/>
              <a:ext cx="1259640" cy="13114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54120" y="1419840"/>
              <a:ext cx="1229040" cy="1279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67080" y="1432440"/>
              <a:ext cx="1169280" cy="119592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80808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4760" y="1466280"/>
              <a:ext cx="1039680" cy="969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8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219640" y="907920"/>
            <a:ext cx="871560" cy="948960"/>
            <a:chOff x="5219640" y="907920"/>
            <a:chExt cx="871560" cy="948960"/>
          </a:xfrm>
        </p:grpSpPr>
        <p:sp>
          <p:nvSpPr>
            <p:cNvPr id="222" name=""/>
            <p:cNvSpPr/>
            <p:nvPr/>
          </p:nvSpPr>
          <p:spPr>
            <a:xfrm>
              <a:off x="5219640" y="1488600"/>
              <a:ext cx="871560" cy="368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58160" y="907920"/>
              <a:ext cx="793800" cy="7938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68600" y="911880"/>
              <a:ext cx="774720" cy="7747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76880" y="919800"/>
              <a:ext cx="736920" cy="72396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80808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19360" y="940320"/>
              <a:ext cx="655560" cy="587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8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11280" y="620640"/>
            <a:ext cx="82105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419640" y="907920"/>
            <a:ext cx="1152360" cy="1225800"/>
            <a:chOff x="3419640" y="907920"/>
            <a:chExt cx="1152360" cy="1225800"/>
          </a:xfrm>
        </p:grpSpPr>
        <p:sp>
          <p:nvSpPr>
            <p:cNvPr id="229" name=""/>
            <p:cNvSpPr/>
            <p:nvPr/>
          </p:nvSpPr>
          <p:spPr>
            <a:xfrm>
              <a:off x="3419640" y="1657800"/>
              <a:ext cx="1152360" cy="475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70760" y="907920"/>
              <a:ext cx="1049760" cy="102528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84440" y="913320"/>
              <a:ext cx="1024200" cy="10004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95240" y="923040"/>
              <a:ext cx="974520" cy="93492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80808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51760" y="949680"/>
              <a:ext cx="866520" cy="758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8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227640" y="4365720"/>
            <a:ext cx="2181240" cy="2376000"/>
            <a:chOff x="6227640" y="4365720"/>
            <a:chExt cx="2181240" cy="2376000"/>
          </a:xfrm>
        </p:grpSpPr>
        <p:sp>
          <p:nvSpPr>
            <p:cNvPr id="235" name=""/>
            <p:cNvSpPr/>
            <p:nvPr/>
          </p:nvSpPr>
          <p:spPr>
            <a:xfrm>
              <a:off x="6227640" y="5819400"/>
              <a:ext cx="2181240" cy="922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24480" y="4365720"/>
              <a:ext cx="1986840" cy="19872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50400" y="4376160"/>
              <a:ext cx="1938600" cy="19393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0560" y="4395240"/>
              <a:ext cx="1844640" cy="181224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100000">
                  <a:srgbClr val="80808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77480" y="4446720"/>
              <a:ext cx="1640160" cy="1469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8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6200000">
            <a:off x="5935320" y="48960"/>
            <a:ext cx="7290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594600" y="-57600"/>
            <a:ext cx="729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ger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865880" y="662760"/>
            <a:ext cx="729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sev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1344240" y="2042640"/>
            <a:ext cx="756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ounding wor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ing the d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1794600" y="3686760"/>
            <a:ext cx="729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zed the mea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“wat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4429800" y="4363200"/>
            <a:ext cx="1003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ling the fra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d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7153560" y="4520160"/>
            <a:ext cx="4546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ing in the c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51640" y="620640"/>
            <a:ext cx="1655640" cy="79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umb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pec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19640" y="1197000"/>
            <a:ext cx="1512720" cy="57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1844640"/>
            <a:ext cx="165744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leas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3068640"/>
            <a:ext cx="2305080" cy="79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4653000"/>
            <a:ext cx="3024000" cy="79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keenly deligh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cited, eager to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5280" y="5084640"/>
            <a:ext cx="2232000" cy="79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pen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 s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83280" y="5084640"/>
            <a:ext cx="259236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joyful and hop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55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the emotional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5300640"/>
            <a:ext cx="2881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umb, expectant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4508640"/>
            <a:ext cx="25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00000" y="1989000"/>
            <a:ext cx="2664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leasant and pr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2133720"/>
            <a:ext cx="287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keenly deligh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2421000"/>
            <a:ext cx="3097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excited, eager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35640" y="4365720"/>
            <a:ext cx="3168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pentant and s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5013360"/>
            <a:ext cx="251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659640" y="765000"/>
            <a:ext cx="2952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joyful and hop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79280" y="4436640"/>
            <a:ext cx="684360" cy="10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26920" y="2997360"/>
            <a:ext cx="1081080" cy="144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79640" y="3068640"/>
            <a:ext cx="1297080" cy="216072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276720" y="3212640"/>
            <a:ext cx="1008000" cy="201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56000" y="3213000"/>
            <a:ext cx="1224000" cy="1368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651640" y="2707920"/>
            <a:ext cx="936360" cy="180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588000" y="1125000"/>
            <a:ext cx="216000" cy="151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287a"/>
                </a:solidFill>
                <a:latin typeface="Georgia"/>
              </a:rPr>
              <a:t>Cont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1268280"/>
            <a:ext cx="5761080" cy="3897720"/>
          </a:xfrm>
          <a:prstGeom prst="rect">
            <a:avLst/>
          </a:prstGeom>
          <a:solidFill>
            <a:srgbClr val="ffff99"/>
          </a:solidFill>
          <a:ln cap="rnd" w="7632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Impact"/>
                <a:hlinkClick r:id="rId1" action="ppaction://hlinksldjump"/>
              </a:rPr>
              <a:t>Review useful words and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bout the 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ext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C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Impact"/>
                <a:hlinkClick r:id="rId2" action="ppaction://hlinksldjump"/>
              </a:rPr>
              <a:t>Assignment</a:t>
            </a: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55640" y="1413000"/>
            <a:ext cx="7920000" cy="3018600"/>
          </a:xfrm>
          <a:prstGeom prst="rect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re were barriers still, it is true, but barriers that could in time be swept away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” </a:t>
            </a:r>
            <a:r>
              <a:rPr b="0" i="1" lang="en-US" sz="4800" spc="-1" strike="noStrike">
                <a:solidFill>
                  <a:srgbClr val="ff0000"/>
                </a:solidFill>
                <a:latin typeface="Arial"/>
              </a:rPr>
              <a:t>(line.6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9423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Georgia"/>
              </a:rPr>
              <a:t>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1484280"/>
            <a:ext cx="8640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ing sty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b0f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0f22"/>
                </a:solidFill>
                <a:latin typeface="Times New Roman"/>
              </a:rPr>
              <a:t>Nar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b0f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0f22"/>
                </a:solidFill>
                <a:latin typeface="Times New Roman"/>
              </a:rPr>
              <a:t>Time 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b0f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0f22"/>
                </a:solidFill>
                <a:latin typeface="Times New Roman"/>
              </a:rPr>
              <a:t>Setting, plot, conflict, climax, en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477120"/>
            <a:ext cx="609480" cy="380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24680" y="6470640"/>
            <a:ext cx="6098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9423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Georgia"/>
              </a:rPr>
              <a:t>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6720" y="184464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xt appreci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b0f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0f22"/>
                </a:solidFill>
                <a:latin typeface="Times New Roman"/>
              </a:rPr>
              <a:t>Contrast / Compa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b0f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db0f22"/>
                </a:solidFill>
                <a:latin typeface="Times New Roman"/>
              </a:rPr>
              <a:t>Hidden</a:t>
            </a:r>
            <a:r>
              <a:rPr b="1" i="1" lang="en-US" sz="3600" spc="-1" strike="noStrike">
                <a:solidFill>
                  <a:srgbClr val="db0f22"/>
                </a:solidFill>
                <a:latin typeface="Times New Roman"/>
              </a:rPr>
              <a:t> sequence: emotional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477120"/>
            <a:ext cx="609480" cy="380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24680" y="6470640"/>
            <a:ext cx="6098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56360" y="260280"/>
            <a:ext cx="2519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84"/>
                </a:solidFill>
                <a:latin typeface="Times New Roman"/>
                <a:ea typeface="黑体"/>
              </a:rPr>
              <a:t>How I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Discovered</a:t>
            </a:r>
            <a:r>
              <a:rPr b="1" lang="en-US" sz="4400" spc="-1" strike="noStrike">
                <a:solidFill>
                  <a:srgbClr val="2c2c84"/>
                </a:solidFill>
                <a:latin typeface="Times New Roman"/>
                <a:ea typeface="黑体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42920" y="2349360"/>
            <a:ext cx="698508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84"/>
                </a:solidFill>
                <a:latin typeface="Times New Roman"/>
                <a:ea typeface="黑体"/>
              </a:rPr>
              <a:t>How I </a:t>
            </a:r>
            <a:r>
              <a:rPr b="1" lang="en-US" sz="4400" spc="-1" strike="noStrike" u="sng">
                <a:solidFill>
                  <a:srgbClr val="2c2c84"/>
                </a:solidFill>
                <a:uFillTx/>
                <a:latin typeface="Times New Roman"/>
                <a:ea typeface="黑体"/>
              </a:rPr>
              <a:t>Learnt</a:t>
            </a:r>
            <a:r>
              <a:rPr b="1" lang="en-US" sz="4400" spc="-1" strike="noStrike">
                <a:solidFill>
                  <a:srgbClr val="2c2c84"/>
                </a:solidFill>
                <a:latin typeface="Times New Roman"/>
                <a:ea typeface="黑体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58920" y="3500280"/>
            <a:ext cx="655308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84"/>
                </a:solidFill>
                <a:latin typeface="Times New Roman"/>
                <a:ea typeface="黑体"/>
              </a:rPr>
              <a:t>How I </a:t>
            </a:r>
            <a:r>
              <a:rPr b="1" lang="en-US" sz="4400" spc="-1" strike="noStrike" u="sng">
                <a:solidFill>
                  <a:srgbClr val="2c2c84"/>
                </a:solidFill>
                <a:uFillTx/>
                <a:latin typeface="Times New Roman"/>
                <a:ea typeface="黑体"/>
              </a:rPr>
              <a:t>Got</a:t>
            </a:r>
            <a:r>
              <a:rPr b="1" lang="en-US" sz="4400" spc="-1" strike="noStrike">
                <a:solidFill>
                  <a:srgbClr val="2c2c84"/>
                </a:solidFill>
                <a:latin typeface="Times New Roman"/>
                <a:ea typeface="黑体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00000" y="4581360"/>
            <a:ext cx="748836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2c84"/>
                </a:solidFill>
                <a:latin typeface="Times New Roman"/>
                <a:ea typeface="黑体"/>
              </a:rPr>
              <a:t>How I </a:t>
            </a:r>
            <a:r>
              <a:rPr b="1" lang="en-US" sz="4400" spc="-1" strike="noStrike" u="sng">
                <a:solidFill>
                  <a:srgbClr val="2c2c84"/>
                </a:solidFill>
                <a:uFillTx/>
                <a:latin typeface="Times New Roman"/>
                <a:ea typeface="黑体"/>
              </a:rPr>
              <a:t>Was Taught</a:t>
            </a:r>
            <a:r>
              <a:rPr b="1" lang="en-US" sz="4400" spc="-1" strike="noStrike">
                <a:solidFill>
                  <a:srgbClr val="2c2c84"/>
                </a:solidFill>
                <a:latin typeface="Times New Roman"/>
                <a:ea typeface="黑体"/>
              </a:rPr>
              <a:t>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477120"/>
            <a:ext cx="609480" cy="380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24680" y="6470640"/>
            <a:ext cx="6098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168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eorgia"/>
              </a:rPr>
              <a:t>Assig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Days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eciate and memorize beautiful and inspiring sentences and para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484360" y="2637000"/>
            <a:ext cx="568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Enjoy English 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484360" y="4869000"/>
            <a:ext cx="587700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Enjoy Our Life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6720" y="622440"/>
            <a:ext cx="849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Georgia"/>
                <a:ea typeface="黑体"/>
              </a:rPr>
              <a:t>How I </a:t>
            </a:r>
            <a:r>
              <a:rPr b="1" i="1" lang="zh-CN" sz="3600" spc="-1" strike="noStrike">
                <a:solidFill>
                  <a:srgbClr val="cc0000"/>
                </a:solidFill>
                <a:latin typeface="Georgia"/>
                <a:ea typeface="黑体"/>
              </a:rPr>
              <a:t>D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  <a:ea typeface="黑体"/>
              </a:rPr>
              <a:t>iscovered </a:t>
            </a:r>
            <a:r>
              <a:rPr b="1" i="1" lang="zh-CN" sz="3600" spc="-1" strike="noStrike">
                <a:solidFill>
                  <a:srgbClr val="cc0000"/>
                </a:solidFill>
                <a:latin typeface="Georgia"/>
                <a:ea typeface="黑体"/>
              </a:rPr>
              <a:t>W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  <a:ea typeface="黑体"/>
              </a:rPr>
              <a:t>o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6320" y="2517840"/>
            <a:ext cx="559584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by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51640" y="2637000"/>
            <a:ext cx="27129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35000"/>
            <a:ext cx="8424720" cy="63212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7991280" cy="5113440"/>
          </a:xfrm>
          <a:prstGeom prst="rect">
            <a:avLst/>
          </a:prstGeom>
          <a:solidFill>
            <a:srgbClr val="bbe0e3">
              <a:alpha val="4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I have often thought it would be a blessing if each human being were stricken blind and deaf for a few days at some time during his early adult life.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Georgia"/>
              </a:rPr>
              <a:t>Darkness would make him more appreciative of sight; silence would teach him the joys of s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4520" y="6477120"/>
            <a:ext cx="60948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24680" y="6470640"/>
            <a:ext cx="60984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812000" y="5013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8406"/>
                </a:moveTo>
                <a:lnTo>
                  <a:pt x="11842" y="8406"/>
                </a:lnTo>
                <a:lnTo>
                  <a:pt x="16263" y="3794"/>
                </a:lnTo>
                <a:lnTo>
                  <a:pt x="16263" y="17806"/>
                </a:lnTo>
                <a:lnTo>
                  <a:pt x="11842" y="13194"/>
                </a:lnTo>
                <a:lnTo>
                  <a:pt x="7412" y="13194"/>
                </a:lnTo>
                <a:close/>
              </a:path>
              <a:path fill="darken" w="28836" h="21600">
                <a:moveTo>
                  <a:pt x="17917" y="10800"/>
                </a:moveTo>
                <a:lnTo>
                  <a:pt x="21424" y="10800"/>
                </a:lnTo>
              </a:path>
              <a:path fill="darken" w="28836" h="21600">
                <a:moveTo>
                  <a:pt x="17917" y="8406"/>
                </a:moveTo>
                <a:lnTo>
                  <a:pt x="21424" y="5639"/>
                </a:lnTo>
              </a:path>
              <a:path fill="darken" w="28836" h="21600">
                <a:moveTo>
                  <a:pt x="17917" y="13194"/>
                </a:moveTo>
                <a:lnTo>
                  <a:pt x="21424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6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937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6300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June 27, 1880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-- June 1, 196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51000" cy="482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-7112" r="0" b="-8844"/>
          <a:stretch/>
        </p:blipFill>
        <p:spPr>
          <a:xfrm>
            <a:off x="2411280" y="836640"/>
            <a:ext cx="4237200" cy="576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340000" y="981000"/>
            <a:ext cx="4302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869080" y="2637000"/>
            <a:ext cx="2647800" cy="352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916360" y="3152520"/>
            <a:ext cx="296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Monotype Corsiva"/>
              </a:rPr>
              <a:t>Helen Kell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2713320" cy="3313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6560" y="260280"/>
            <a:ext cx="84981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Georgia"/>
                <a:ea typeface="黑体"/>
              </a:rPr>
              <a:t>How I </a:t>
            </a:r>
            <a:r>
              <a:rPr b="1" i="1" lang="zh-CN" sz="3600" spc="-1" strike="noStrike">
                <a:solidFill>
                  <a:srgbClr val="cc0000"/>
                </a:solidFill>
                <a:latin typeface="Georgia"/>
                <a:ea typeface="黑体"/>
              </a:rPr>
              <a:t>D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  <a:ea typeface="黑体"/>
              </a:rPr>
              <a:t>iscovered </a:t>
            </a:r>
            <a:r>
              <a:rPr b="1" i="1" lang="zh-CN" sz="3600" spc="-1" strike="noStrike">
                <a:solidFill>
                  <a:srgbClr val="cc0000"/>
                </a:solidFill>
                <a:latin typeface="Georgia"/>
                <a:ea typeface="黑体"/>
              </a:rPr>
              <a:t>W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  <a:ea typeface="黑体"/>
              </a:rPr>
              <a:t>o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24000" y="0"/>
            <a:ext cx="8610480" cy="609120"/>
            <a:chOff x="324000" y="0"/>
            <a:chExt cx="8610480" cy="609120"/>
          </a:xfrm>
        </p:grpSpPr>
        <p:sp>
          <p:nvSpPr>
            <p:cNvPr id="111" name=""/>
            <p:cNvSpPr/>
            <p:nvPr/>
          </p:nvSpPr>
          <p:spPr>
            <a:xfrm>
              <a:off x="324000" y="609120"/>
              <a:ext cx="8610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0"/>
              <a:ext cx="8305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061280" y="15228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Backgrou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477120"/>
            <a:ext cx="609480" cy="380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24680" y="6470640"/>
            <a:ext cx="609840" cy="380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760320"/>
            <a:ext cx="259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Helen K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989000"/>
            <a:ext cx="511164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n Keller (June 27, 1880 to June 1, 1968), one of America’s best known women, was famous for her self-sacrificing work to improve the conditions of the blind, the deaf and the mute. She has overcome considerable physical handicaps, served as an inspiration for other afflicted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867280" y="1989000"/>
            <a:ext cx="281016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24000" y="0"/>
            <a:ext cx="8610480" cy="609120"/>
            <a:chOff x="324000" y="0"/>
            <a:chExt cx="8610480" cy="609120"/>
          </a:xfrm>
        </p:grpSpPr>
        <p:sp>
          <p:nvSpPr>
            <p:cNvPr id="121" name=""/>
            <p:cNvSpPr/>
            <p:nvPr/>
          </p:nvSpPr>
          <p:spPr>
            <a:xfrm>
              <a:off x="324000" y="609120"/>
              <a:ext cx="8610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000" y="0"/>
              <a:ext cx="8305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061280" y="15228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Backgrou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4520" y="6477120"/>
            <a:ext cx="609480" cy="38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24680" y="6470640"/>
            <a:ext cx="609840" cy="380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71640" y="981000"/>
            <a:ext cx="7057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n became a remarkable writer and scholar, she wrote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tory of My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187800" cy="4392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342432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24000" y="0"/>
            <a:ext cx="8610480" cy="609120"/>
            <a:chOff x="324000" y="0"/>
            <a:chExt cx="8610480" cy="609120"/>
          </a:xfrm>
        </p:grpSpPr>
        <p:sp>
          <p:nvSpPr>
            <p:cNvPr id="130" name=""/>
            <p:cNvSpPr/>
            <p:nvPr/>
          </p:nvSpPr>
          <p:spPr>
            <a:xfrm>
              <a:off x="324000" y="609120"/>
              <a:ext cx="8610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000" y="0"/>
              <a:ext cx="8305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061280" y="15228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Backgrou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356000" y="765000"/>
            <a:ext cx="2011320" cy="280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732720" y="765000"/>
            <a:ext cx="1885680" cy="273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900000" y="3645000"/>
            <a:ext cx="3456000" cy="2838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427640" y="3716280"/>
            <a:ext cx="3538440" cy="27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9:04:15Z</dcterms:created>
  <dc:creator/>
  <dc:description/>
  <cp:keywords/>
  <dc:language>en-US</dc:language>
  <cp:lastModifiedBy>USER</cp:lastModifiedBy>
  <cp:lastPrinted>1899-12-30T00:00:00Z</cp:lastPrinted>
  <dcterms:modified xsi:type="dcterms:W3CDTF">2010-06-10T04:21:40Z</dcterms:modified>
  <cp:revision>6</cp:revision>
  <dc:subject/>
  <dc:title>The Post-80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228</vt:lpwstr>
  </property>
</Properties>
</file>