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EE941-87D5-4A31-B776-3600ACA86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5791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52120" y="4230000"/>
            <a:ext cx="5791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31C5C-A277-4F02-A6E3-7A2BF4FE2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996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52120" y="423000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19960" y="423000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A812E-8606-4FA2-91E2-9C41363CE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10160" y="399096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668200" y="399096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52120" y="423000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710160" y="423000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668200" y="423000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D5936-521F-4131-9784-BCA7CD2A1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752120" y="399096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282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9960" y="3990960"/>
            <a:ext cx="282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752120" y="2057400"/>
            <a:ext cx="5791320" cy="78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9960" y="3990960"/>
            <a:ext cx="282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752120" y="423000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52120" y="399096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1B6E-FAF8-497B-8B3B-3C40D0F9F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282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996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19960" y="423000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996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752120" y="4230000"/>
            <a:ext cx="5791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5791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752120" y="4230000"/>
            <a:ext cx="5791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1996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752120" y="423000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19960" y="423000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10160" y="399096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668200" y="399096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752120" y="423000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710160" y="423000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668200" y="4230000"/>
            <a:ext cx="18644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B9699-7442-4286-87C7-E11503AFF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282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9960" y="3990960"/>
            <a:ext cx="282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DB2C-390D-4669-8178-64D21DB57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A844-947B-48E9-97B6-7C5417D36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752120" y="2057400"/>
            <a:ext cx="5791320" cy="78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AE1E5-3DF5-4894-83D8-AC9A23613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9960" y="3990960"/>
            <a:ext cx="282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120" y="423000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08602-EC33-43EE-9091-6D2F9837F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282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996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19960" y="423000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BDBFA-3280-435A-9DF2-6A050A604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5212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9960" y="3990960"/>
            <a:ext cx="28260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52120" y="4230000"/>
            <a:ext cx="5791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15584-7B30-451F-BE34-AADC3EDCF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0"/>
            <a:ext cx="8477280" cy="76824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b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d7a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1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13f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548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13f71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3f71"/>
                </a:solidFill>
                <a:latin typeface="Verdana"/>
                <a:ea typeface="宋体"/>
              </a:rPr>
              <a:t>Company 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8640" y="63385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13f71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83F5-B567-42F0-B7A6-52B5EB0C6723}" type="slidenum">
              <a:rPr b="0" lang="zh-CN" sz="1400" spc="-1" strike="noStrike">
                <a:solidFill>
                  <a:srgbClr val="113f71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457200" cy="768240"/>
          </a:xfrm>
          <a:prstGeom prst="rect">
            <a:avLst/>
          </a:prstGeom>
          <a:solidFill>
            <a:srgbClr val="5aa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2120"/>
            <a:ext cx="457200" cy="15228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914400"/>
            <a:ext cx="457200" cy="419112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e3ea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105520"/>
            <a:ext cx="457200" cy="1544400"/>
          </a:xfrm>
          <a:prstGeom prst="rect">
            <a:avLst/>
          </a:prstGeom>
          <a:gradFill rotWithShape="0">
            <a:gsLst>
              <a:gs pos="0">
                <a:srgbClr val="d2e892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656400"/>
            <a:ext cx="457200" cy="2095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6649920"/>
            <a:ext cx="1305000" cy="21600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752480" y="6649920"/>
            <a:ext cx="7391520" cy="216000"/>
          </a:xfrm>
          <a:prstGeom prst="rect">
            <a:avLst/>
          </a:prstGeom>
          <a:gradFill rotWithShape="0">
            <a:gsLst>
              <a:gs pos="0">
                <a:srgbClr val="bd9e61"/>
              </a:gs>
              <a:gs pos="100000">
                <a:srgbClr val="dac9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777160" y="6656400"/>
            <a:ext cx="366840" cy="20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7d7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769240" y="6019920"/>
            <a:ext cx="374760" cy="64296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763120" y="914400"/>
            <a:ext cx="380880" cy="5105520"/>
          </a:xfrm>
          <a:prstGeom prst="rect">
            <a:avLst/>
          </a:prstGeom>
          <a:gradFill rotWithShape="0">
            <a:gsLst>
              <a:gs pos="0">
                <a:srgbClr val="5aabcc"/>
              </a:gs>
              <a:gs pos="100000">
                <a:srgbClr val="a9d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763120" y="762120"/>
            <a:ext cx="380880" cy="152280"/>
          </a:xfrm>
          <a:prstGeom prst="rect">
            <a:avLst/>
          </a:prstGeom>
          <a:solidFill>
            <a:srgbClr val="bd9e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771040" y="0"/>
            <a:ext cx="372960" cy="762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57200" y="762120"/>
            <a:ext cx="8315280" cy="152280"/>
          </a:xfrm>
          <a:prstGeom prst="rect">
            <a:avLst/>
          </a:prstGeom>
          <a:gradFill rotWithShape="0">
            <a:gsLst>
              <a:gs pos="0">
                <a:srgbClr val="b8d1ee"/>
              </a:gs>
              <a:gs pos="100000">
                <a:srgbClr val="2d7ac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7983360" y="44280"/>
            <a:ext cx="696600" cy="687600"/>
            <a:chOff x="7983360" y="44280"/>
            <a:chExt cx="696600" cy="687600"/>
          </a:xfrm>
        </p:grpSpPr>
        <p:sp>
          <p:nvSpPr>
            <p:cNvPr id="19" name=""/>
            <p:cNvSpPr/>
            <p:nvPr/>
          </p:nvSpPr>
          <p:spPr>
            <a:xfrm rot="149400">
              <a:off x="8193240" y="255600"/>
              <a:ext cx="277560" cy="27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20" name=""/>
            <p:cNvGrpSpPr/>
            <p:nvPr/>
          </p:nvGrpSpPr>
          <p:grpSpPr>
            <a:xfrm>
              <a:off x="8447040" y="489600"/>
              <a:ext cx="152280" cy="133560"/>
              <a:chOff x="8447040" y="489600"/>
              <a:chExt cx="152280" cy="133560"/>
            </a:xfrm>
          </p:grpSpPr>
          <p:sp>
            <p:nvSpPr>
              <p:cNvPr id="21" name=""/>
              <p:cNvSpPr/>
              <p:nvPr/>
            </p:nvSpPr>
            <p:spPr>
              <a:xfrm rot="334800">
                <a:off x="8517600" y="549720"/>
                <a:ext cx="42840" cy="43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4800">
                <a:off x="8562600" y="589680"/>
                <a:ext cx="34920" cy="31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334800">
                <a:off x="8449560" y="492840"/>
                <a:ext cx="70200" cy="63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8485560" y="361080"/>
              <a:ext cx="194400" cy="91800"/>
              <a:chOff x="8485560" y="361080"/>
              <a:chExt cx="194400" cy="91800"/>
            </a:xfrm>
          </p:grpSpPr>
          <p:sp>
            <p:nvSpPr>
              <p:cNvPr id="25" name=""/>
              <p:cNvSpPr/>
              <p:nvPr/>
            </p:nvSpPr>
            <p:spPr>
              <a:xfrm rot="19495200">
                <a:off x="8582400" y="385920"/>
                <a:ext cx="42480" cy="43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19495200">
                <a:off x="8639280" y="391320"/>
                <a:ext cx="34560" cy="31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9495200">
                <a:off x="8497080" y="375120"/>
                <a:ext cx="69840" cy="63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28" name=""/>
            <p:cNvGrpSpPr/>
            <p:nvPr/>
          </p:nvGrpSpPr>
          <p:grpSpPr>
            <a:xfrm>
              <a:off x="8460360" y="173880"/>
              <a:ext cx="157680" cy="130320"/>
              <a:chOff x="8460360" y="173880"/>
              <a:chExt cx="157680" cy="130320"/>
            </a:xfrm>
          </p:grpSpPr>
          <p:sp>
            <p:nvSpPr>
              <p:cNvPr id="29" name=""/>
              <p:cNvSpPr/>
              <p:nvPr/>
            </p:nvSpPr>
            <p:spPr>
              <a:xfrm rot="16953000">
                <a:off x="8537760" y="200160"/>
                <a:ext cx="38520" cy="47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16953000">
                <a:off x="8581680" y="175320"/>
                <a:ext cx="31320" cy="3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16953000">
                <a:off x="8469000" y="230760"/>
                <a:ext cx="63360" cy="69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8290440" y="540360"/>
              <a:ext cx="94680" cy="191520"/>
              <a:chOff x="8290440" y="540360"/>
              <a:chExt cx="94680" cy="191520"/>
            </a:xfrm>
          </p:grpSpPr>
          <p:sp>
            <p:nvSpPr>
              <p:cNvPr id="33" name=""/>
              <p:cNvSpPr/>
              <p:nvPr/>
            </p:nvSpPr>
            <p:spPr>
              <a:xfrm rot="2913000">
                <a:off x="8318160" y="632880"/>
                <a:ext cx="38520" cy="48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2913000">
                <a:off x="8323200" y="691200"/>
                <a:ext cx="31320" cy="34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2913000">
                <a:off x="8305920" y="552240"/>
                <a:ext cx="63360" cy="7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8297640" y="44280"/>
              <a:ext cx="94680" cy="191520"/>
              <a:chOff x="8297640" y="44280"/>
              <a:chExt cx="94680" cy="191520"/>
            </a:xfrm>
          </p:grpSpPr>
          <p:sp>
            <p:nvSpPr>
              <p:cNvPr id="37" name=""/>
              <p:cNvSpPr/>
              <p:nvPr/>
            </p:nvSpPr>
            <p:spPr>
              <a:xfrm rot="13711800">
                <a:off x="8325720" y="94320"/>
                <a:ext cx="38520" cy="486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13711800">
                <a:off x="8327880" y="49680"/>
                <a:ext cx="31320" cy="34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13711800">
                <a:off x="8313120" y="153360"/>
                <a:ext cx="63360" cy="7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0" name=""/>
            <p:cNvGrpSpPr/>
            <p:nvPr/>
          </p:nvGrpSpPr>
          <p:grpSpPr>
            <a:xfrm>
              <a:off x="8086680" y="135720"/>
              <a:ext cx="145440" cy="150120"/>
              <a:chOff x="8086680" y="135720"/>
              <a:chExt cx="145440" cy="150120"/>
            </a:xfrm>
          </p:grpSpPr>
          <p:sp>
            <p:nvSpPr>
              <p:cNvPr id="41" name=""/>
              <p:cNvSpPr/>
              <p:nvPr/>
            </p:nvSpPr>
            <p:spPr>
              <a:xfrm rot="11530200">
                <a:off x="8121960" y="171360"/>
                <a:ext cx="42480" cy="44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11530200">
                <a:off x="8089560" y="138600"/>
                <a:ext cx="34560" cy="32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1530200">
                <a:off x="8155800" y="214920"/>
                <a:ext cx="69840" cy="64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4" name=""/>
            <p:cNvGrpSpPr/>
            <p:nvPr/>
          </p:nvGrpSpPr>
          <p:grpSpPr>
            <a:xfrm>
              <a:off x="7983360" y="339480"/>
              <a:ext cx="192960" cy="90720"/>
              <a:chOff x="7983360" y="339480"/>
              <a:chExt cx="192960" cy="90720"/>
            </a:xfrm>
          </p:grpSpPr>
          <p:sp>
            <p:nvSpPr>
              <p:cNvPr id="45" name=""/>
              <p:cNvSpPr/>
              <p:nvPr/>
            </p:nvSpPr>
            <p:spPr>
              <a:xfrm rot="8884800">
                <a:off x="8037000" y="358200"/>
                <a:ext cx="42480" cy="43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8884800">
                <a:off x="7988760" y="362160"/>
                <a:ext cx="34560" cy="31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884800">
                <a:off x="8094960" y="353160"/>
                <a:ext cx="69840" cy="63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8057880" y="480240"/>
              <a:ext cx="168480" cy="122760"/>
              <a:chOff x="8057880" y="480240"/>
              <a:chExt cx="168480" cy="122760"/>
            </a:xfrm>
          </p:grpSpPr>
          <p:sp>
            <p:nvSpPr>
              <p:cNvPr id="49" name=""/>
              <p:cNvSpPr/>
              <p:nvPr/>
            </p:nvSpPr>
            <p:spPr>
              <a:xfrm rot="6558000">
                <a:off x="8103600" y="532080"/>
                <a:ext cx="38520" cy="47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6558000">
                <a:off x="8063280" y="565200"/>
                <a:ext cx="31320" cy="3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6558000">
                <a:off x="8151480" y="486720"/>
                <a:ext cx="63360" cy="69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52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64848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0" y="5105520"/>
            <a:ext cx="4572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6648480"/>
            <a:ext cx="0" cy="2095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63120" y="601992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rot="5400000">
            <a:off x="7904160" y="1163520"/>
            <a:ext cx="2098440" cy="380880"/>
          </a:xfrm>
          <a:prstGeom prst="rect">
            <a:avLst/>
          </a:prstGeom>
          <a:gradFill rotWithShape="0">
            <a:gsLst>
              <a:gs pos="0">
                <a:srgbClr val="dce5e6"/>
              </a:gs>
              <a:gs pos="100000">
                <a:srgbClr val="c1d1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13f71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5715000"/>
            <a:ext cx="16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f71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08280" y="635040"/>
            <a:ext cx="1995120" cy="2065320"/>
            <a:chOff x="908280" y="635040"/>
            <a:chExt cx="1995120" cy="2065320"/>
          </a:xfrm>
        </p:grpSpPr>
        <p:sp>
          <p:nvSpPr>
            <p:cNvPr id="100" name=""/>
            <p:cNvSpPr/>
            <p:nvPr/>
          </p:nvSpPr>
          <p:spPr>
            <a:xfrm rot="292200">
              <a:off x="1514880" y="1252440"/>
              <a:ext cx="790200" cy="841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2212920" y="1995480"/>
              <a:ext cx="423720" cy="427320"/>
              <a:chOff x="2212920" y="1995480"/>
              <a:chExt cx="423720" cy="427320"/>
            </a:xfrm>
          </p:grpSpPr>
          <p:sp>
            <p:nvSpPr>
              <p:cNvPr id="102" name=""/>
              <p:cNvSpPr/>
              <p:nvPr/>
            </p:nvSpPr>
            <p:spPr>
              <a:xfrm rot="477600">
                <a:off x="2410200" y="2189880"/>
                <a:ext cx="120960" cy="136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477600">
                <a:off x="2531160" y="2318040"/>
                <a:ext cx="99000" cy="98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477600">
                <a:off x="2225520" y="2008080"/>
                <a:ext cx="198720" cy="196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334600" y="1603800"/>
              <a:ext cx="568800" cy="273960"/>
              <a:chOff x="2334600" y="1603800"/>
              <a:chExt cx="568800" cy="273960"/>
            </a:xfrm>
          </p:grpSpPr>
          <p:sp>
            <p:nvSpPr>
              <p:cNvPr id="106" name=""/>
              <p:cNvSpPr/>
              <p:nvPr/>
            </p:nvSpPr>
            <p:spPr>
              <a:xfrm rot="19638000">
                <a:off x="2620440" y="1693080"/>
                <a:ext cx="120240" cy="137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9638000">
                <a:off x="2785680" y="1724040"/>
                <a:ext cx="9864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9638000">
                <a:off x="2372400" y="1641600"/>
                <a:ext cx="19764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282400" y="1018080"/>
              <a:ext cx="472680" cy="403200"/>
              <a:chOff x="2282400" y="1018080"/>
              <a:chExt cx="472680" cy="403200"/>
            </a:xfrm>
          </p:grpSpPr>
          <p:sp>
            <p:nvSpPr>
              <p:cNvPr id="110" name=""/>
              <p:cNvSpPr/>
              <p:nvPr/>
            </p:nvSpPr>
            <p:spPr>
              <a:xfrm rot="17095800">
                <a:off x="2512440" y="1105920"/>
                <a:ext cx="120600" cy="137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7095800">
                <a:off x="2645280" y="1028880"/>
                <a:ext cx="9864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7095800">
                <a:off x="2304720" y="1200600"/>
                <a:ext cx="19800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1736640" y="2134440"/>
              <a:ext cx="271440" cy="565920"/>
              <a:chOff x="1736640" y="2134440"/>
              <a:chExt cx="271440" cy="565920"/>
            </a:xfrm>
          </p:grpSpPr>
          <p:sp>
            <p:nvSpPr>
              <p:cNvPr id="114" name=""/>
              <p:cNvSpPr/>
              <p:nvPr/>
            </p:nvSpPr>
            <p:spPr>
              <a:xfrm rot="3570000">
                <a:off x="1782360" y="2409480"/>
                <a:ext cx="120600" cy="137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3570000">
                <a:off x="1776600" y="2583000"/>
                <a:ext cx="9864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3570000">
                <a:off x="1773360" y="2170800"/>
                <a:ext cx="19800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1861200" y="635040"/>
              <a:ext cx="272160" cy="566640"/>
              <a:chOff x="1861200" y="635040"/>
              <a:chExt cx="272160" cy="566640"/>
            </a:xfrm>
          </p:grpSpPr>
          <p:sp>
            <p:nvSpPr>
              <p:cNvPr id="118" name=""/>
              <p:cNvSpPr/>
              <p:nvPr/>
            </p:nvSpPr>
            <p:spPr>
              <a:xfrm rot="14344200">
                <a:off x="1964520" y="788400"/>
                <a:ext cx="120600" cy="137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4344200">
                <a:off x="1991160" y="653040"/>
                <a:ext cx="9900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4344200">
                <a:off x="1897920" y="966600"/>
                <a:ext cx="19800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242360" y="865800"/>
              <a:ext cx="405360" cy="470520"/>
              <a:chOff x="1242360" y="865800"/>
              <a:chExt cx="405360" cy="470520"/>
            </a:xfrm>
          </p:grpSpPr>
          <p:sp>
            <p:nvSpPr>
              <p:cNvPr id="122" name=""/>
              <p:cNvSpPr/>
              <p:nvPr/>
            </p:nvSpPr>
            <p:spPr>
              <a:xfrm rot="11673000">
                <a:off x="1338840" y="978120"/>
                <a:ext cx="120960" cy="137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1673000">
                <a:off x="1252800" y="876240"/>
                <a:ext cx="9900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1673000">
                <a:off x="1427400" y="1116000"/>
                <a:ext cx="19872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908280" y="1508040"/>
              <a:ext cx="562680" cy="268920"/>
              <a:chOff x="908280" y="1508040"/>
              <a:chExt cx="562680" cy="268920"/>
            </a:xfrm>
          </p:grpSpPr>
          <p:sp>
            <p:nvSpPr>
              <p:cNvPr id="126" name=""/>
              <p:cNvSpPr/>
              <p:nvPr/>
            </p:nvSpPr>
            <p:spPr>
              <a:xfrm rot="9028200">
                <a:off x="1068480" y="1542240"/>
                <a:ext cx="120600" cy="136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9028200">
                <a:off x="925920" y="1541880"/>
                <a:ext cx="98640" cy="98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9028200">
                <a:off x="1236960" y="1544040"/>
                <a:ext cx="198000" cy="196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086840" y="1940760"/>
              <a:ext cx="507600" cy="378360"/>
              <a:chOff x="1086840" y="1940760"/>
              <a:chExt cx="507600" cy="378360"/>
            </a:xfrm>
          </p:grpSpPr>
          <p:sp>
            <p:nvSpPr>
              <p:cNvPr id="130" name=""/>
              <p:cNvSpPr/>
              <p:nvPr/>
            </p:nvSpPr>
            <p:spPr>
              <a:xfrm rot="6700800">
                <a:off x="1222920" y="2104920"/>
                <a:ext cx="120600" cy="137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6700800">
                <a:off x="1101600" y="2205360"/>
                <a:ext cx="9864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6700800">
                <a:off x="1366560" y="1969920"/>
                <a:ext cx="198000" cy="19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>
            <a:off x="457200" y="0"/>
            <a:ext cx="7620120" cy="304920"/>
          </a:xfrm>
          <a:prstGeom prst="rect">
            <a:avLst/>
          </a:prstGeom>
          <a:gradFill rotWithShape="0">
            <a:gsLst>
              <a:gs pos="0">
                <a:srgbClr val="eee6d7"/>
              </a:gs>
              <a:gs pos="100000">
                <a:srgbClr val="bd9e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64320" y="-7920"/>
            <a:ext cx="2098800" cy="312840"/>
          </a:xfrm>
          <a:prstGeom prst="rect">
            <a:avLst/>
          </a:prstGeom>
          <a:gradFill rotWithShape="0">
            <a:gsLst>
              <a:gs pos="0">
                <a:srgbClr val="c7e2ed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2549520" y="6553080"/>
            <a:ext cx="6230880" cy="317520"/>
          </a:xfrm>
          <a:prstGeom prst="rect">
            <a:avLst/>
          </a:prstGeom>
          <a:gradFill rotWithShape="0">
            <a:gsLst>
              <a:gs pos="0">
                <a:srgbClr val="c7e2ed"/>
              </a:gs>
              <a:gs pos="100000">
                <a:srgbClr val="5aab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763120" y="-7920"/>
            <a:ext cx="380880" cy="314280"/>
          </a:xfrm>
          <a:prstGeom prst="rect">
            <a:avLst/>
          </a:prstGeom>
          <a:gradFill rotWithShape="0">
            <a:gsLst>
              <a:gs pos="0">
                <a:srgbClr val="2d7acf"/>
              </a:gs>
              <a:gs pos="100000">
                <a:srgbClr val="cbdd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6554880"/>
            <a:ext cx="2098800" cy="31752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e7ede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553080"/>
            <a:ext cx="457200" cy="3193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-2213640" y="2510640"/>
            <a:ext cx="4876560" cy="465120"/>
          </a:xfrm>
          <a:prstGeom prst="rect">
            <a:avLst/>
          </a:prstGeom>
          <a:gradFill rotWithShape="0">
            <a:gsLst>
              <a:gs pos="0">
                <a:srgbClr val="c7e2ed"/>
              </a:gs>
              <a:gs pos="100000">
                <a:srgbClr val="5aab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575280" y="5520240"/>
            <a:ext cx="1600200" cy="465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c3e0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769240" y="6539040"/>
            <a:ext cx="374760" cy="32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8c8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6558120" y="3967200"/>
            <a:ext cx="4790880" cy="380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c3e0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63120" y="1752480"/>
            <a:ext cx="380880" cy="152640"/>
          </a:xfrm>
          <a:prstGeom prst="rect">
            <a:avLst/>
          </a:prstGeom>
          <a:gradFill rotWithShape="0">
            <a:gsLst>
              <a:gs pos="0">
                <a:srgbClr val="bd9e61"/>
              </a:gs>
              <a:gs pos="100000">
                <a:srgbClr val="ceb7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0" y="4952880"/>
            <a:ext cx="4572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763120" y="175248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63120" y="190512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43040" y="6553080"/>
            <a:ext cx="0" cy="3049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672240" y="-360"/>
            <a:ext cx="0" cy="3049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13f7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13f7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13f7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560" y="2057400"/>
            <a:ext cx="741708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i="1" lang="en-US" sz="7200" spc="-1" strike="noStrike">
                <a:solidFill>
                  <a:srgbClr val="113f71"/>
                </a:solidFill>
                <a:latin typeface="Verdana"/>
                <a:ea typeface="宋体"/>
              </a:rPr>
              <a:t> </a:t>
            </a:r>
            <a:r>
              <a:rPr b="1" i="1" lang="en-US" sz="5400" spc="-1" strike="noStrike">
                <a:solidFill>
                  <a:srgbClr val="113f71"/>
                </a:solidFill>
                <a:latin typeface="Verdana"/>
                <a:ea typeface="宋体"/>
              </a:rPr>
              <a:t>Unit 5</a:t>
            </a:r>
            <a:r>
              <a:rPr b="1" i="1" lang="en-US" sz="2400" spc="-1" strike="noStrike">
                <a:solidFill>
                  <a:srgbClr val="663300"/>
                </a:solidFill>
                <a:latin typeface="Comic Sans MS"/>
                <a:ea typeface="仿宋_GB2312"/>
              </a:rPr>
              <a:t>  </a:t>
            </a:r>
            <a:br>
              <a:rPr sz="2400"/>
            </a:br>
            <a:r>
              <a:rPr b="1" i="1" lang="en-US" sz="4400" spc="-1" strike="noStrike">
                <a:solidFill>
                  <a:srgbClr val="113f71"/>
                </a:solidFill>
                <a:latin typeface="Verdana"/>
                <a:ea typeface="宋体"/>
              </a:rPr>
              <a:t>These are businesses for the brave</a:t>
            </a:r>
            <a:endParaRPr b="1" i="1" lang="en-US" sz="44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701800" y="2058840"/>
            <a:ext cx="3672000" cy="36417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2d7a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602160" y="2970360"/>
            <a:ext cx="1869840" cy="1960560"/>
            <a:chOff x="3602160" y="2970360"/>
            <a:chExt cx="1869840" cy="1960560"/>
          </a:xfrm>
        </p:grpSpPr>
        <p:sp>
          <p:nvSpPr>
            <p:cNvPr id="328" name=""/>
            <p:cNvSpPr/>
            <p:nvPr/>
          </p:nvSpPr>
          <p:spPr>
            <a:xfrm>
              <a:off x="3602160" y="2970360"/>
              <a:ext cx="1869840" cy="19605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3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15640" y="3002760"/>
              <a:ext cx="1442520" cy="739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39640" y="1700280"/>
            <a:ext cx="3886200" cy="1560600"/>
            <a:chOff x="539640" y="1700280"/>
            <a:chExt cx="3886200" cy="1560600"/>
          </a:xfrm>
        </p:grpSpPr>
        <p:sp>
          <p:nvSpPr>
            <p:cNvPr id="331" name=""/>
            <p:cNvSpPr/>
            <p:nvPr/>
          </p:nvSpPr>
          <p:spPr>
            <a:xfrm rot="18226800">
              <a:off x="3422160" y="2921400"/>
              <a:ext cx="120600" cy="125280"/>
            </a:xfrm>
            <a:prstGeom prst="ellipse">
              <a:avLst/>
            </a:prstGeom>
            <a:gradFill rotWithShape="0">
              <a:gsLst>
                <a:gs pos="0">
                  <a:srgbClr val="2d7acf"/>
                </a:gs>
                <a:gs pos="100000">
                  <a:srgbClr val="1946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8226800">
              <a:off x="3625200" y="3113280"/>
              <a:ext cx="120600" cy="125280"/>
            </a:xfrm>
            <a:prstGeom prst="ellipse">
              <a:avLst/>
            </a:prstGeom>
            <a:gradFill rotWithShape="0">
              <a:gsLst>
                <a:gs pos="0">
                  <a:srgbClr val="2d7acf"/>
                </a:gs>
                <a:gs pos="100000">
                  <a:srgbClr val="153b64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39640" y="1700280"/>
              <a:ext cx="3886200" cy="1279440"/>
              <a:chOff x="539640" y="1700280"/>
              <a:chExt cx="3886200" cy="127944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2843280" y="2349360"/>
                <a:ext cx="623880" cy="630360"/>
                <a:chOff x="2843280" y="2349360"/>
                <a:chExt cx="623880" cy="630360"/>
              </a:xfrm>
            </p:grpSpPr>
            <p:grpSp>
              <p:nvGrpSpPr>
                <p:cNvPr id="335" name=""/>
                <p:cNvGrpSpPr/>
                <p:nvPr/>
              </p:nvGrpSpPr>
              <p:grpSpPr>
                <a:xfrm>
                  <a:off x="2843280" y="2349360"/>
                  <a:ext cx="623880" cy="630360"/>
                  <a:chOff x="2843280" y="2349360"/>
                  <a:chExt cx="623880" cy="63036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2843280" y="2349360"/>
                    <a:ext cx="623880" cy="630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d7acf"/>
                      </a:gs>
                      <a:gs pos="100000">
                        <a:srgbClr val="14375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2914560" y="2359800"/>
                    <a:ext cx="481320" cy="23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2d7ac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8" name=""/>
                <p:cNvSpPr/>
                <p:nvPr/>
              </p:nvSpPr>
              <p:spPr>
                <a:xfrm>
                  <a:off x="2971440" y="24192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Verdana"/>
                      <a:ea typeface="宋体"/>
                    </a:rPr>
                    <a:t>A</a:t>
                  </a:r>
                  <a:endParaRPr b="0" lang="en-US" sz="24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"/>
              <p:cNvSpPr/>
              <p:nvPr/>
            </p:nvSpPr>
            <p:spPr>
              <a:xfrm>
                <a:off x="539640" y="1700280"/>
                <a:ext cx="388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13f71"/>
                    </a:solidFill>
                    <a:latin typeface="Arial"/>
                    <a:ea typeface="宋体"/>
                  </a:rPr>
                  <a:t>Starting a business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340" name=""/>
          <p:cNvGrpSpPr/>
          <p:nvPr/>
        </p:nvGrpSpPr>
        <p:grpSpPr>
          <a:xfrm>
            <a:off x="5360760" y="1844640"/>
            <a:ext cx="3243600" cy="1512000"/>
            <a:chOff x="5360760" y="1844640"/>
            <a:chExt cx="3243600" cy="1512000"/>
          </a:xfrm>
        </p:grpSpPr>
        <p:grpSp>
          <p:nvGrpSpPr>
            <p:cNvPr id="341" name=""/>
            <p:cNvGrpSpPr/>
            <p:nvPr/>
          </p:nvGrpSpPr>
          <p:grpSpPr>
            <a:xfrm>
              <a:off x="5651640" y="2421000"/>
              <a:ext cx="623880" cy="606240"/>
              <a:chOff x="5651640" y="2421000"/>
              <a:chExt cx="623880" cy="60624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5651640" y="2421000"/>
                <a:ext cx="623880" cy="606240"/>
                <a:chOff x="5651640" y="2421000"/>
                <a:chExt cx="623880" cy="6062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5651640" y="2421000"/>
                  <a:ext cx="623880" cy="60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/>
                    </a:gs>
                    <a:gs pos="100000">
                      <a:srgbClr val="405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722920" y="2430720"/>
                  <a:ext cx="481320" cy="228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5783760" y="251424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 rot="18226800">
              <a:off x="5583240" y="2993760"/>
              <a:ext cx="118800" cy="125640"/>
            </a:xfrm>
            <a:prstGeom prst="ellipse">
              <a:avLst/>
            </a:prstGeom>
            <a:gradFill rotWithShape="0">
              <a:gsLst>
                <a:gs pos="0">
                  <a:srgbClr val="81bed7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8226800">
              <a:off x="5386320" y="3209040"/>
              <a:ext cx="119160" cy="125640"/>
            </a:xfrm>
            <a:prstGeom prst="ellipse">
              <a:avLst/>
            </a:prstGeom>
            <a:gradFill rotWithShape="0">
              <a:gsLst>
                <a:gs pos="0">
                  <a:srgbClr val="81bed7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96000" y="1844640"/>
              <a:ext cx="28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13f71"/>
                  </a:solidFill>
                  <a:latin typeface="Arial"/>
                  <a:ea typeface="宋体"/>
                </a:rPr>
                <a:t>Entrepreneurship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771640" y="4965840"/>
            <a:ext cx="3600720" cy="1515240"/>
            <a:chOff x="2771640" y="4965840"/>
            <a:chExt cx="3600720" cy="1515240"/>
          </a:xfrm>
        </p:grpSpPr>
        <p:grpSp>
          <p:nvGrpSpPr>
            <p:cNvPr id="350" name=""/>
            <p:cNvGrpSpPr/>
            <p:nvPr/>
          </p:nvGrpSpPr>
          <p:grpSpPr>
            <a:xfrm>
              <a:off x="4292640" y="5384880"/>
              <a:ext cx="620640" cy="636480"/>
              <a:chOff x="4292640" y="5384880"/>
              <a:chExt cx="620640" cy="63648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4292640" y="5384880"/>
                <a:ext cx="620640" cy="636480"/>
                <a:chOff x="4292640" y="5384880"/>
                <a:chExt cx="620640" cy="63648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4292640" y="5384880"/>
                  <a:ext cx="620640" cy="63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abcc"/>
                    </a:gs>
                    <a:gs pos="100000">
                      <a:srgbClr val="9fcd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363560" y="5395320"/>
                  <a:ext cx="478800" cy="2401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ab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4407840" y="54723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 rot="18226800">
              <a:off x="4549680" y="4987080"/>
              <a:ext cx="119160" cy="1256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55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8226800">
              <a:off x="4549680" y="5191920"/>
              <a:ext cx="119160" cy="1256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a6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71640" y="6021360"/>
              <a:ext cx="36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13f71"/>
                  </a:solidFill>
                  <a:latin typeface="Arial"/>
                  <a:ea typeface="宋体"/>
                </a:rPr>
                <a:t>Contributing factors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  <a:ea typeface="宋体"/>
              </a:rPr>
              <a:t>Focus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042920" y="2276640"/>
            <a:ext cx="7489800" cy="3240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187280" y="1197000"/>
            <a:ext cx="5472360" cy="917280"/>
            <a:chOff x="1187280" y="1197000"/>
            <a:chExt cx="5472360" cy="917280"/>
          </a:xfrm>
        </p:grpSpPr>
        <p:sp>
          <p:nvSpPr>
            <p:cNvPr id="362" name=""/>
            <p:cNvSpPr/>
            <p:nvPr/>
          </p:nvSpPr>
          <p:spPr>
            <a:xfrm>
              <a:off x="1547640" y="1341360"/>
              <a:ext cx="3440160" cy="6588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cc00">
                    <a:alpha val="99215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1187280" y="1197000"/>
              <a:ext cx="895320" cy="917280"/>
              <a:chOff x="1187280" y="1197000"/>
              <a:chExt cx="895320" cy="91728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1187280" y="1197000"/>
                <a:ext cx="895320" cy="917280"/>
                <a:chOff x="1187280" y="1197000"/>
                <a:chExt cx="895320" cy="91728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1187280" y="1197000"/>
                  <a:ext cx="895320" cy="91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/>
                    </a:gs>
                    <a:gs pos="100000">
                      <a:srgbClr val="3b4f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289520" y="1212120"/>
                  <a:ext cx="690840" cy="345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>
                <a:off x="1566360" y="1288440"/>
                <a:ext cx="183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2124000" y="1413000"/>
              <a:ext cx="453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13f71"/>
                  </a:solidFill>
                  <a:latin typeface="Arial"/>
                  <a:ea typeface="宋体"/>
                </a:rPr>
                <a:t>Situation: public hearing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187280" y="2492280"/>
            <a:ext cx="727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宋体"/>
              </a:rPr>
              <a:t>Attendants: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  <a:ea typeface="宋体"/>
              </a:rPr>
              <a:t> government officials, representatives from all walks of life, school principals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宋体"/>
              </a:rPr>
              <a:t>Purposes: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  <a:ea typeface="宋体"/>
              </a:rPr>
              <a:t> what can we do to help college students start business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  <a:ea typeface="宋体"/>
              </a:rPr>
              <a:t>Students in 3 groups, representing government, society and schools to offer support for college students. Then 1 student in the group reports in the hearing.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720" y="4172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  <a:ea typeface="宋体"/>
              </a:rPr>
              <a:t>Voice Out</a:t>
            </a:r>
            <a:br>
              <a:rPr sz="3200"/>
            </a:b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  <a:ea typeface="宋体"/>
              </a:rPr>
              <a:t>Sum-up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130400" y="1197000"/>
            <a:ext cx="2170080" cy="4034880"/>
            <a:chOff x="1130400" y="1197000"/>
            <a:chExt cx="2170080" cy="4034880"/>
          </a:xfrm>
        </p:grpSpPr>
        <p:sp>
          <p:nvSpPr>
            <p:cNvPr id="373" name=""/>
            <p:cNvSpPr/>
            <p:nvPr/>
          </p:nvSpPr>
          <p:spPr>
            <a:xfrm>
              <a:off x="1130400" y="150444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63880" y="151272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81160" y="357624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81160" y="153468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36880" y="436212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81160" y="438588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874880" y="1197000"/>
              <a:ext cx="642960" cy="642600"/>
              <a:chOff x="1874880" y="1197000"/>
              <a:chExt cx="642960" cy="642600"/>
            </a:xfrm>
          </p:grpSpPr>
          <p:sp>
            <p:nvSpPr>
              <p:cNvPr id="380" name=""/>
              <p:cNvSpPr/>
              <p:nvPr/>
            </p:nvSpPr>
            <p:spPr>
              <a:xfrm>
                <a:off x="1874880" y="119700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881360" y="120168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89280" y="12056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895760" y="121140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29600" y="122688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2014920" y="128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06720" y="1958760"/>
              <a:ext cx="2057400" cy="15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Arial"/>
                  <a:ea typeface="宋体"/>
                </a:rPr>
                <a:t>Personal level: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3300"/>
                  </a:solidFill>
                  <a:latin typeface="Arial"/>
                  <a:ea typeface="宋体"/>
                </a:rPr>
                <a:t>A can-do attitude, risk-taking, undaunted spirit, knowledge…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492360" y="1197000"/>
            <a:ext cx="2166840" cy="4034880"/>
            <a:chOff x="3492360" y="1197000"/>
            <a:chExt cx="2166840" cy="4034880"/>
          </a:xfrm>
        </p:grpSpPr>
        <p:sp>
          <p:nvSpPr>
            <p:cNvPr id="388" name=""/>
            <p:cNvSpPr/>
            <p:nvPr/>
          </p:nvSpPr>
          <p:spPr>
            <a:xfrm>
              <a:off x="3492360" y="150444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25480" y="151272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43120" y="357624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43120" y="153468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36840" y="119700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42960" y="120132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51240" y="120456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57360" y="121104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92280" y="122688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76880" y="128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68320" y="1958760"/>
              <a:ext cx="2057400" cy="23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Arial"/>
                  <a:ea typeface="宋体"/>
                </a:rPr>
                <a:t>Government level: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3300"/>
                  </a:solidFill>
                  <a:latin typeface="Arial"/>
                  <a:ea typeface="宋体"/>
                </a:rPr>
                <a:t>Subsidized loan, facilitation of paperwork, business-starting consultation, tax deduction…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95240" y="436212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39880" y="438588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050920" y="530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f71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113f71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113f71"/>
                </a:solidFill>
                <a:latin typeface="Arial"/>
                <a:ea typeface="宋体"/>
              </a:rPr>
              <a:t>School level: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3f71"/>
                </a:solidFill>
                <a:latin typeface="Arial"/>
                <a:ea typeface="宋体"/>
              </a:rPr>
              <a:t>-  Guidance and direction, training, service platform…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940360" y="1197000"/>
            <a:ext cx="2166480" cy="4035240"/>
            <a:chOff x="5940360" y="1197000"/>
            <a:chExt cx="2166480" cy="4035240"/>
          </a:xfrm>
        </p:grpSpPr>
        <p:grpSp>
          <p:nvGrpSpPr>
            <p:cNvPr id="403" name=""/>
            <p:cNvGrpSpPr/>
            <p:nvPr/>
          </p:nvGrpSpPr>
          <p:grpSpPr>
            <a:xfrm>
              <a:off x="5940360" y="1197000"/>
              <a:ext cx="2166480" cy="4035240"/>
              <a:chOff x="5940360" y="1197000"/>
              <a:chExt cx="2166480" cy="403524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5943240" y="1290240"/>
                <a:ext cx="2163600" cy="3847680"/>
                <a:chOff x="5943240" y="1290240"/>
                <a:chExt cx="2163600" cy="384768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5943240" y="1483560"/>
                  <a:ext cx="2163600" cy="2857320"/>
                </a:xfrm>
                <a:custGeom>
                  <a:avLst/>
                  <a:gdLst>
                    <a:gd name="textAreaLeft" fmla="*/ 110880 w 2163600"/>
                    <a:gd name="textAreaRight" fmla="*/ 2052720 w 2163600"/>
                    <a:gd name="textAreaTop" fmla="*/ 110880 h 2857320"/>
                    <a:gd name="textAreaBottom" fmla="*/ 2746440 h 2857320"/>
                  </a:gdLst>
                  <a:ahLst/>
                  <a:rect l="textAreaLeft" t="textAreaTop" r="textAreaRight" b="textAreaBottom"/>
                  <a:pathLst>
                    <a:path w="21600" h="28525">
                      <a:moveTo>
                        <a:pt x="3782" y="0"/>
                      </a:moveTo>
                      <a:arcTo wR="3782" hR="3782" stAng="16200000" swAng="-5400000"/>
                      <a:lnTo>
                        <a:pt x="0" y="24743"/>
                      </a:lnTo>
                      <a:arcTo wR="3782" hR="3782" stAng="10800000" swAng="-5400000"/>
                      <a:lnTo>
                        <a:pt x="17818" y="28525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f8849"/>
                    </a:gs>
                    <a:gs pos="100000">
                      <a:srgbClr val="b59f4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992200" y="1496520"/>
                  <a:ext cx="2098440" cy="2802960"/>
                </a:xfrm>
                <a:custGeom>
                  <a:avLst/>
                  <a:gdLst>
                    <a:gd name="textAreaLeft" fmla="*/ 102240 w 2098440"/>
                    <a:gd name="textAreaRight" fmla="*/ 1996200 w 2098440"/>
                    <a:gd name="textAreaTop" fmla="*/ 102240 h 2802960"/>
                    <a:gd name="textAreaBottom" fmla="*/ 2700720 h 2802960"/>
                  </a:gdLst>
                  <a:ahLst/>
                  <a:rect l="textAreaLeft" t="textAreaTop" r="textAreaRight" b="textAreaBottom"/>
                  <a:pathLst>
                    <a:path w="21600" h="28851">
                      <a:moveTo>
                        <a:pt x="3600" y="0"/>
                      </a:moveTo>
                      <a:arcTo wR="3600" hR="3600" stAng="16200000" swAng="-5400000"/>
                      <a:lnTo>
                        <a:pt x="0" y="25251"/>
                      </a:lnTo>
                      <a:arcTo wR="3600" hR="3600" stAng="10800000" swAng="-5400000"/>
                      <a:lnTo>
                        <a:pt x="18000" y="28851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9e0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960520" y="4365000"/>
                  <a:ext cx="2069640" cy="772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8baa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855840" y="12902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5940360" y="1197000"/>
                <a:ext cx="2163600" cy="4035240"/>
                <a:chOff x="5940360" y="1197000"/>
                <a:chExt cx="2163600" cy="403524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5997240" y="1197000"/>
                  <a:ext cx="2082240" cy="3426120"/>
                  <a:chOff x="5997240" y="1197000"/>
                  <a:chExt cx="2082240" cy="34261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>
                    <a:off x="5997240" y="1535040"/>
                    <a:ext cx="2069640" cy="7081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6f3ca"/>
                      </a:gs>
                      <a:gs pos="100000">
                        <a:srgbClr val="e9e06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6690600" y="1197000"/>
                    <a:ext cx="642600" cy="642960"/>
                    <a:chOff x="6690600" y="1197000"/>
                    <a:chExt cx="642600" cy="64296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6690600" y="1197000"/>
                      <a:ext cx="642600" cy="642960"/>
                    </a:xfrm>
                    <a:prstGeom prst="ellipse">
                      <a:avLst/>
                    </a:prstGeom>
                    <a:solidFill>
                      <a:srgbClr val="33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6697080" y="1201680"/>
                      <a:ext cx="621360" cy="622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26768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6704640" y="1205640"/>
                      <a:ext cx="606960" cy="607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eff3f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6711480" y="1211400"/>
                      <a:ext cx="577080" cy="566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8b1b2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6745320" y="1226880"/>
                      <a:ext cx="512640" cy="460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8" name=""/>
                  <p:cNvSpPr/>
                  <p:nvPr/>
                </p:nvSpPr>
                <p:spPr>
                  <a:xfrm>
                    <a:off x="6022440" y="1785960"/>
                    <a:ext cx="2057040" cy="283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663300"/>
                        </a:solidFill>
                        <a:latin typeface="Arial"/>
                        <a:ea typeface="宋体"/>
                      </a:rPr>
                      <a:t>Society level:</a:t>
                    </a: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663300"/>
                        </a:solidFill>
                        <a:latin typeface="Arial"/>
                        <a:ea typeface="宋体"/>
                      </a:rPr>
                      <a:t>Favorable policy implementation, change in mentality about employment, micro-credit scheme, publicity, financing </a:t>
                    </a: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663300"/>
                        </a:solidFill>
                        <a:latin typeface="Arial"/>
                        <a:ea typeface="宋体"/>
                      </a:rPr>
                      <a:t>     </a:t>
                    </a:r>
                    <a:r>
                      <a:rPr b="0" lang="en-US" sz="1800" spc="-1" strike="noStrike">
                        <a:solidFill>
                          <a:srgbClr val="663300"/>
                        </a:solidFill>
                        <a:latin typeface="Arial"/>
                        <a:ea typeface="宋体"/>
                      </a:rPr>
                      <a:t>platform…</a:t>
                    </a: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"/>
                <p:cNvSpPr/>
                <p:nvPr/>
              </p:nvSpPr>
              <p:spPr>
                <a:xfrm>
                  <a:off x="5940360" y="4362480"/>
                  <a:ext cx="2163600" cy="86976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6f9db7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0" name=""/>
            <p:cNvSpPr/>
            <p:nvPr/>
          </p:nvSpPr>
          <p:spPr>
            <a:xfrm>
              <a:off x="6804000" y="12682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13f71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  <a:ea typeface="宋体"/>
              </a:rPr>
              <a:t>Afterthoughts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332000" y="2981160"/>
            <a:ext cx="1419480" cy="816120"/>
            <a:chOff x="1332000" y="2981160"/>
            <a:chExt cx="1419480" cy="816120"/>
          </a:xfrm>
        </p:grpSpPr>
        <p:sp>
          <p:nvSpPr>
            <p:cNvPr id="423" name=""/>
            <p:cNvSpPr/>
            <p:nvPr/>
          </p:nvSpPr>
          <p:spPr>
            <a:xfrm>
              <a:off x="1332000" y="2981160"/>
              <a:ext cx="0" cy="816120"/>
            </a:xfrm>
            <a:prstGeom prst="line">
              <a:avLst/>
            </a:prstGeom>
            <a:ln w="9360">
              <a:solidFill>
                <a:srgbClr val="113f7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64480" y="3218040"/>
              <a:ext cx="128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Internship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332000" y="2163600"/>
            <a:ext cx="1728000" cy="817560"/>
            <a:chOff x="1332000" y="2163600"/>
            <a:chExt cx="1728000" cy="817560"/>
          </a:xfrm>
        </p:grpSpPr>
        <p:sp>
          <p:nvSpPr>
            <p:cNvPr id="426" name=""/>
            <p:cNvSpPr/>
            <p:nvPr/>
          </p:nvSpPr>
          <p:spPr>
            <a:xfrm>
              <a:off x="1332000" y="2163600"/>
              <a:ext cx="0" cy="817560"/>
            </a:xfrm>
            <a:prstGeom prst="line">
              <a:avLst/>
            </a:prstGeom>
            <a:ln w="9360">
              <a:solidFill>
                <a:srgbClr val="113f7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04000" y="242100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Silicon Valley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 rot="10800000">
            <a:off x="6877080" y="2420640"/>
            <a:ext cx="1603440" cy="202068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258560" y="2133720"/>
            <a:ext cx="6978960" cy="841320"/>
            <a:chOff x="1258560" y="2133720"/>
            <a:chExt cx="6978960" cy="841320"/>
          </a:xfrm>
        </p:grpSpPr>
        <p:sp>
          <p:nvSpPr>
            <p:cNvPr id="430" name=""/>
            <p:cNvSpPr/>
            <p:nvPr/>
          </p:nvSpPr>
          <p:spPr>
            <a:xfrm flipH="1">
              <a:off x="1272960" y="2968560"/>
              <a:ext cx="3352680" cy="0"/>
            </a:xfrm>
            <a:prstGeom prst="line">
              <a:avLst/>
            </a:prstGeom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258560" y="2133720"/>
              <a:ext cx="4165560" cy="0"/>
            </a:xfrm>
            <a:prstGeom prst="line">
              <a:avLst/>
            </a:prstGeom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4643280" y="2133720"/>
              <a:ext cx="3594240" cy="841320"/>
              <a:chOff x="4643280" y="2133720"/>
              <a:chExt cx="3594240" cy="841320"/>
            </a:xfrm>
          </p:grpSpPr>
          <p:sp>
            <p:nvSpPr>
              <p:cNvPr id="433" name=""/>
              <p:cNvSpPr/>
              <p:nvPr/>
            </p:nvSpPr>
            <p:spPr>
              <a:xfrm>
                <a:off x="7655040" y="213372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4e5e"/>
                  </a:gs>
                  <a:gs pos="50000">
                    <a:srgbClr val="5aabcc"/>
                  </a:gs>
                  <a:gs pos="100000">
                    <a:srgbClr val="294e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43280" y="2133720"/>
                <a:ext cx="359424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5aa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45080" y="267336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417b93"/>
                  </a:gs>
                  <a:gs pos="50000">
                    <a:srgbClr val="5aabcc"/>
                  </a:gs>
                  <a:gs pos="100000">
                    <a:srgbClr val="417b9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1272960" y="2965320"/>
            <a:ext cx="6380280" cy="844560"/>
            <a:chOff x="1272960" y="2965320"/>
            <a:chExt cx="6380280" cy="844560"/>
          </a:xfrm>
        </p:grpSpPr>
        <p:sp>
          <p:nvSpPr>
            <p:cNvPr id="437" name=""/>
            <p:cNvSpPr/>
            <p:nvPr/>
          </p:nvSpPr>
          <p:spPr>
            <a:xfrm flipH="1">
              <a:off x="1272960" y="3798720"/>
              <a:ext cx="2438280" cy="0"/>
            </a:xfrm>
            <a:prstGeom prst="line">
              <a:avLst/>
            </a:prstGeom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3819600" y="2965320"/>
              <a:ext cx="3833640" cy="844560"/>
              <a:chOff x="3819600" y="2965320"/>
              <a:chExt cx="3833640" cy="844560"/>
            </a:xfrm>
          </p:grpSpPr>
          <p:sp>
            <p:nvSpPr>
              <p:cNvPr id="439" name=""/>
              <p:cNvSpPr/>
              <p:nvPr/>
            </p:nvSpPr>
            <p:spPr>
              <a:xfrm>
                <a:off x="7074000" y="296532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482c"/>
                  </a:gs>
                  <a:gs pos="50000">
                    <a:srgbClr val="bd9e61"/>
                  </a:gs>
                  <a:gs pos="100000">
                    <a:srgbClr val="57482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819600" y="296532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bd9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822840" y="3508200"/>
                <a:ext cx="3263760" cy="298800"/>
              </a:xfrm>
              <a:prstGeom prst="rect">
                <a:avLst/>
              </a:prstGeom>
              <a:gradFill rotWithShape="0">
                <a:gsLst>
                  <a:gs pos="0">
                    <a:srgbClr val="887246"/>
                  </a:gs>
                  <a:gs pos="50000">
                    <a:srgbClr val="bd9e61"/>
                  </a:gs>
                  <a:gs pos="100000">
                    <a:srgbClr val="88724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1272960" y="3798720"/>
            <a:ext cx="5801040" cy="846360"/>
            <a:chOff x="1272960" y="3798720"/>
            <a:chExt cx="5801040" cy="846360"/>
          </a:xfrm>
        </p:grpSpPr>
        <p:sp>
          <p:nvSpPr>
            <p:cNvPr id="443" name=""/>
            <p:cNvSpPr/>
            <p:nvPr/>
          </p:nvSpPr>
          <p:spPr>
            <a:xfrm flipH="1">
              <a:off x="1272960" y="4637160"/>
              <a:ext cx="1657080" cy="1440"/>
            </a:xfrm>
            <a:prstGeom prst="line">
              <a:avLst/>
            </a:prstGeom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2990880" y="3798720"/>
              <a:ext cx="4083120" cy="846360"/>
              <a:chOff x="2990880" y="3798720"/>
              <a:chExt cx="4083120" cy="846360"/>
            </a:xfrm>
          </p:grpSpPr>
          <p:sp>
            <p:nvSpPr>
              <p:cNvPr id="445" name=""/>
              <p:cNvSpPr/>
              <p:nvPr/>
            </p:nvSpPr>
            <p:spPr>
              <a:xfrm>
                <a:off x="6496200" y="379872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1d34"/>
                  </a:gs>
                  <a:gs pos="50000">
                    <a:srgbClr val="113f71"/>
                  </a:gs>
                  <a:gs pos="100000">
                    <a:srgbClr val="071d3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992320" y="380376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113f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990880" y="434484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0c2d51"/>
                  </a:gs>
                  <a:gs pos="50000">
                    <a:srgbClr val="113f71"/>
                  </a:gs>
                  <a:gs pos="100000">
                    <a:srgbClr val="0c2d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"/>
          <p:cNvGrpSpPr/>
          <p:nvPr/>
        </p:nvGrpSpPr>
        <p:grpSpPr>
          <a:xfrm>
            <a:off x="1332000" y="3798720"/>
            <a:ext cx="2232000" cy="816120"/>
            <a:chOff x="1332000" y="3798720"/>
            <a:chExt cx="2232000" cy="816120"/>
          </a:xfrm>
        </p:grpSpPr>
        <p:sp>
          <p:nvSpPr>
            <p:cNvPr id="449" name=""/>
            <p:cNvSpPr/>
            <p:nvPr/>
          </p:nvSpPr>
          <p:spPr>
            <a:xfrm>
              <a:off x="1332000" y="3798720"/>
              <a:ext cx="0" cy="816120"/>
            </a:xfrm>
            <a:prstGeom prst="line">
              <a:avLst/>
            </a:prstGeom>
            <a:ln w="9360">
              <a:solidFill>
                <a:srgbClr val="113f7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403280" y="386064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School-enterprise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cooperation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13f71"/>
                </a:solidFill>
                <a:latin typeface="Verdana"/>
                <a:ea typeface="宋体"/>
              </a:rPr>
              <a:t>Assignment</a:t>
            </a: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100400" y="234936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d7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187280" y="1700280"/>
            <a:ext cx="2781360" cy="4159080"/>
            <a:chOff x="1187280" y="1700280"/>
            <a:chExt cx="2781360" cy="4159080"/>
          </a:xfrm>
        </p:grpSpPr>
        <p:sp>
          <p:nvSpPr>
            <p:cNvPr id="454" name=""/>
            <p:cNvSpPr/>
            <p:nvPr/>
          </p:nvSpPr>
          <p:spPr>
            <a:xfrm>
              <a:off x="1187280" y="3573360"/>
              <a:ext cx="2781360" cy="2286000"/>
            </a:xfrm>
            <a:prstGeom prst="roundRect">
              <a:avLst>
                <a:gd name="adj" fmla="val 13745"/>
              </a:avLst>
            </a:prstGeom>
            <a:noFill/>
            <a:ln w="38160">
              <a:solidFill>
                <a:srgbClr val="c1d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13f71"/>
                  </a:solidFill>
                  <a:latin typeface="Arial"/>
                  <a:ea typeface="宋体"/>
                </a:rPr>
                <a:t>Work in groups to simulate the operation of a company. Submit group report.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547640" y="1700280"/>
              <a:ext cx="1703520" cy="1687320"/>
              <a:chOff x="1547640" y="1700280"/>
              <a:chExt cx="1703520" cy="1687320"/>
            </a:xfrm>
          </p:grpSpPr>
          <p:sp>
            <p:nvSpPr>
              <p:cNvPr id="456" name=""/>
              <p:cNvSpPr/>
              <p:nvPr/>
            </p:nvSpPr>
            <p:spPr>
              <a:xfrm>
                <a:off x="1547640" y="1700280"/>
                <a:ext cx="1703520" cy="1687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d9e6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547640" y="1700280"/>
                <a:ext cx="1703520" cy="1687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bd9e61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658880" y="1809720"/>
                <a:ext cx="1481040" cy="1466280"/>
              </a:xfrm>
              <a:prstGeom prst="ellipse">
                <a:avLst/>
              </a:prstGeom>
              <a:gradFill rotWithShape="0">
                <a:gsLst>
                  <a:gs pos="0">
                    <a:srgbClr val="655534"/>
                  </a:gs>
                  <a:gs pos="50000">
                    <a:srgbClr val="bd9e61"/>
                  </a:gs>
                  <a:gs pos="100000">
                    <a:srgbClr val="65553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660320" y="1812600"/>
                <a:ext cx="1481040" cy="1466640"/>
              </a:xfrm>
              <a:prstGeom prst="ellipse">
                <a:avLst/>
              </a:prstGeom>
              <a:gradFill rotWithShape="0">
                <a:gsLst>
                  <a:gs pos="0">
                    <a:srgbClr val="bd9e61">
                      <a:alpha val="0"/>
                    </a:srgbClr>
                  </a:gs>
                  <a:gs pos="100000">
                    <a:srgbClr val="77633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733400" y="1884240"/>
                <a:ext cx="1333440" cy="1320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1753920" y="1903320"/>
                <a:ext cx="1290600" cy="1277640"/>
                <a:chOff x="1753920" y="1903320"/>
                <a:chExt cx="1290600" cy="127764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1753920" y="1903320"/>
                  <a:ext cx="1290600" cy="127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770120" y="1910160"/>
                  <a:ext cx="1259640" cy="124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783800" y="1922760"/>
                  <a:ext cx="1197720" cy="116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853640" y="1955160"/>
                  <a:ext cx="1064880" cy="9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2229120" y="2376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4859280" y="1700280"/>
            <a:ext cx="2881440" cy="4159080"/>
            <a:chOff x="4859280" y="1700280"/>
            <a:chExt cx="2881440" cy="4159080"/>
          </a:xfrm>
        </p:grpSpPr>
        <p:sp>
          <p:nvSpPr>
            <p:cNvPr id="468" name=""/>
            <p:cNvSpPr/>
            <p:nvPr/>
          </p:nvSpPr>
          <p:spPr>
            <a:xfrm>
              <a:off x="4859280" y="3573360"/>
              <a:ext cx="2881440" cy="2286000"/>
            </a:xfrm>
            <a:prstGeom prst="roundRect">
              <a:avLst>
                <a:gd name="adj" fmla="val 13745"/>
              </a:avLst>
            </a:prstGeom>
            <a:noFill/>
            <a:ln w="38160">
              <a:solidFill>
                <a:srgbClr val="c1d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13f71"/>
                  </a:solidFill>
                  <a:latin typeface="Arial"/>
                  <a:ea typeface="宋体"/>
                </a:rPr>
                <a:t>Preview</a:t>
              </a:r>
              <a:endParaRPr b="0" lang="en-US" sz="32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5508720" y="1700280"/>
              <a:ext cx="1703160" cy="1687320"/>
              <a:chOff x="5508720" y="1700280"/>
              <a:chExt cx="1703160" cy="1687320"/>
            </a:xfrm>
          </p:grpSpPr>
          <p:sp>
            <p:nvSpPr>
              <p:cNvPr id="470" name=""/>
              <p:cNvSpPr/>
              <p:nvPr/>
            </p:nvSpPr>
            <p:spPr>
              <a:xfrm>
                <a:off x="5508720" y="1700280"/>
                <a:ext cx="1703160" cy="1687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2d7ac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508720" y="1700280"/>
                <a:ext cx="1703160" cy="1687320"/>
              </a:xfrm>
              <a:prstGeom prst="ellipse">
                <a:avLst/>
              </a:prstGeom>
              <a:gradFill rotWithShape="0">
                <a:gsLst>
                  <a:gs pos="0">
                    <a:srgbClr val="14385f"/>
                  </a:gs>
                  <a:gs pos="100000">
                    <a:srgbClr val="2d7ac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619960" y="1811160"/>
                <a:ext cx="1481040" cy="1467000"/>
              </a:xfrm>
              <a:prstGeom prst="ellipse">
                <a:avLst/>
              </a:prstGeom>
              <a:gradFill rotWithShape="0">
                <a:gsLst>
                  <a:gs pos="0">
                    <a:srgbClr val="18416f"/>
                  </a:gs>
                  <a:gs pos="50000">
                    <a:srgbClr val="2d7acf"/>
                  </a:gs>
                  <a:gs pos="100000">
                    <a:srgbClr val="18416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21400" y="1812960"/>
                <a:ext cx="1481040" cy="1466640"/>
              </a:xfrm>
              <a:prstGeom prst="ellipse">
                <a:avLst/>
              </a:prstGeom>
              <a:gradFill rotWithShape="0">
                <a:gsLst>
                  <a:gs pos="0">
                    <a:srgbClr val="2d7acf">
                      <a:alpha val="0"/>
                    </a:srgbClr>
                  </a:gs>
                  <a:gs pos="100000">
                    <a:srgbClr val="1c4d8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692680" y="1882800"/>
                <a:ext cx="1333800" cy="1320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5715000" y="1898640"/>
                <a:ext cx="1290600" cy="1278000"/>
                <a:chOff x="5715000" y="1898640"/>
                <a:chExt cx="1290600" cy="127800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5715000" y="1898640"/>
                  <a:ext cx="129060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731200" y="1905480"/>
                  <a:ext cx="1259640" cy="124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744880" y="1918080"/>
                  <a:ext cx="1197720" cy="116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814720" y="1950480"/>
                  <a:ext cx="1064880" cy="94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0" name=""/>
              <p:cNvSpPr/>
              <p:nvPr/>
            </p:nvSpPr>
            <p:spPr>
              <a:xfrm>
                <a:off x="6194880" y="23716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1692360" y="3573360"/>
            <a:ext cx="5759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d7acf"/>
                    </a:gs>
                    <a:gs pos="100000">
                      <a:srgbClr val="5aabcc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d7acf"/>
                  </a:gs>
                  <a:gs pos="100000">
                    <a:srgbClr val="5aabcc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193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abcc"/>
              </a:gs>
              <a:gs pos="100000">
                <a:srgbClr val="2d7ac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2384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13f71"/>
                </a:solidFill>
                <a:latin typeface="Arial"/>
                <a:ea typeface="宋体"/>
              </a:rPr>
              <a:t>Teaching objectives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132000" y="3860640"/>
            <a:ext cx="5256360" cy="2028600"/>
            <a:chOff x="3132000" y="3860640"/>
            <a:chExt cx="5256360" cy="2028600"/>
          </a:xfrm>
        </p:grpSpPr>
        <p:grpSp>
          <p:nvGrpSpPr>
            <p:cNvPr id="195" name=""/>
            <p:cNvGrpSpPr/>
            <p:nvPr/>
          </p:nvGrpSpPr>
          <p:grpSpPr>
            <a:xfrm>
              <a:off x="3319200" y="3860640"/>
              <a:ext cx="1704960" cy="2028600"/>
              <a:chOff x="3319200" y="3860640"/>
              <a:chExt cx="1704960" cy="2028600"/>
            </a:xfrm>
          </p:grpSpPr>
          <p:sp>
            <p:nvSpPr>
              <p:cNvPr id="196" name=""/>
              <p:cNvSpPr/>
              <p:nvPr/>
            </p:nvSpPr>
            <p:spPr>
              <a:xfrm rot="20876400">
                <a:off x="3387600" y="507960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19200" y="386064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40080" y="3870000"/>
                <a:ext cx="166500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57360" y="3885840"/>
                <a:ext cx="1584360" cy="15559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49520" y="3930480"/>
                <a:ext cx="1409760" cy="1261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3132000" y="4400280"/>
              <a:ext cx="525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earn to analyze 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nd 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iscuss job issues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900000" y="2637000"/>
            <a:ext cx="5113440" cy="1520280"/>
            <a:chOff x="900000" y="2637000"/>
            <a:chExt cx="5113440" cy="1520280"/>
          </a:xfrm>
        </p:grpSpPr>
        <p:grpSp>
          <p:nvGrpSpPr>
            <p:cNvPr id="203" name=""/>
            <p:cNvGrpSpPr/>
            <p:nvPr/>
          </p:nvGrpSpPr>
          <p:grpSpPr>
            <a:xfrm>
              <a:off x="1062360" y="2637000"/>
              <a:ext cx="1449000" cy="1520280"/>
              <a:chOff x="1062360" y="2637000"/>
              <a:chExt cx="1449000" cy="1520280"/>
            </a:xfrm>
          </p:grpSpPr>
          <p:sp>
            <p:nvSpPr>
              <p:cNvPr id="204" name=""/>
              <p:cNvSpPr/>
              <p:nvPr/>
            </p:nvSpPr>
            <p:spPr>
              <a:xfrm rot="20826600">
                <a:off x="1116000" y="3428640"/>
                <a:ext cx="1133640" cy="60984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139760" y="2637000"/>
                <a:ext cx="1371600" cy="1441440"/>
                <a:chOff x="1139760" y="2637000"/>
                <a:chExt cx="1371600" cy="14414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139760" y="2637000"/>
                  <a:ext cx="1371600" cy="144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157400" y="2644920"/>
                  <a:ext cx="1336680" cy="140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170000" y="2659320"/>
                  <a:ext cx="127332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241280" y="2695680"/>
                  <a:ext cx="113364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"/>
            <p:cNvSpPr/>
            <p:nvPr/>
          </p:nvSpPr>
          <p:spPr>
            <a:xfrm>
              <a:off x="900000" y="3065400"/>
              <a:ext cx="511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velop critical thinking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916360" y="1341360"/>
            <a:ext cx="5103720" cy="1139760"/>
            <a:chOff x="2916360" y="1341360"/>
            <a:chExt cx="5103720" cy="1139760"/>
          </a:xfrm>
        </p:grpSpPr>
        <p:grpSp>
          <p:nvGrpSpPr>
            <p:cNvPr id="212" name=""/>
            <p:cNvGrpSpPr/>
            <p:nvPr/>
          </p:nvGrpSpPr>
          <p:grpSpPr>
            <a:xfrm>
              <a:off x="2916360" y="1341360"/>
              <a:ext cx="1100160" cy="1139760"/>
              <a:chOff x="2916360" y="1341360"/>
              <a:chExt cx="1100160" cy="1139760"/>
            </a:xfrm>
          </p:grpSpPr>
          <p:sp>
            <p:nvSpPr>
              <p:cNvPr id="213" name=""/>
              <p:cNvSpPr/>
              <p:nvPr/>
            </p:nvSpPr>
            <p:spPr>
              <a:xfrm>
                <a:off x="2916360" y="194796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92680" y="1341360"/>
                <a:ext cx="1023840" cy="10242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005280" y="1346040"/>
                <a:ext cx="1000080" cy="1000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016440" y="13572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070440" y="138276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3132000" y="1554120"/>
              <a:ext cx="488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rasp key words and expressions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  <a:ea typeface="宋体"/>
              </a:rPr>
              <a:t>Teaching procedures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 rot="20241600">
            <a:off x="1258920" y="2781360"/>
            <a:ext cx="6094440" cy="24238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c1d1d3"/>
              </a:gs>
              <a:gs pos="100000">
                <a:srgbClr val="ebf0f0">
                  <a:alpha val="36078"/>
                </a:srgbClr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521000" y="3284640"/>
            <a:ext cx="1551240" cy="1260360"/>
            <a:chOff x="1521000" y="3284640"/>
            <a:chExt cx="1551240" cy="1260360"/>
          </a:xfrm>
        </p:grpSpPr>
        <p:grpSp>
          <p:nvGrpSpPr>
            <p:cNvPr id="222" name=""/>
            <p:cNvGrpSpPr/>
            <p:nvPr/>
          </p:nvGrpSpPr>
          <p:grpSpPr>
            <a:xfrm>
              <a:off x="1521000" y="3284640"/>
              <a:ext cx="1551240" cy="1260360"/>
              <a:chOff x="1521000" y="3284640"/>
              <a:chExt cx="1551240" cy="1260360"/>
            </a:xfrm>
          </p:grpSpPr>
          <p:sp>
            <p:nvSpPr>
              <p:cNvPr id="223" name=""/>
              <p:cNvSpPr/>
              <p:nvPr/>
            </p:nvSpPr>
            <p:spPr>
              <a:xfrm rot="20056200">
                <a:off x="1992240" y="4023720"/>
                <a:ext cx="1066680" cy="304560"/>
              </a:xfrm>
              <a:prstGeom prst="ellipse">
                <a:avLst/>
              </a:prstGeom>
              <a:gradFill rotWithShape="0">
                <a:gsLst>
                  <a:gs pos="0">
                    <a:srgbClr val="84a5ca"/>
                  </a:gs>
                  <a:gs pos="100000">
                    <a:srgbClr val="5f5f5f"/>
                  </a:gs>
                </a:gsLst>
                <a:lin ang="12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21000" y="3284640"/>
                <a:ext cx="1141560" cy="1101600"/>
              </a:xfrm>
              <a:prstGeom prst="ellipse">
                <a:avLst/>
              </a:prstGeom>
              <a:gradFill rotWithShape="0">
                <a:gsLst>
                  <a:gs pos="0">
                    <a:srgbClr val="2d7acf"/>
                  </a:gs>
                  <a:gs pos="100000">
                    <a:srgbClr val="0e264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561680" y="364788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ead-in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419640" y="2060640"/>
            <a:ext cx="1602000" cy="1206360"/>
            <a:chOff x="3419640" y="2060640"/>
            <a:chExt cx="1602000" cy="1206360"/>
          </a:xfrm>
        </p:grpSpPr>
        <p:grpSp>
          <p:nvGrpSpPr>
            <p:cNvPr id="227" name=""/>
            <p:cNvGrpSpPr/>
            <p:nvPr/>
          </p:nvGrpSpPr>
          <p:grpSpPr>
            <a:xfrm>
              <a:off x="3419640" y="2060640"/>
              <a:ext cx="1602000" cy="1206360"/>
              <a:chOff x="3419640" y="2060640"/>
              <a:chExt cx="1602000" cy="1206360"/>
            </a:xfrm>
          </p:grpSpPr>
          <p:sp>
            <p:nvSpPr>
              <p:cNvPr id="228" name=""/>
              <p:cNvSpPr/>
              <p:nvPr/>
            </p:nvSpPr>
            <p:spPr>
              <a:xfrm rot="20056200">
                <a:off x="3941640" y="2745720"/>
                <a:ext cx="1066680" cy="304560"/>
              </a:xfrm>
              <a:prstGeom prst="ellipse">
                <a:avLst/>
              </a:prstGeom>
              <a:gradFill rotWithShape="0">
                <a:gsLst>
                  <a:gs pos="0">
                    <a:srgbClr val="84a5ca"/>
                  </a:gs>
                  <a:gs pos="100000">
                    <a:srgbClr val="5f5f5f"/>
                  </a:gs>
                </a:gsLst>
                <a:lin ang="12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419640" y="2060640"/>
                <a:ext cx="1143000" cy="1101600"/>
              </a:xfrm>
              <a:prstGeom prst="ellipse">
                <a:avLst/>
              </a:prstGeom>
              <a:gradFill rotWithShape="0">
                <a:gsLst>
                  <a:gs pos="0">
                    <a:srgbClr val="5aabcc"/>
                  </a:gs>
                  <a:gs pos="100000">
                    <a:srgbClr val="1e3a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3481560" y="230976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Watch 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u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724360" y="1773360"/>
            <a:ext cx="1497600" cy="1242720"/>
            <a:chOff x="5724360" y="1773360"/>
            <a:chExt cx="1497600" cy="1242720"/>
          </a:xfrm>
        </p:grpSpPr>
        <p:grpSp>
          <p:nvGrpSpPr>
            <p:cNvPr id="232" name=""/>
            <p:cNvGrpSpPr/>
            <p:nvPr/>
          </p:nvGrpSpPr>
          <p:grpSpPr>
            <a:xfrm>
              <a:off x="5724360" y="1773360"/>
              <a:ext cx="1497600" cy="1242720"/>
              <a:chOff x="5724360" y="1773360"/>
              <a:chExt cx="1497600" cy="1242720"/>
            </a:xfrm>
          </p:grpSpPr>
          <p:sp>
            <p:nvSpPr>
              <p:cNvPr id="233" name=""/>
              <p:cNvSpPr/>
              <p:nvPr/>
            </p:nvSpPr>
            <p:spPr>
              <a:xfrm rot="20056200">
                <a:off x="6141960" y="2495160"/>
                <a:ext cx="1066680" cy="304200"/>
              </a:xfrm>
              <a:prstGeom prst="ellipse">
                <a:avLst/>
              </a:prstGeom>
              <a:gradFill rotWithShape="0">
                <a:gsLst>
                  <a:gs pos="0">
                    <a:srgbClr val="84a5ca"/>
                  </a:gs>
                  <a:gs pos="100000">
                    <a:srgbClr val="5f5f5f"/>
                  </a:gs>
                </a:gsLst>
                <a:lin ang="12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24360" y="1773360"/>
                <a:ext cx="1079640" cy="1103040"/>
              </a:xfrm>
              <a:prstGeom prst="ellipse">
                <a:avLst/>
              </a:prstGeom>
              <a:gradFill rotWithShape="0">
                <a:gsLst>
                  <a:gs pos="0">
                    <a:srgbClr val="bd9e61"/>
                  </a:gs>
                  <a:gs pos="100000">
                    <a:srgbClr val="40362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753520" y="212544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isten In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678640" y="3357720"/>
            <a:ext cx="1642680" cy="1241280"/>
            <a:chOff x="5678640" y="3357720"/>
            <a:chExt cx="1642680" cy="1241280"/>
          </a:xfrm>
        </p:grpSpPr>
        <p:grpSp>
          <p:nvGrpSpPr>
            <p:cNvPr id="237" name=""/>
            <p:cNvGrpSpPr/>
            <p:nvPr/>
          </p:nvGrpSpPr>
          <p:grpSpPr>
            <a:xfrm>
              <a:off x="5738760" y="3357720"/>
              <a:ext cx="1582560" cy="1241280"/>
              <a:chOff x="5738760" y="3357720"/>
              <a:chExt cx="1582560" cy="1241280"/>
            </a:xfrm>
          </p:grpSpPr>
          <p:sp>
            <p:nvSpPr>
              <p:cNvPr id="238" name=""/>
              <p:cNvSpPr/>
              <p:nvPr/>
            </p:nvSpPr>
            <p:spPr>
              <a:xfrm rot="20056200">
                <a:off x="6241320" y="4078080"/>
                <a:ext cx="1066320" cy="304560"/>
              </a:xfrm>
              <a:prstGeom prst="ellipse">
                <a:avLst/>
              </a:prstGeom>
              <a:gradFill rotWithShape="0">
                <a:gsLst>
                  <a:gs pos="0">
                    <a:srgbClr val="84a5ca"/>
                  </a:gs>
                  <a:gs pos="100000">
                    <a:srgbClr val="5f5f5f"/>
                  </a:gs>
                </a:gsLst>
                <a:lin ang="12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38760" y="3357720"/>
                <a:ext cx="1140840" cy="1101600"/>
              </a:xfrm>
              <a:prstGeom prst="ellipse">
                <a:avLst/>
              </a:prstGeom>
              <a:gradFill rotWithShape="0">
                <a:gsLst>
                  <a:gs pos="0">
                    <a:srgbClr val="c1d1d3"/>
                  </a:gs>
                  <a:gs pos="100000">
                    <a:srgbClr val="444a4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5678640" y="3717720"/>
              <a:ext cx="136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Voice Out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757320" y="4365720"/>
            <a:ext cx="1692360" cy="1313280"/>
            <a:chOff x="3757320" y="4365720"/>
            <a:chExt cx="1692360" cy="1313280"/>
          </a:xfrm>
        </p:grpSpPr>
        <p:grpSp>
          <p:nvGrpSpPr>
            <p:cNvPr id="242" name=""/>
            <p:cNvGrpSpPr/>
            <p:nvPr/>
          </p:nvGrpSpPr>
          <p:grpSpPr>
            <a:xfrm>
              <a:off x="3924360" y="4365720"/>
              <a:ext cx="1512000" cy="1313280"/>
              <a:chOff x="3924360" y="4365720"/>
              <a:chExt cx="1512000" cy="1313280"/>
            </a:xfrm>
          </p:grpSpPr>
          <p:sp>
            <p:nvSpPr>
              <p:cNvPr id="243" name=""/>
              <p:cNvSpPr/>
              <p:nvPr/>
            </p:nvSpPr>
            <p:spPr>
              <a:xfrm rot="20056200">
                <a:off x="4355640" y="5157360"/>
                <a:ext cx="1067040" cy="304920"/>
              </a:xfrm>
              <a:prstGeom prst="ellipse">
                <a:avLst/>
              </a:prstGeom>
              <a:gradFill rotWithShape="0">
                <a:gsLst>
                  <a:gs pos="0">
                    <a:srgbClr val="84a5ca"/>
                  </a:gs>
                  <a:gs pos="100000">
                    <a:srgbClr val="5f5f5f"/>
                  </a:gs>
                </a:gsLst>
                <a:lin ang="12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24360" y="4365720"/>
                <a:ext cx="1141200" cy="110160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3648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3757320" y="474984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Afterthoughts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837080" y="4941720"/>
            <a:ext cx="1668600" cy="1240560"/>
            <a:chOff x="1837080" y="4941720"/>
            <a:chExt cx="1668600" cy="1240560"/>
          </a:xfrm>
        </p:grpSpPr>
        <p:grpSp>
          <p:nvGrpSpPr>
            <p:cNvPr id="247" name=""/>
            <p:cNvGrpSpPr/>
            <p:nvPr/>
          </p:nvGrpSpPr>
          <p:grpSpPr>
            <a:xfrm>
              <a:off x="1979640" y="4941720"/>
              <a:ext cx="1526040" cy="1240560"/>
              <a:chOff x="1979640" y="4941720"/>
              <a:chExt cx="1526040" cy="1240560"/>
            </a:xfrm>
          </p:grpSpPr>
          <p:sp>
            <p:nvSpPr>
              <p:cNvPr id="248" name=""/>
              <p:cNvSpPr/>
              <p:nvPr/>
            </p:nvSpPr>
            <p:spPr>
              <a:xfrm rot="20056200">
                <a:off x="2425320" y="5660640"/>
                <a:ext cx="1066680" cy="304920"/>
              </a:xfrm>
              <a:prstGeom prst="ellipse">
                <a:avLst/>
              </a:prstGeom>
              <a:gradFill rotWithShape="0">
                <a:gsLst>
                  <a:gs pos="0">
                    <a:srgbClr val="84a5ca"/>
                  </a:gs>
                  <a:gs pos="100000">
                    <a:srgbClr val="5f5f5f"/>
                  </a:gs>
                </a:gsLst>
                <a:lin ang="12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79640" y="4941720"/>
                <a:ext cx="1141560" cy="11019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5a5a3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837080" y="5300640"/>
              <a:ext cx="148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Assignmen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  <a:ea typeface="宋体"/>
              </a:rPr>
              <a:t>Lead-in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aphicFrame>
        <p:nvGraphicFramePr>
          <p:cNvPr id="252" name="WindowsMediaPlayer1"/>
          <p:cNvGraphicFramePr/>
          <p:nvPr/>
        </p:nvGraphicFramePr>
        <p:xfrm>
          <a:off x="469800" y="909720"/>
          <a:ext cx="8275680" cy="57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WindowsMediaPlayer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9800" y="909720"/>
                    <a:ext cx="8275680" cy="5724360"/>
                  </a:xfrm>
                  <a:prstGeom prst="rect">
                    <a:avLst/>
                  </a:prstGeom>
                  <a:ln w="9360">
                    <a:solidFill>
                      <a:srgbClr val="113f71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2800" spc="-1" strike="noStrike">
              <a:solidFill>
                <a:srgbClr val="113f71"/>
              </a:solidFill>
              <a:latin typeface="Verdana"/>
              <a:ea typeface="宋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113f71"/>
              </a:solidFill>
              <a:latin typeface="Verdana"/>
              <a:ea typeface="宋体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0" y="-138240"/>
            <a:ext cx="9325080" cy="71344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0" y="-171360"/>
            <a:ext cx="939636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2800" spc="-1" strike="noStrike">
              <a:solidFill>
                <a:srgbClr val="113f71"/>
              </a:solidFill>
              <a:latin typeface="Verdana"/>
              <a:ea typeface="宋体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113f71"/>
              </a:solidFill>
              <a:latin typeface="Verdana"/>
              <a:ea typeface="宋体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Comic Sans MS"/>
                <a:ea typeface="宋体"/>
              </a:rPr>
              <a:t>Questions</a:t>
            </a:r>
            <a:endParaRPr b="1" i="1" lang="en-US" sz="20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900000" y="1197000"/>
            <a:ext cx="607680" cy="609480"/>
            <a:chOff x="900000" y="1197000"/>
            <a:chExt cx="607680" cy="609480"/>
          </a:xfrm>
        </p:grpSpPr>
        <p:sp>
          <p:nvSpPr>
            <p:cNvPr id="264" name=""/>
            <p:cNvSpPr/>
            <p:nvPr/>
          </p:nvSpPr>
          <p:spPr>
            <a:xfrm>
              <a:off x="1085760" y="1197000"/>
              <a:ext cx="239400" cy="30348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gradFill rotWithShape="0">
              <a:gsLst>
                <a:gs pos="0">
                  <a:srgbClr val="b8dae8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00000" y="1325520"/>
              <a:ext cx="314640" cy="1900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gradFill rotWithShape="0">
              <a:gsLst>
                <a:gs pos="0">
                  <a:srgbClr val="b8dae8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00000" y="1484640"/>
              <a:ext cx="314640" cy="193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gradFill rotWithShape="0">
              <a:gsLst>
                <a:gs pos="0">
                  <a:srgbClr val="b8dae8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82520" y="1500480"/>
              <a:ext cx="239400" cy="30600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gradFill rotWithShape="0">
              <a:gsLst>
                <a:gs pos="0">
                  <a:srgbClr val="b8dae8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93040" y="1484640"/>
              <a:ext cx="314640" cy="1900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gradFill rotWithShape="0">
              <a:gsLst>
                <a:gs pos="0">
                  <a:srgbClr val="b8dae8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93040" y="1321920"/>
              <a:ext cx="314640" cy="193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gradFill rotWithShape="0">
              <a:gsLst>
                <a:gs pos="0">
                  <a:srgbClr val="b8dae8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00160" y="1422000"/>
              <a:ext cx="210600" cy="15912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b8dae8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405080" y="1363680"/>
            <a:ext cx="7199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  <a:ea typeface="宋体"/>
              </a:rPr>
              <a:t>1. Have you ever had the idea of starting your own business?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31880" y="1722600"/>
            <a:ext cx="6827760" cy="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403280" y="4653000"/>
            <a:ext cx="7056360" cy="1440000"/>
            <a:chOff x="1403280" y="4653000"/>
            <a:chExt cx="7056360" cy="1440000"/>
          </a:xfrm>
        </p:grpSpPr>
        <p:sp>
          <p:nvSpPr>
            <p:cNvPr id="274" name=""/>
            <p:cNvSpPr/>
            <p:nvPr/>
          </p:nvSpPr>
          <p:spPr>
            <a:xfrm>
              <a:off x="1403280" y="4797360"/>
              <a:ext cx="216000" cy="21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19280" y="4653000"/>
              <a:ext cx="2448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always have (66.67%)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81120" y="5157720"/>
              <a:ext cx="259236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used to have (33.33%)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44480" y="5661000"/>
              <a:ext cx="1584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never (0%)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56000" y="4653000"/>
              <a:ext cx="4103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has started business successfully(0%) 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89480" y="5157720"/>
              <a:ext cx="31338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business is underway (0%)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03280" y="5335560"/>
              <a:ext cx="216000" cy="216000"/>
            </a:xfrm>
            <a:prstGeom prst="rect">
              <a:avLst/>
            </a:prstGeom>
            <a:solidFill>
              <a:srgbClr val="ffb444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03280" y="5805360"/>
              <a:ext cx="21600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35320" y="4797360"/>
              <a:ext cx="21600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140360" y="5332320"/>
              <a:ext cx="21564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971640" y="1700280"/>
            <a:ext cx="7143840" cy="2857320"/>
            <a:chOff x="971640" y="1700280"/>
            <a:chExt cx="7143840" cy="2857320"/>
          </a:xfrm>
        </p:grpSpPr>
        <p:pic>
          <p:nvPicPr>
            <p:cNvPr id="285" name="" descr=""/>
            <p:cNvPicPr/>
            <p:nvPr/>
          </p:nvPicPr>
          <p:blipFill>
            <a:blip r:embed="rId2"/>
            <a:stretch/>
          </p:blipFill>
          <p:spPr>
            <a:xfrm>
              <a:off x="971640" y="1700280"/>
              <a:ext cx="7143840" cy="28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3203640" y="321300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66.67%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72000" y="242100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33.33%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Comic Sans MS"/>
                <a:ea typeface="宋体"/>
              </a:rPr>
              <a:t>Questions</a:t>
            </a:r>
            <a:endParaRPr b="1" i="1" lang="en-US" sz="20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900000" y="1197000"/>
            <a:ext cx="607680" cy="609480"/>
            <a:chOff x="900000" y="1197000"/>
            <a:chExt cx="607680" cy="609480"/>
          </a:xfrm>
        </p:grpSpPr>
        <p:sp>
          <p:nvSpPr>
            <p:cNvPr id="290" name=""/>
            <p:cNvSpPr/>
            <p:nvPr/>
          </p:nvSpPr>
          <p:spPr>
            <a:xfrm>
              <a:off x="1085760" y="1197000"/>
              <a:ext cx="239400" cy="30348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gradFill rotWithShape="0">
              <a:gsLst>
                <a:gs pos="0">
                  <a:srgbClr val="b8dae8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00000" y="1325520"/>
              <a:ext cx="314640" cy="1900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gradFill rotWithShape="0">
              <a:gsLst>
                <a:gs pos="0">
                  <a:srgbClr val="b8dae8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00000" y="1484640"/>
              <a:ext cx="314640" cy="193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gradFill rotWithShape="0">
              <a:gsLst>
                <a:gs pos="0">
                  <a:srgbClr val="b8dae8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82520" y="1500480"/>
              <a:ext cx="239400" cy="30600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gradFill rotWithShape="0">
              <a:gsLst>
                <a:gs pos="0">
                  <a:srgbClr val="b8dae8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93040" y="1484640"/>
              <a:ext cx="314640" cy="1900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gradFill rotWithShape="0">
              <a:gsLst>
                <a:gs pos="0">
                  <a:srgbClr val="b8dae8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93040" y="1321920"/>
              <a:ext cx="314640" cy="193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gradFill rotWithShape="0">
              <a:gsLst>
                <a:gs pos="0">
                  <a:srgbClr val="b8dae8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00160" y="1422000"/>
              <a:ext cx="210600" cy="15912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b8dae8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405080" y="1363680"/>
            <a:ext cx="7199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  <a:ea typeface="宋体"/>
              </a:rPr>
              <a:t>2. What qualities one needs to start his/her own business?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31880" y="1722600"/>
            <a:ext cx="6827760" cy="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187280" y="4653000"/>
            <a:ext cx="3529080" cy="431640"/>
            <a:chOff x="1187280" y="4653000"/>
            <a:chExt cx="3529080" cy="431640"/>
          </a:xfrm>
        </p:grpSpPr>
        <p:sp>
          <p:nvSpPr>
            <p:cNvPr id="300" name=""/>
            <p:cNvSpPr/>
            <p:nvPr/>
          </p:nvSpPr>
          <p:spPr>
            <a:xfrm>
              <a:off x="1187280" y="4797360"/>
              <a:ext cx="216000" cy="21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03280" y="4653000"/>
              <a:ext cx="3313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communicative skills (22.3%)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187280" y="5157720"/>
            <a:ext cx="3024360" cy="515880"/>
            <a:chOff x="1187280" y="5157720"/>
            <a:chExt cx="3024360" cy="515880"/>
          </a:xfrm>
        </p:grpSpPr>
        <p:sp>
          <p:nvSpPr>
            <p:cNvPr id="303" name=""/>
            <p:cNvSpPr/>
            <p:nvPr/>
          </p:nvSpPr>
          <p:spPr>
            <a:xfrm>
              <a:off x="1365120" y="5157720"/>
              <a:ext cx="28465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unyielding spirit (18.9%)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87280" y="5335560"/>
              <a:ext cx="216000" cy="216000"/>
            </a:xfrm>
            <a:prstGeom prst="rect">
              <a:avLst/>
            </a:prstGeom>
            <a:solidFill>
              <a:srgbClr val="ffb444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187280" y="5661000"/>
            <a:ext cx="1825920" cy="432000"/>
            <a:chOff x="1187280" y="5661000"/>
            <a:chExt cx="1825920" cy="432000"/>
          </a:xfrm>
        </p:grpSpPr>
        <p:sp>
          <p:nvSpPr>
            <p:cNvPr id="306" name=""/>
            <p:cNvSpPr/>
            <p:nvPr/>
          </p:nvSpPr>
          <p:spPr>
            <a:xfrm>
              <a:off x="1428840" y="5661000"/>
              <a:ext cx="1584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others  (19.9%)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87280" y="5805360"/>
              <a:ext cx="216000" cy="216000"/>
            </a:xfrm>
            <a:prstGeom prst="rect">
              <a:avLst/>
            </a:prstGeom>
            <a:solidFill>
              <a:srgbClr val="ff0f00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076720" y="4653000"/>
            <a:ext cx="3456000" cy="423720"/>
            <a:chOff x="5076720" y="4653000"/>
            <a:chExt cx="3456000" cy="423720"/>
          </a:xfrm>
        </p:grpSpPr>
        <p:sp>
          <p:nvSpPr>
            <p:cNvPr id="309" name=""/>
            <p:cNvSpPr/>
            <p:nvPr/>
          </p:nvSpPr>
          <p:spPr>
            <a:xfrm>
              <a:off x="5292720" y="4653000"/>
              <a:ext cx="3240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ability to get things done (23.7%) 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76720" y="4797360"/>
              <a:ext cx="216000" cy="216000"/>
            </a:xfrm>
            <a:prstGeom prst="rect">
              <a:avLst/>
            </a:prstGeom>
            <a:solidFill>
              <a:srgbClr val="f7ef66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076720" y="5157720"/>
            <a:ext cx="3349800" cy="490680"/>
            <a:chOff x="5076720" y="5157720"/>
            <a:chExt cx="3349800" cy="490680"/>
          </a:xfrm>
        </p:grpSpPr>
        <p:sp>
          <p:nvSpPr>
            <p:cNvPr id="312" name=""/>
            <p:cNvSpPr/>
            <p:nvPr/>
          </p:nvSpPr>
          <p:spPr>
            <a:xfrm>
              <a:off x="5292720" y="5157720"/>
              <a:ext cx="31338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specialized knowledge (15.2%)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76720" y="5300640"/>
              <a:ext cx="216000" cy="216000"/>
            </a:xfrm>
            <a:prstGeom prst="rect">
              <a:avLst/>
            </a:prstGeom>
            <a:solidFill>
              <a:srgbClr val="fade4a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116000" y="1700280"/>
            <a:ext cx="7143840" cy="2857320"/>
            <a:chOff x="1116000" y="1700280"/>
            <a:chExt cx="7143840" cy="2857320"/>
          </a:xfrm>
        </p:grpSpPr>
        <p:graphicFrame>
          <p:nvGraphicFramePr>
            <p:cNvPr id="315" name=""/>
            <p:cNvGraphicFramePr/>
            <p:nvPr/>
          </p:nvGraphicFramePr>
          <p:xfrm>
            <a:off x="1116000" y="1700280"/>
            <a:ext cx="7143840" cy="285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6000" y="1700280"/>
                      <a:ext cx="7143840" cy="285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>
              <a:off x="3566520" y="350028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19.9%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34520" y="270828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18.9%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87240" y="227664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22.3%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95240" y="270828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15.2%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50520" y="335772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3f71"/>
                  </a:solidFill>
                  <a:latin typeface="Arial"/>
                  <a:ea typeface="宋体"/>
                </a:rPr>
                <a:t>23.7%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4000" y="1712880"/>
            <a:ext cx="79023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  <a:ea typeface="宋体"/>
              </a:rPr>
              <a:t>3. What challenges or difficulties should be considered if one plans to start a business?</a:t>
            </a:r>
            <a:br>
              <a:rPr sz="3200"/>
            </a:b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2050920" y="3213000"/>
            <a:ext cx="5797800" cy="2882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84360" y="3284640"/>
            <a:ext cx="516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Arial"/>
                <a:ea typeface="宋体"/>
              </a:rPr>
              <a:t>Initial capital </a:t>
            </a:r>
            <a:r>
              <a:rPr b="0" lang="zh-CN" sz="2800" spc="-1" strike="noStrike">
                <a:solidFill>
                  <a:srgbClr val="113f71"/>
                </a:solidFill>
                <a:latin typeface="Arial"/>
                <a:ea typeface="宋体"/>
              </a:rPr>
              <a:t>启动资金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Arial"/>
                <a:ea typeface="宋体"/>
              </a:rPr>
              <a:t>Identify Business opportunities      </a:t>
            </a:r>
            <a:r>
              <a:rPr b="0" lang="zh-CN" sz="2800" spc="-1" strike="noStrike">
                <a:solidFill>
                  <a:srgbClr val="113f71"/>
                </a:solidFill>
                <a:latin typeface="Arial"/>
                <a:ea typeface="宋体"/>
              </a:rPr>
              <a:t>明确商机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Arial"/>
                <a:ea typeface="宋体"/>
              </a:rPr>
              <a:t>Location </a:t>
            </a:r>
            <a:r>
              <a:rPr b="0" lang="zh-CN" sz="2800" spc="-1" strike="noStrike">
                <a:solidFill>
                  <a:srgbClr val="113f71"/>
                </a:solidFill>
                <a:latin typeface="Arial"/>
                <a:ea typeface="宋体"/>
              </a:rPr>
              <a:t>选址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Arial"/>
                <a:ea typeface="宋体"/>
              </a:rPr>
              <a:t>Potential </a:t>
            </a:r>
            <a:r>
              <a:rPr b="0" lang="zh-CN" sz="2800" spc="-1" strike="noStrike">
                <a:solidFill>
                  <a:srgbClr val="113f71"/>
                </a:solidFill>
                <a:latin typeface="Arial"/>
                <a:ea typeface="宋体"/>
              </a:rPr>
              <a:t>潜力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Arial"/>
                <a:ea typeface="宋体"/>
              </a:rPr>
              <a:t>Target market </a:t>
            </a:r>
            <a:r>
              <a:rPr b="0" lang="zh-CN" sz="2800" spc="-1" strike="noStrike">
                <a:solidFill>
                  <a:srgbClr val="113f71"/>
                </a:solidFill>
                <a:latin typeface="Arial"/>
                <a:ea typeface="宋体"/>
              </a:rPr>
              <a:t>目标市场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187280" y="2492280"/>
            <a:ext cx="90360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9e3ed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9:16:29Z</dcterms:created>
  <dc:creator>User</dc:creator>
  <dc:description/>
  <dc:language>en-US</dc:language>
  <cp:lastModifiedBy>USER</cp:lastModifiedBy>
  <dcterms:modified xsi:type="dcterms:W3CDTF">2010-11-15T03:04:14Z</dcterms:modified>
  <cp:revision>75</cp:revision>
  <dc:subject/>
  <dc:title>PowerPoint Template</dc:title>
</cp:coreProperties>
</file>