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2136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93000"/>
            <a:ext cx="914400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8172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53360"/>
            <a:ext cx="9144000" cy="304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68360" y="260280"/>
            <a:ext cx="453708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Pros &amp; Cons of Mixed Marriages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03280" y="2870280"/>
            <a:ext cx="6400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66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ros &amp; Cons of Mixed Marriages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ff66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09680" y="2971800"/>
            <a:ext cx="4800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cc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Thanks For Your Attention!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50000">
                    <a:srgbClr val="ffcc00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666880" y="137160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cc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Pros and cons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50000">
                    <a:srgbClr val="ffcc00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4572000"/>
            <a:ext cx="767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99840" y="228600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0" i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an argument or piece of evidence in favor of a particular proposition or 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14400" y="255888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cc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pro</a:t>
            </a:r>
            <a:r>
              <a:rPr b="0" lang="zh-CN" sz="20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cc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：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50000">
                    <a:srgbClr val="ffcc00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57240" y="4495680"/>
            <a:ext cx="914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cc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con</a:t>
            </a:r>
            <a:r>
              <a:rPr b="0" lang="zh-CN" sz="20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cc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：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50000">
                    <a:srgbClr val="ffcc00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4343400"/>
            <a:ext cx="586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the opposing and negativ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2819520"/>
            <a:ext cx="7696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.  Advantages and 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.  Merits and demer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43200" y="1676520"/>
            <a:ext cx="3276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66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ros and cons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ff66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81840" cy="4367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111400" y="5540400"/>
            <a:ext cx="4952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66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S UI Gothic"/>
              </a:rPr>
              <a:t>A Modern Family   </a:t>
            </a: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66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S UI Gothic"/>
              </a:rPr>
              <a:t>《摩登家庭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ff66"/>
                  </a:gs>
                  <a:gs pos="100000">
                    <a:srgbClr val="ffcc00"/>
                  </a:gs>
                </a:gsLst>
                <a:lin ang="5400000"/>
              </a:gradFill>
              <a:latin typeface="MS UI Gothic"/>
              <a:ea typeface="MS UI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936720"/>
            <a:ext cx="4343400" cy="4549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616120" y="5638680"/>
            <a:ext cx="40132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66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黑体"/>
              </a:rPr>
              <a:t>杨海丽和她的中国丈夫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ff66"/>
                  </a:gs>
                  <a:gs pos="100000">
                    <a:srgbClr val="ffcc0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350532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Which point makes the speaker spe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2.  The thing that is great about my family is that, even though, it was very difficult to overcome for both of them, both families-my mother’s family and my father’s family-have decided to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Black"/>
                <a:ea typeface="宋体"/>
              </a:rPr>
              <a:t>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3.  My mother decided to make the choice to becom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Black"/>
                <a:ea typeface="宋体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.   And  that’s the beauty of mixed marriages.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Black"/>
                <a:ea typeface="宋体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1160" y="3956040"/>
            <a:ext cx="475128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MS UI Gothic"/>
              </a:rPr>
              <a:t>She is directly from a mixed marriage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MS UI Gothic"/>
              <a:ea typeface="MS UI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32000" y="5157720"/>
            <a:ext cx="230508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MS UI Gothic"/>
              </a:rPr>
              <a:t>come as a union 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MS UI Gothic"/>
              <a:ea typeface="MS UI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380360" y="5734080"/>
            <a:ext cx="1071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MS UI Gothic"/>
              </a:rPr>
              <a:t>Christian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MS UI Gothic"/>
              <a:ea typeface="MS UI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1480" y="909720"/>
            <a:ext cx="35290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5480" y="3213000"/>
            <a:ext cx="7850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  <a:ea typeface="宋体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 Black"/>
                <a:ea typeface="宋体"/>
              </a:rPr>
              <a:t>In Ted’s case, what are the advantages of mixed marriag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  <a:ea typeface="宋体"/>
              </a:rPr>
              <a:t>2.  Does he think  there are also problems in mixed marriag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  <a:ea typeface="宋体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60360" y="4149720"/>
            <a:ext cx="741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 Black"/>
                <a:ea typeface="宋体"/>
              </a:rPr>
              <a:t>They get  to celebrate two weddings and different festivals from both cul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 Black"/>
                <a:ea typeface="宋体"/>
              </a:rPr>
              <a:t>Yes, he admits there are challe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98920" y="730080"/>
            <a:ext cx="33336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743200" y="152388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66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Questions to discuss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ff66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98192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.  Have you ever dreamed of marrying a foreigner? Why or Why no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.  What  qualities should the couples of mixed marriages possess or develop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6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8120" y="190512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66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Homework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ff66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8680" y="3047760"/>
            <a:ext cx="7692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kes a good husband/wif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2:21:26Z</dcterms:created>
  <dc:creator/>
  <dc:description/>
  <dc:language>en-US</dc:language>
  <cp:lastModifiedBy>USER</cp:lastModifiedBy>
  <dcterms:modified xsi:type="dcterms:W3CDTF">2010-11-15T03:28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